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E33-131B-4CFE-A461-03617CFB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760-F180-48F4-A0A8-D046DE12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503-4ECB-407B-A845-8DABA163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6A1-549F-466B-9995-BEF70572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327-34BE-4576-AC46-B2F13FB0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11E-F4CB-4091-BD8F-19E5940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6F9-C9E5-46C9-9932-429D3526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0C7-3A83-47EF-B48B-F177CE64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F65-F931-4CBF-B3F8-1F1DBF7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4A9-07FC-49F8-A664-B9C156A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5F1-A51E-4E52-8740-436E53F4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430-8045-45A1-A8C9-22ECABE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5832-B5A2-4922-8BF3-4EC51876A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2209680"/>
          <a:ext cx="5545080" cy="59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55450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421880" y="38088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7320" y="1219320"/>
            <a:ext cx="3924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23:11:24Z</dcterms:created>
  <dc:creator>dnd</dc:creator>
  <dc:description/>
  <dc:language>en-US</dc:language>
  <cp:lastModifiedBy>Jamie Richards</cp:lastModifiedBy>
  <cp:lastPrinted>1999-03-02T23:41:35Z</cp:lastPrinted>
  <dcterms:modified xsi:type="dcterms:W3CDTF">1999-03-31T01:08:02Z</dcterms:modified>
  <cp:revision>2</cp:revision>
  <dc:subject/>
  <dc:title>No Slide Title</dc:title>
</cp:coreProperties>
</file>