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DDD6-0040-46C0-829F-F77F16B9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A5DA-F202-4688-A81B-6CAE61B0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8E48-B4CF-4AF9-BD8D-71ECEA9C2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0EF3-39DB-4439-AF35-7F600996A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F933-8995-4F92-BA76-E2C1C64C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6C99-C4A2-4D84-8D77-887937F5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056B-762F-4899-821F-E666FB82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29E5-11E3-4DBF-8C94-04A85DF3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4F7B-E179-4A33-93D1-1B73AC89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DDCC-56F3-441B-9DB4-76EF52C9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B4BB-E330-4B96-929A-437E91EC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34C8-A57A-4967-B76B-955137A2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2FC9-6B17-4D49-92B4-70DF358D1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01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5397480" cy="70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2T15:16:04Z</dcterms:created>
  <dc:creator>DND</dc:creator>
  <dc:description/>
  <dc:language>en-US</dc:language>
  <cp:lastModifiedBy>DND</cp:lastModifiedBy>
  <cp:lastPrinted>1999-01-12T15:16:38Z</cp:lastPrinted>
  <dcterms:modified xsi:type="dcterms:W3CDTF">1999-01-12T15:17:34Z</dcterms:modified>
  <cp:revision>1</cp:revision>
  <dc:subject/>
  <dc:title>No Slide Title</dc:title>
</cp:coreProperties>
</file>