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9B08-B2AD-427B-AFD7-8EFA9088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C09-5E1C-4FB5-85EF-2D171366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ACB-5332-424C-B181-7523E7A7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7CEA-02F1-415F-93A3-B62CB4BC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D1D-A4AC-4426-BE47-2E5D3238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5BE-DF59-4A02-8D31-CCBE2624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3EC-33DA-406C-A2EC-B4D281DD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AB26-A18E-4C8B-BA13-3B084E3E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82A-EC7D-476D-B4D2-6099F31A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1483-4EA0-4BE3-838F-1F194511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246-7F37-41A7-B7CB-BB1D7F46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0B36-5EE5-4007-B4E3-5C6A2DDE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2F5C-7D24-459A-9345-85C897F4E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41640" y="645804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00" y="645804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ive 400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F892A" descr=""/>
          <p:cNvPicPr/>
          <p:nvPr/>
        </p:nvPicPr>
        <p:blipFill>
          <a:blip r:embed="rId1"/>
          <a:stretch/>
        </p:blipFill>
        <p:spPr>
          <a:xfrm>
            <a:off x="457200" y="0"/>
            <a:ext cx="815328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441640" y="645804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00" y="645804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ive 400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F89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441640" y="645804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00" y="6458040"/>
            <a:ext cx="125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ive 400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7712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oancard" descr=""/>
          <p:cNvPicPr/>
          <p:nvPr/>
        </p:nvPicPr>
        <p:blipFill>
          <a:blip r:embed="rId1"/>
          <a:stretch/>
        </p:blipFill>
        <p:spPr>
          <a:xfrm>
            <a:off x="533520" y="0"/>
            <a:ext cx="800100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03:51:58Z</dcterms:created>
  <dc:creator>dnd</dc:creator>
  <dc:description/>
  <dc:language>en-US</dc:language>
  <cp:lastModifiedBy>dnd</cp:lastModifiedBy>
  <cp:lastPrinted>1999-03-02T18:16:43Z</cp:lastPrinted>
  <dcterms:modified xsi:type="dcterms:W3CDTF">1999-03-02T18:20:11Z</dcterms:modified>
  <cp:revision>1</cp:revision>
  <dc:subject/>
  <dc:title>No Slide Title</dc:title>
</cp:coreProperties>
</file>