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5656-8C0F-4D84-86B8-D19FCDDA4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1C87-65EB-4756-8BAB-BCB24D24A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F37E-A00E-452A-9023-8915D3FA4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F439-0CB5-4629-A7D8-55C59981B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ADA5-622F-4320-ABE9-EE384D593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CB87-F9E2-4AC8-B3D3-D5A5340D2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625C-4D4B-4CF9-BA6C-B7FEB08A6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CFAC-07B7-4806-95B6-7E7A4A29D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FB56-29A1-4000-9113-218E07359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30CB-0EB3-4B25-B563-CFC141A6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6327-41D0-4D4F-9741-012FBACC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E2DB-818E-425C-A698-1DA8FC28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C5109-D43D-4641-924F-D936BB7BC5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F51%231" descr=""/>
          <p:cNvPicPr/>
          <p:nvPr/>
        </p:nvPicPr>
        <p:blipFill>
          <a:blip r:embed="rId1"/>
          <a:stretch/>
        </p:blipFill>
        <p:spPr>
          <a:xfrm>
            <a:off x="114480" y="203040"/>
            <a:ext cx="6743520" cy="894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CF51%232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6400800" cy="899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F51%234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6508800" cy="830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Application1" descr=""/>
          <p:cNvPicPr/>
          <p:nvPr/>
        </p:nvPicPr>
        <p:blipFill>
          <a:blip r:embed="rId1"/>
          <a:stretch/>
        </p:blipFill>
        <p:spPr>
          <a:xfrm>
            <a:off x="171360" y="0"/>
            <a:ext cx="6686640" cy="915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Application2" descr=""/>
          <p:cNvPicPr/>
          <p:nvPr/>
        </p:nvPicPr>
        <p:blipFill>
          <a:blip r:embed="rId1"/>
          <a:stretch/>
        </p:blipFill>
        <p:spPr>
          <a:xfrm>
            <a:off x="171360" y="0"/>
            <a:ext cx="6686640" cy="915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en" descr=""/>
          <p:cNvPicPr/>
          <p:nvPr/>
        </p:nvPicPr>
        <p:blipFill>
          <a:blip r:embed="rId1"/>
          <a:stretch/>
        </p:blipFill>
        <p:spPr>
          <a:xfrm>
            <a:off x="673200" y="685800"/>
            <a:ext cx="5511600" cy="78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22:00:17Z</dcterms:created>
  <dc:creator>dnd</dc:creator>
  <dc:description/>
  <dc:language>en-US</dc:language>
  <cp:lastModifiedBy>Jamie Richards</cp:lastModifiedBy>
  <cp:lastPrinted>1999-02-23T22:08:29Z</cp:lastPrinted>
  <dcterms:modified xsi:type="dcterms:W3CDTF">1999-04-26T03:35:25Z</dcterms:modified>
  <cp:revision>4</cp:revision>
  <dc:subject/>
  <dc:title>No Slide Title</dc:title>
</cp:coreProperties>
</file>