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98A3-EB37-4BA6-A9B6-D4B9768B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DB3-9B37-4C33-8850-4FB39191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E25-55B2-4BA4-B2F7-753E30B3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642-9287-4D5B-9C40-E20D7EBB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DBD-12C9-4E6B-8EB4-92B2B428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62F-9139-4C4E-AF68-65919E1E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F2B-77A7-4993-8DA9-B33097E5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BA3-84ED-48A1-9270-43799B8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345-1723-4D7A-947D-F168A02F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749-A0A6-4C41-A71B-7B907803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B6E-DDCC-4B56-8B21-FC704002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60C-4B0C-44AB-AD72-78F1A38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9265-9622-4249-852C-1B20E585F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447920"/>
            <a:ext cx="6400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im of interviewing is to guide, aid or understanding another person, usually in face-to-face personal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erview is influenced by the personalities of the interviewer and the person being intervie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5638680"/>
            <a:ext cx="5823000" cy="2887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ERVIEW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523880"/>
            <a:ext cx="640080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coming new cadets to your un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eriodically inform cadets of their prog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assign task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det leaves the squad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30492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S TO INTERVIE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91120" y="5181480"/>
            <a:ext cx="749160" cy="2801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7920" y="5715000"/>
            <a:ext cx="25066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447920"/>
            <a:ext cx="5943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im of counselling is to discuss with a subordinate the subordinate’s problems with the intent of arriving at a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04920"/>
            <a:ext cx="48006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UNSELL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47920" y="6738840"/>
            <a:ext cx="3581280" cy="175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3733920"/>
            <a:ext cx="5867280" cy="838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CCASIONS TO COUNSE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952880"/>
            <a:ext cx="5943600" cy="22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orrect a probl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olve a problem 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3:34:07Z</cp:lastPrinted>
  <dcterms:modified xsi:type="dcterms:W3CDTF">1999-03-15T13:34:08Z</dcterms:modified>
  <cp:revision>32</cp:revision>
  <dc:subject/>
  <dc:title>No Slide Title</dc:title>
</cp:coreProperties>
</file>