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D5A-C076-4636-8D3F-47C10E21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AFD-E646-4E7D-A8EE-A2E46188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537-BC79-4712-B82B-684F1843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60A-1D99-41ED-876A-2AE8A38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9E8-8879-48E0-9904-77ECB7E8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055-C49C-48C8-B831-0E2D3AC1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96F-7144-4A28-B5C2-768F9CE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928-A94D-40D5-80E4-E36BEAB3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750-352D-40F4-AB65-4F2E979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82CE-580C-4366-A292-2865A071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A55-BD43-4244-A7C5-5D9CA15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DCC-9FA2-4AF7-9FDD-D0332DF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52F2-7722-41AE-B0B6-71E84A548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1T18:59:34Z</dcterms:modified>
  <cp:revision>7</cp:revision>
  <dc:subject/>
  <dc:title>No Slide Title</dc:title>
</cp:coreProperties>
</file>