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A70-C4CB-4818-9142-C0E02186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AFE-8412-4346-91EB-A270A169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39C-8233-4458-A431-78B9DDB0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D7F-EFAD-4D76-A6FE-11E70043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762-603D-41EC-93A7-ECD38EB9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06C-C779-4018-B797-AC147F06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FACD-B5CD-4C16-B382-D22F065B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0B3-C045-4341-80A4-9853F69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9CE-3D3C-41ED-B098-B60E0D6B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810-B1AC-4E64-AA38-EB0564F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40B-92A0-4A2C-B9E0-0119891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87F-BBA9-4AF8-9FA2-5E5342B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9288-6EE7-457F-8A49-5AD8CAB4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15228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4:03:42Z</dcterms:modified>
  <cp:revision>27</cp:revision>
  <dc:subject/>
  <dc:title>Navigating Position</dc:title>
</cp:coreProperties>
</file>