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771-489A-4C89-B148-F4008CEA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EBC-527C-49E4-8C7D-B062ACF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86E1-8028-4C81-A3C6-C296FBCC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DB8-8DA0-4A1A-A938-CED106D4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2B4-1A5E-4839-AA52-E6CFAFB0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8FC-F4C8-444C-B706-60DDAC9A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9DD-7092-4D0D-AD11-72350BD6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C78-C199-45D3-8E2D-27D2FD45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D1B-0A5C-4F1F-BE06-BFC23844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3E9-B18C-48DF-931F-E126766C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D00-2098-4C8D-86F9-DF05C51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9FF-4018-4C91-9C3A-7BB0D23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15DC-4EE7-4830-9C3D-40ABB4A9F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886200" y="914400"/>
          <a:ext cx="807876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914400"/>
                    <a:ext cx="807876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828800" y="1905120"/>
          <a:ext cx="6242040" cy="6377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905120"/>
                    <a:ext cx="624204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49:29Z</dcterms:modified>
  <cp:revision>23</cp:revision>
  <dc:subject/>
  <dc:title>No Slide Title</dc:title>
</cp:coreProperties>
</file>