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5171-4233-4724-88DA-AEE3E8DB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AE6-9089-4853-8DFF-090BEE64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6A94-E491-4432-88C5-565EF644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8B3-30B4-4970-A1C8-157212D6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77DA-5051-4DB4-AC49-B3D6127F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FEB-45AF-4F39-997E-438E8712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807-8733-48A7-9FAD-E86F57AF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EDC-7B8B-4376-8F48-3F9A2DAE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6D1-DA57-4388-AB3C-336E1616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7BC-CBDC-4569-9C1E-651D835C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800-78AD-41D6-9A37-66F0ECDA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FB5-5103-4A61-93CC-C9CAB1FA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E271-A6AC-4029-A5CE-AAF2B8077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1 Level F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- Those Things that Influence Mora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762120"/>
            <a:ext cx="419076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f all your cadets work together to achieve the same goal, they will have a tendency to stick closely together and push in the same dir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Before morale can be generated, individual members of the organization must have their own feelings of ________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 Problems that the cadets may be having at home, in school or even at the squadron can grow and ruin morale and efficienc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Once self-respect is achieved, ______in the organization should be stim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This is closely linked to comradeship but tends to be a form of mutual respect between cadets based on each other's professional abi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48320" y="914400"/>
            <a:ext cx="4190760" cy="32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s is an intangible but is, nevertheless, real. You must encourage group members to develop a sense of loyalty, a sense of family and a sense of hum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_________ is essential for fostering good morale in air cad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Cadets will work long hours under bad conditions and morale will not be affected, provided that you tell them why and they are satisfied that you have a sincere interest in their welf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By setting a poor example and neglecting to practice what is taught, you, as the leader, can destroy morale. Nothing succeeds like succes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1 Level F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- Those Things that Influence Moral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88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5410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5715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6324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6019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2T13:33:27Z</cp:lastPrinted>
  <dcterms:modified xsi:type="dcterms:W3CDTF">1999-03-02T14:10:30Z</dcterms:modified>
  <cp:revision>28</cp:revision>
  <dc:subject/>
  <dc:title>No Slide Title</dc:title>
</cp:coreProperties>
</file>