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E19-4486-4243-BB20-90E77EFD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F87-B997-4211-B0C8-7C2EA288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349-B3B1-4BBA-A016-9D3A68FB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0B8-FE87-45C2-89B8-1678AFFA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3B2-47BF-4CF1-9C06-D5A1F909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82B-6A37-4A01-9906-D5B29CF5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9DE-9743-42E4-A276-DEB23A7B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90B-DD41-480F-9763-1469D9D0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009-83EF-4807-B4CC-9221F358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939A-C080-47E6-960B-5F0E9130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0FF-D711-4AAF-9EF1-F33E456A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6FA-D36A-4C28-B290-6FF52E15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1489-E6CD-4ED5-8277-933ADADD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828800"/>
            <a:ext cx="66294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BEFORE THE ACTIV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arching for Informa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borating a Pla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igning Task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ing a Planning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URING THE ACTIV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v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FTER THE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ld a debriefing/Post-Activity Meeting; 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t a fina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7224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LANNING A GROUP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600200"/>
            <a:ext cx="64008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arching for Inform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swer these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nature of the ac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t scheduled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it take pl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it important to hold this activ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respon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64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BEFORE THE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6095880"/>
            <a:ext cx="2365200" cy="2365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5410080"/>
            <a:ext cx="1981440" cy="1295640"/>
          </a:xfrm>
          <a:prstGeom prst="cloudCallout">
            <a:avLst>
              <a:gd name="adj1" fmla="val -51444"/>
              <a:gd name="adj2" fmla="val 7585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5 W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32800"/>
            <a:ext cx="63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SSIGNING A TAS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517400"/>
            <a:ext cx="617220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soon as you receive the green light, name an assistant (2IC) who will assist you in your tas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egate secondary tasks to subordinates. Do not try to do it all you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5710320"/>
            <a:ext cx="2743200" cy="2574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962520" y="5562720"/>
            <a:ext cx="2184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648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HOLDING A PLANNING ME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52400"/>
            <a:ext cx="6172200" cy="68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 determine who your assistants are, meet with them and delegate the different tasks related to the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sure they know exactly what they have to accomp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m informed of all changes and ask them to keep you informed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 a series of target dates for each task being delegated and ask them to provide you with a periodic report (verbal or written) on the progression of thei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13:56:24Z</cp:lastPrinted>
  <dcterms:modified xsi:type="dcterms:W3CDTF">1999-03-15T14:35:12Z</dcterms:modified>
  <cp:revision>38</cp:revision>
  <dc:subject/>
  <dc:title>No Slide Title</dc:title>
</cp:coreProperties>
</file>