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B09C-999C-46A5-9159-D5510B151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05EF-2B72-4F87-870C-D52C5D42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F7A3-25E1-47BB-8824-95E7B3A28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5EE1-DBA2-4B6E-820F-39FAE40A6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61D2-6FF7-49F1-BDB7-A77E5533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22D4-DFDE-43AF-B849-5796BB82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1362-C17B-444D-93CA-132C487B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430B-284C-4106-B513-5E0A220E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8A8F-1C33-4BAC-910B-D6BF5F55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5F31-2383-4F6A-8DBC-E4AC35FE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936F-8884-4D0E-957D-31F86999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86B2-6410-44B9-BC5C-D9A88335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AC21-FFC6-49DF-A04B-B6E1071A3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ELECTION OF A BIVOUAC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-Drained 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fe Surround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ence of Dangerous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19600" y="2133720"/>
            <a:ext cx="5324400" cy="4267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9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5T13:27:06Z</dcterms:created>
  <dc:creator>DND</dc:creator>
  <dc:description/>
  <dc:language>en-US</dc:language>
  <cp:lastModifiedBy>Jamie Richards</cp:lastModifiedBy>
  <cp:lastPrinted>1999-01-25T14:08:08Z</cp:lastPrinted>
  <dcterms:modified xsi:type="dcterms:W3CDTF">1999-04-01T18:42:30Z</dcterms:modified>
  <cp:revision>5</cp:revision>
  <dc:subject/>
  <dc:title>SELECTION OF A BIVOUAC SITE</dc:title>
</cp:coreProperties>
</file>