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BC8-3E85-4641-ADEC-2E7812CE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817-A285-4C64-BF9F-AC8FDEA9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FA5-82CC-432E-80A7-873E1929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AF3-4AC6-42DA-B8A7-289AAC59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04C-BA4B-4CF5-AFA0-D7FA13F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689-10A4-4948-AFEA-4DE86551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B25-C080-4BB1-90AA-524D5D6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B3B-4E84-4973-8B69-30185C57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69E-7F77-4BB8-AAF1-A1AA1F32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2B9-D119-41AA-82F7-CFA56936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A466-C053-404A-A2F0-1A74985B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DA6-4DEF-4692-A8F1-8DFCCF3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174A-8483-4B40-B9C2-CFAA8FBF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231040" cy="94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2310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371600" y="1905120"/>
          <a:ext cx="6858000" cy="4551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1905120"/>
                    <a:ext cx="685800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33520" y="2438280"/>
            <a:ext cx="1685880" cy="10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429000" y="2819520"/>
            <a:ext cx="150012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523880" y="4114800"/>
            <a:ext cx="1447920" cy="14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886200" y="44197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9480" y="5715000"/>
            <a:ext cx="1567080" cy="11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971800" y="6477120"/>
            <a:ext cx="128736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0:04Z</dcterms:modified>
  <cp:revision>24</cp:revision>
  <dc:subject/>
  <dc:title>No Slide Title</dc:title>
</cp:coreProperties>
</file>