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56C-4111-4EC9-A252-AA9AC489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F25-7460-4813-9495-5F71C487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9C8-AD37-4D5B-AC0C-61FAF38A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F7E-4679-4492-9594-6C554795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7B0-19D7-4E68-837B-6898B518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35E-E027-4BE3-BB10-3B2B0F23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FEE-AEF2-417F-8CAA-97C8833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724-2184-4DD2-A032-26015460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E39-0EFD-42DA-B9CE-F47A2D0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9CF-82E6-4514-8530-9D2A4E84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C81-C57A-4601-89C4-A97AF71B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EFF-2A0E-4841-AFC4-A748D20B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DA62-2085-416E-B732-04D0D060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049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DRON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74320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380988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4876920"/>
            <a:ext cx="6019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ymbols4" descr=""/>
          <p:cNvPicPr/>
          <p:nvPr/>
        </p:nvPicPr>
        <p:blipFill>
          <a:blip r:embed="rId1"/>
          <a:srcRect l="1429" t="37860" r="66572" b="15085"/>
          <a:stretch/>
        </p:blipFill>
        <p:spPr>
          <a:xfrm>
            <a:off x="6477120" y="5638680"/>
            <a:ext cx="838080" cy="463680"/>
          </a:xfrm>
          <a:prstGeom prst="rect">
            <a:avLst/>
          </a:prstGeom>
          <a:ln w="0">
            <a:noFill/>
          </a:ln>
        </p:spPr>
      </p:pic>
      <p:pic>
        <p:nvPicPr>
          <p:cNvPr id="49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533520" y="1600200"/>
            <a:ext cx="838080" cy="463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200000">
            <a:off x="6392520" y="1760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305920" y="1828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6002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42640" y="25909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4290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3657600"/>
            <a:ext cx="60195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4956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7242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55627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3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724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066680" y="5562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3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066680" y="3657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066680" y="3429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066680" y="2590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657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44956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2920" y="3429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8145360" y="518940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4572000"/>
            <a:ext cx="8384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487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30592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599840" y="16002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838080"/>
            <a:ext cx="0" cy="6098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274320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2952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002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3623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6668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81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29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733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038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4197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8006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100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992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324480" y="2743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53080" y="29714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95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680" y="1827720"/>
            <a:ext cx="168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5:20:34Z</dcterms:created>
  <dc:creator>DND</dc:creator>
  <dc:description/>
  <dc:language>en-US</dc:language>
  <cp:lastModifiedBy>DND</cp:lastModifiedBy>
  <cp:lastPrinted>1999-02-11T17:26:48Z</cp:lastPrinted>
  <dcterms:modified xsi:type="dcterms:W3CDTF">1999-03-19T13:59:36Z</dcterms:modified>
  <cp:revision>6</cp:revision>
  <dc:subject/>
  <dc:title>No Slide Title</dc:title>
</cp:coreProperties>
</file>