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03D-24CF-4F00-9DBD-2BF939B4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CB8-5CA5-4BA7-A0E6-F0EA3B29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3E2-EF97-4FB1-A56F-61049E04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5E2-4D55-416A-9330-FB931F86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E29-DF41-44E0-A74F-731DE70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A19-7339-47CF-9E13-5DF3A02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115-3E30-4332-98A4-9E2961A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76F-CBB8-4C31-AD48-BAF430F2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10F-45FE-4822-BCEC-C149E2D5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3A4-A92D-49F1-AA7B-88382D14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72B-4BFE-445D-BEBE-C51193E1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891-EA90-4541-A410-4FE4B5E6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D2C0-8A6E-4BE3-A680-EB0FCC9F1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8088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FORE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33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ings which you need to be aware of before you go into an interview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dress and deportmen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physical behaviou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ay you answ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5105520"/>
            <a:ext cx="1430280" cy="343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19720" y="5105520"/>
            <a:ext cx="121608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DURING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752480"/>
            <a:ext cx="640080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eath deeply, get rid of any bubble gum, ensure that your breath is fresh and, especially, rela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i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, firmly,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some gratitude for the opportunity given to you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not sit before you are asked to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eye cont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ONCE IN THE INTERVIEW……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676520"/>
            <a:ext cx="6629400" cy="70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honest and direct with the responses to ques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nswering questions with a mere yes or n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smiling and keep your positive attitude. There is no place for negative comments or sarcas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before answering any questions. Take a few seconds to formulate a complete and logical respon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e a couple of questions on the company, or the job itself, to ask at the end of the inter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5760" y="8763120"/>
            <a:ext cx="121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AFTER THE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662940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 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ke hands with the intervie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ress your thank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e that you do not leave anything personal behind you (coat, binder, purse, etc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lk straight and calmly to the do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a large smile on your face as you leave the room. The interview is o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62320" y="6934320"/>
            <a:ext cx="2133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08T20:22:02Z</cp:lastPrinted>
  <dcterms:modified xsi:type="dcterms:W3CDTF">1999-03-01T19:07:07Z</dcterms:modified>
  <cp:revision>28</cp:revision>
  <dc:subject/>
  <dc:title>No Slide Title</dc:title>
</cp:coreProperties>
</file>