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456-0252-477C-AD34-933F843A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511-FAC6-4536-B596-8E8FE66D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23B-9C19-4818-A97B-F8A62183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2EB-23EE-4C5F-A69D-A0ACE714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137-FEB7-455F-BF39-0E928F90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D01-1D27-42E4-8A2C-C086D1EB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2A8-51DE-42B7-B453-A55CDF34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E0B6-8DBB-49AC-84AA-C727D58F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5A5-123C-4A6A-9398-16E5024E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D50-730E-4548-8CE2-BE91F50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D56-04F8-4B7D-839A-61A4E5AB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5A8-312A-4D02-B5CA-492C6FAB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7B9B-09DE-4A74-8EA3-365A8322D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2-11bmp" descr=""/>
          <p:cNvPicPr/>
          <p:nvPr/>
        </p:nvPicPr>
        <p:blipFill>
          <a:blip r:embed="rId1"/>
          <a:stretch/>
        </p:blipFill>
        <p:spPr>
          <a:xfrm>
            <a:off x="689040" y="411120"/>
            <a:ext cx="5711760" cy="83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4:01:22Z</dcterms:created>
  <dc:creator>DND</dc:creator>
  <dc:description/>
  <dc:language>en-US</dc:language>
  <cp:lastModifiedBy>Jamie Richards</cp:lastModifiedBy>
  <dcterms:modified xsi:type="dcterms:W3CDTF">1999-04-23T18:32:02Z</dcterms:modified>
  <cp:revision>2</cp:revision>
  <dc:subject/>
  <dc:title>No Slide Title</dc:title>
</cp:coreProperties>
</file>