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A9F-6A1D-4A26-9379-FE1B746B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81E-996E-4A06-AD0B-F3D04949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146-9931-4A37-9FC1-081479AC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ECD-C56C-46F0-9869-4E3E8AC7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1DDF-8B49-45B3-AC76-C553282D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748-4C48-4493-9369-1425EBD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EBD-8FF6-4870-91A3-8CC8738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715-6DFD-477B-9DCD-F89ED53B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E1B-6BC5-486B-B176-18D2E53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CC6-4C18-4D96-8780-5C4E59B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12F-7061-4A71-A860-82EF153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9A3-98E5-4CD6-ACDF-A32492E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50F-84CA-4C51-B0B5-E76EFA301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DND</cp:lastModifiedBy>
  <cp:lastPrinted>1999-01-12T15:16:38Z</cp:lastPrinted>
  <dcterms:modified xsi:type="dcterms:W3CDTF">1999-01-12T15:17:34Z</dcterms:modified>
  <cp:revision>1</cp:revision>
  <dc:subject/>
  <dc:title>No Slide Title</dc:title>
</cp:coreProperties>
</file>