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24D-6AFD-4C6A-BAC6-FF995BDB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7E3-4AA1-4EED-BD04-D003BB36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E3C-2D84-4F21-8B1E-794E894B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8AD-06DE-49FA-9BAF-07D32E88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B67-6613-41F5-B9E0-5ED743B5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036-0331-44D4-8940-21A054F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16A-ABA9-49BB-BCE4-96670EF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EA3-371E-4F95-A4F7-CC13F931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E37-8621-4240-B24C-5200B47A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B22-FC54-4509-8A33-E9ED04B7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CC1A-2885-437F-BF83-356E6376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8DD-07EF-4227-86E0-E358D8F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DC6D-7197-49E9-9635-653E9BEB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16002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295280" y="990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1295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828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1240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2952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8006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419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9528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4648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971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ty 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295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295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37160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02920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37160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5029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352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17524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716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1600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371600" y="9903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3352680"/>
            <a:ext cx="609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37160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5160" y="152388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3280" y="320040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umerary 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457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3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90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2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3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9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30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31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6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63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4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3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4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5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3880" y="4572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91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92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93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4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8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9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30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295280" y="457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QUADRON IN COLUMN OF F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42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43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4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5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6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7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8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6:04Z</dcterms:modified>
  <cp:revision>44</cp:revision>
  <dc:subject/>
  <dc:title>No Slide Title</dc:title>
</cp:coreProperties>
</file>