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A06-8819-4B2A-9F4F-F899ED85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0C3-167D-45E7-BBE3-553FC616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CAF-FD70-465D-A3CF-12DB9B80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CCD-9080-4616-9B01-5FE1F02E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CB9-E322-438D-A70E-BE9D11AD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537-8D4D-4A46-842E-616A8605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FCA-F7B4-4C25-9B87-06EC0A81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CEC-A8DF-44D0-8A99-158620D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787-D40A-4FCA-BD26-8958A49D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FCE-5D70-477B-9984-1D9F659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7E9-D85A-4D52-B53C-5BCB7AE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A34-8A53-48CE-A359-AA1763B8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CAE-13E2-40CB-BC5C-669120E3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EETING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5640" y="1980720"/>
            <a:ext cx="5715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pare the 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ify the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537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QU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set out in by-laws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members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s minority groups from dominating the procee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quorum, the chairperson can adjourn th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352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00400" y="182880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30481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520" y="129492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RET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05200" y="66070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440" y="66070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13372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7:42:12Z</dcterms:created>
  <dc:creator>DND</dc:creator>
  <dc:description/>
  <dc:language>en-US</dc:language>
  <cp:lastModifiedBy>Jamie Richards</cp:lastModifiedBy>
  <dcterms:modified xsi:type="dcterms:W3CDTF">1999-04-26T03:10:00Z</dcterms:modified>
  <cp:revision>4</cp:revision>
  <dc:subject/>
  <dc:title>MEETING PREPARATION</dc:title>
</cp:coreProperties>
</file>