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C477-08B2-43C5-9893-541DFC03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DB2-C890-46AA-AF4C-6F421A20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EBD-E8B3-49D8-A526-DEA2D94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A8C-6348-48CA-8865-24F549D1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B04-3363-4A37-91F3-3D68A6F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256-840A-4D19-A7C4-1DD4BCF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C90-923F-4F20-BD66-C53C17C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66A-9EDB-4ACA-9C92-4A2CD4EC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528-45DC-43B0-A284-4E857DC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7E0-3F4B-40CF-A01B-CF6C8648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08E-B8EE-497E-AA8F-F1F164A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E9F-8ECF-482B-9533-D9FB05B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0F56-4806-4CAF-9FA4-52329A93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7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27432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2057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20574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600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2971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PAST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34340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56386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ION 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926120" y="51800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684720" y="4340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MUM 30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8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4680" y="43434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56386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P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22240" y="441972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7150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14479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2743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UTING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20:01:43Z</dcterms:modified>
  <cp:revision>16</cp:revision>
  <dc:subject/>
  <dc:title>No Slide Title</dc:title>
</cp:coreProperties>
</file>