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6AA-FE77-43BB-9B67-B04B4919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0E5-E363-4670-97B9-EB9368D5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11B-8B3C-4465-B7ED-169F658D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A80-39EC-4BBE-AA5D-FD2A8FE1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9E9-9FBC-4FA7-9C8C-8188224E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86E-8925-4742-B2BA-F2EAB4FA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091-8BE5-461E-B3DD-C9B83AA6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429-26E4-4D96-A986-592A0FE1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831-D4B8-4874-8BB7-4DE6FB25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63CE-FB22-4EBD-838F-6EE6031D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ADB-7C49-49C0-AC02-ABB56886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032-2D93-4765-B1D8-4DF7E74F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CB5C-5E6F-45BC-A3BE-F6D879C52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EPARING THE TEACHING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start well in advance of the presentation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points with examples, comparisons, statistics and testimo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clear 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94520" y="2514600"/>
            <a:ext cx="2544840" cy="3124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EPARING THE TEACHING L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ly consider the nature of the target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hearse the lesson to build confid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4495680"/>
            <a:ext cx="2819160" cy="1839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LI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rather than complex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b-standard Engl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ly define each new technical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fic rather then general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entences of varying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724800" y="1676520"/>
          <a:ext cx="241920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4800" y="1676520"/>
                    <a:ext cx="241920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many ideas in a short period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ing a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formation difficult to obtain otherw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upplemented with other teaching devices and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5105520"/>
            <a:ext cx="2286000" cy="1218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provide for trainee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sters pas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not get the most out of certain types of learning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d to keep the attention of trainees for the whol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5105520"/>
            <a:ext cx="2286000" cy="124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172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7:31:26Z</dcterms:created>
  <dc:creator>DND</dc:creator>
  <dc:description/>
  <dc:language>en-US</dc:language>
  <cp:lastModifiedBy>Jamie Richards</cp:lastModifiedBy>
  <cp:lastPrinted>1999-02-11T18:09:34Z</cp:lastPrinted>
  <dcterms:modified xsi:type="dcterms:W3CDTF">1999-04-21T19:10:11Z</dcterms:modified>
  <cp:revision>6</cp:revision>
  <dc:subject/>
  <dc:title>PREPARING THE TEACHING LECTURE</dc:title>
</cp:coreProperties>
</file>