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DDE6-5C44-4E17-AC55-088A0EF49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74FF-ECCE-43FA-9D82-572BC8A3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83D4-009C-40D1-AEFB-119F3B9B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943F-E8AA-4593-B6DD-C91FEC51E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EAF1-EEF8-49B5-9BAB-84E0CD32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FA5A-59AF-4424-89A0-E1C30372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9088-EE2C-4466-B762-1658220C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30D6-24A0-4B65-A738-1EA23F91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AE1F-7E00-4367-8837-168CEC33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8F0C-DC51-4443-B219-33843392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8A42-46A7-4C99-BB40-DC513AE5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FBEB-6B4A-4669-BD27-DFFEFF23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130C-A90B-41D5-B2BF-E1879B6FA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486400" y="3200400"/>
          <a:ext cx="3178080" cy="31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3200400"/>
                    <a:ext cx="3178080" cy="31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UNITS OF DISTANCE AND SPE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ute Mi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distance of 5,2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utical Mi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6,080 feet) is the average length of one minute of latitu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ilomet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d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1,000 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79120" y="3733920"/>
            <a:ext cx="384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1440" y="6553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3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UNITS OF DISTANCE AND SPE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speed of one nautical mile per h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p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one statute mile per hou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M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one kilometer per ho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brevi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Nautical miles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. mil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.M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or statute miles it i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. mi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.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abbreviation for kilometers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for knots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315200" y="2209680"/>
          <a:ext cx="121932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2209680"/>
                    <a:ext cx="12193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7467480" y="2286000"/>
            <a:ext cx="81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1440" y="6553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3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600200" y="3443400"/>
          <a:ext cx="5867280" cy="31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443400"/>
                    <a:ext cx="5867280" cy="31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“ONE-IN-SIXTY”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U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rror in the track of one degree will cause an error in position of about one mile in a distance of 60 m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36080" y="5029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67160" y="502920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1440" y="6553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3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76320" y="15192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the correct term into the blank space found in each stat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1440" y="6553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3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12193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distance of 5,280 fe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1905120"/>
            <a:ext cx="89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6,080 feet) is the average length of one minute of latitu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259092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distance of 1,000 met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327672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speed of one nautical mile per ho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39625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one statue mile per ho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463248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one kilometer per ho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79080" y="268200"/>
            <a:ext cx="31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521352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l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ute M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87760" y="5181480"/>
            <a:ext cx="192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utical M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14640" y="5213520"/>
            <a:ext cx="9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M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0760" y="51814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09040" y="5181480"/>
            <a:ext cx="117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7T14:53:50Z</dcterms:created>
  <dc:creator>DND</dc:creator>
  <dc:description/>
  <dc:language>en-US</dc:language>
  <cp:lastModifiedBy>Jamie Richards</cp:lastModifiedBy>
  <cp:lastPrinted>1999-03-17T15:42:24Z</cp:lastPrinted>
  <dcterms:modified xsi:type="dcterms:W3CDTF">1999-03-31T04:02:06Z</dcterms:modified>
  <cp:revision>4</cp:revision>
  <dc:subject/>
  <dc:title>UNITS OF DISTANCE AND SPEED</dc:title>
</cp:coreProperties>
</file>