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7E14-97C5-447E-99B5-BC69B75A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347-386B-4E9C-A794-AB9CEB2A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49C-23C1-4D23-98BF-9A23F42D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FD9-7917-42BF-8C3E-3FE63248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DCA-39AD-495E-804D-45E43D27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5AB-CA31-4CA5-A7AD-0D75E03C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57B-1DE1-41E3-BC10-AE2611AD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ED7-CA02-4583-A51B-FB15B75E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492-739B-4BB4-991C-CC01D259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235-C12C-4E6B-856A-CC5C7FCB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A02-9BEE-4E2F-A748-9F3269FB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6A2-6688-4035-8680-9CD57BD2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3C20-6079-4762-8BD0-C40C2BCD2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47920"/>
            <a:ext cx="6400800" cy="61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resumé is not a job application but is a chronological description of your education and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sumé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u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well prepared and logically organized. In other words it must be easy to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impeccable in its presenta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acts it includes must be true and prec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64008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and given nam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one numb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Insurance No. (optional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e of birth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cial status (single, married, et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6477120"/>
            <a:ext cx="19540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828800"/>
            <a:ext cx="6629400" cy="66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ducation &amp; Work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your education in reverse chronological order, beginning with last diploma receiv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schools attended and currently attend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hort description of all jobs and positions held in the past, including any employment at a summer training cent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thing that you have done, even the smallest jobs should be inclu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662940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you spend your spare time? Are you involved in any sports, social activities or cultural pursui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e there any awards that you have won in school, cadets or elsewhere. Do not hesitate to mention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1344600" cy="114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666880" y="754380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6400800"/>
            <a:ext cx="221004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572000" y="6019920"/>
            <a:ext cx="15192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COMPONENTS OF A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828800"/>
            <a:ext cx="6629400" cy="63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do not need to have references, but it will not hurt to have the support of two or three people who could attest to your qualifications and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eople should provide a letter of reference if needed, or at least be able to answer a few questions about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 have the permission of these people before using them as refe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24280" y="7696080"/>
            <a:ext cx="160020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52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PRESENTATION OF YOUR RESUM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828800"/>
            <a:ext cx="6629400" cy="63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not be more than three pag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be easy to re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writing style should be dynamic and precise, and free of lengthy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must be printed on 81/2 x 11 white or slightly coloured paper, on one side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ure your grammar is perfec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id abbreviations or acronyms. Write the titles or positions in fu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5:21:31Z</cp:lastPrinted>
  <dcterms:modified xsi:type="dcterms:W3CDTF">1999-03-12T15:21:35Z</dcterms:modified>
  <cp:revision>28</cp:revision>
  <dc:subject/>
  <dc:title>No Slide Title</dc:title>
</cp:coreProperties>
</file>