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4E2-6DED-4A9D-A7BD-393A0055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3BF6-72DE-439C-93AC-C9B4CD42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3C1-4040-4E84-82F1-91B536DA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B06-0B1D-478D-B17B-DD8E537F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F76-6D2C-462D-84C1-0A151ABA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36C-1232-4F8B-A497-FAB635E3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F96-E105-4BEA-A5B8-EE89D5B4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0AF-A128-4FA1-9597-20D47B33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39B-4375-4299-B8C6-37067780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4D8-9836-437F-9D5B-C5A709FE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EF5-487E-4FB6-A730-C5F8AFEF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877-C0C2-4F96-9AB0-9C112B42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482F-EEEC-4B06-9564-4B91DE1D9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BLEM TRAIN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LEA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LEA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ENT CAD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L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69000" y="1981080"/>
            <a:ext cx="336852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1024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164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BLEM TRAIN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F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-IT-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E-POLIS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TR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59320" y="1981080"/>
            <a:ext cx="238608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1640" y="6477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20320" y="6477120"/>
            <a:ext cx="64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5:18:14Z</dcterms:created>
  <dc:creator>DND</dc:creator>
  <dc:description/>
  <dc:language>en-US</dc:language>
  <cp:lastModifiedBy>Jamie Richards</cp:lastModifiedBy>
  <cp:lastPrinted>1999-02-10T15:26:51Z</cp:lastPrinted>
  <dcterms:modified xsi:type="dcterms:W3CDTF">1999-04-21T19:06:53Z</dcterms:modified>
  <cp:revision>5</cp:revision>
  <dc:subject/>
  <dc:title>PROBLEM TRAINEES</dc:title>
</cp:coreProperties>
</file>