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5F106-8177-4813-8174-B310B0969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C5962-CC31-4176-B913-7EC7B200C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0E50D-7FCE-4AFA-95E6-C1D2A3F52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3A655-C8A4-49E1-8E7A-727D9837B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C659B-2938-4B73-A005-79513F6E5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53E6C-978A-4B23-A159-24BD33187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06D22-EBCE-4BAE-93AD-DDC13447D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114B4-9C82-4383-8BCE-311D95716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8FB7D-08D7-4CD0-BE9F-7BEA5AC8E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6F967-B8DC-4899-92F4-01E4D6AB0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80CC2-A59A-4E00-987A-1841BCA42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54F4B-FE90-4E3E-A99E-0D7B18473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95977-4F23-4BFD-88E6-E8536C3C1C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0880" y="6248520"/>
            <a:ext cx="8382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80880" y="6343560"/>
            <a:ext cx="165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Four 401.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077320" y="632448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symbol6" descr=""/>
          <p:cNvPicPr/>
          <p:nvPr/>
        </p:nvPicPr>
        <p:blipFill>
          <a:blip r:embed="rId1"/>
          <a:srcRect l="37387" t="22865" r="31077" b="18521"/>
          <a:stretch/>
        </p:blipFill>
        <p:spPr>
          <a:xfrm>
            <a:off x="457200" y="4800600"/>
            <a:ext cx="465120" cy="838080"/>
          </a:xfrm>
          <a:prstGeom prst="rect">
            <a:avLst/>
          </a:prstGeom>
          <a:ln w="0">
            <a:noFill/>
          </a:ln>
        </p:spPr>
      </p:pic>
      <p:pic>
        <p:nvPicPr>
          <p:cNvPr id="45" name="symbols5" descr=""/>
          <p:cNvPicPr/>
          <p:nvPr/>
        </p:nvPicPr>
        <p:blipFill>
          <a:blip r:embed="rId2"/>
          <a:srcRect l="10393" t="0" r="72858" b="12051"/>
          <a:stretch/>
        </p:blipFill>
        <p:spPr>
          <a:xfrm>
            <a:off x="6477120" y="4114800"/>
            <a:ext cx="425160" cy="838080"/>
          </a:xfrm>
          <a:prstGeom prst="rect">
            <a:avLst/>
          </a:prstGeom>
          <a:ln w="0">
            <a:noFill/>
          </a:ln>
        </p:spPr>
      </p:pic>
      <p:pic>
        <p:nvPicPr>
          <p:cNvPr id="46" name="symbols5" descr=""/>
          <p:cNvPicPr/>
          <p:nvPr/>
        </p:nvPicPr>
        <p:blipFill>
          <a:blip r:embed="rId3"/>
          <a:srcRect l="10393" t="0" r="72858" b="12051"/>
          <a:stretch/>
        </p:blipFill>
        <p:spPr>
          <a:xfrm>
            <a:off x="4114800" y="4114800"/>
            <a:ext cx="425520" cy="838080"/>
          </a:xfrm>
          <a:prstGeom prst="rect">
            <a:avLst/>
          </a:prstGeom>
          <a:ln w="0">
            <a:noFill/>
          </a:ln>
        </p:spPr>
      </p:pic>
      <p:pic>
        <p:nvPicPr>
          <p:cNvPr id="47" name="symbols5" descr=""/>
          <p:cNvPicPr/>
          <p:nvPr/>
        </p:nvPicPr>
        <p:blipFill>
          <a:blip r:embed="rId4"/>
          <a:srcRect l="10393" t="0" r="72858" b="12051"/>
          <a:stretch/>
        </p:blipFill>
        <p:spPr>
          <a:xfrm>
            <a:off x="1905120" y="4114800"/>
            <a:ext cx="425160" cy="838080"/>
          </a:xfrm>
          <a:prstGeom prst="rect">
            <a:avLst/>
          </a:prstGeom>
          <a:ln w="0">
            <a:noFill/>
          </a:ln>
        </p:spPr>
      </p:pic>
      <p:pic>
        <p:nvPicPr>
          <p:cNvPr id="48" name="symbols1" descr=""/>
          <p:cNvPicPr/>
          <p:nvPr/>
        </p:nvPicPr>
        <p:blipFill>
          <a:blip r:embed="rId5"/>
          <a:srcRect l="15273" t="0" r="71255" b="0"/>
          <a:stretch/>
        </p:blipFill>
        <p:spPr>
          <a:xfrm>
            <a:off x="7924680" y="4800600"/>
            <a:ext cx="460440" cy="7621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905120" y="304920"/>
            <a:ext cx="54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LIGHT COMMANDERS FALL-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200400" y="14479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81480" y="14479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038480" y="31240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191120" y="32767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267080" y="35812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477120" y="31240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629400" y="32767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705720" y="35812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5120" y="31240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057400" y="32767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33720" y="35812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295280" y="5181480"/>
            <a:ext cx="16002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581280" y="5181480"/>
            <a:ext cx="16002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943600" y="5181480"/>
            <a:ext cx="16002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5181480"/>
            <a:ext cx="30456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76920" y="5181480"/>
            <a:ext cx="30456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238880" y="5181480"/>
            <a:ext cx="30492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620120" y="1143000"/>
            <a:ext cx="0" cy="220968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010280" y="3352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4572000" y="33526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2514600" y="33526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038480" y="22860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191120" y="24382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267080" y="1905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6095520" y="3352680"/>
            <a:ext cx="3812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6248520" y="3200400"/>
            <a:ext cx="144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1523520" y="3352680"/>
            <a:ext cx="3812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1676520" y="3200400"/>
            <a:ext cx="144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657600" y="3352680"/>
            <a:ext cx="3808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809520" y="3200400"/>
            <a:ext cx="18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733920" y="3505320"/>
            <a:ext cx="3808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3505320"/>
            <a:ext cx="3808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172200" y="3505320"/>
            <a:ext cx="3808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81080" y="38098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114800" y="38098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553080" y="38098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038480" y="9144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91120" y="10666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4495320" y="1143000"/>
            <a:ext cx="381240" cy="144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4723920" y="990720"/>
            <a:ext cx="1800" cy="30456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114800" y="16002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H="1" flipV="1">
            <a:off x="4266720" y="13716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971800" y="9144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124080" y="10666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3429000" y="1143000"/>
            <a:ext cx="380880" cy="144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3657600" y="990720"/>
            <a:ext cx="1440" cy="30456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048120" y="16002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flipV="1">
            <a:off x="3200400" y="13716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105520" y="9144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257800" y="10666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5562720" y="1143000"/>
            <a:ext cx="380880" cy="144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5791320" y="990720"/>
            <a:ext cx="1440" cy="30456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16002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 flipV="1">
            <a:off x="5334120" y="13716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3352680" y="137160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4419720" y="1371600"/>
            <a:ext cx="3808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5486400" y="1371600"/>
            <a:ext cx="3808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6019560" y="114300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3T00:09:52Z</dcterms:created>
  <dc:creator>DND</dc:creator>
  <dc:description/>
  <dc:language>en-US</dc:language>
  <cp:lastModifiedBy>DND</cp:lastModifiedBy>
  <cp:lastPrinted>1999-03-23T18:25:20Z</cp:lastPrinted>
  <dcterms:modified xsi:type="dcterms:W3CDTF">1999-03-25T18:03:56Z</dcterms:modified>
  <cp:revision>10</cp:revision>
  <dc:subject/>
  <dc:title>No Slide Title</dc:title>
</cp:coreProperties>
</file>