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CEE-C88A-405A-8E1A-96AB6332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493-5132-4BA6-9876-44BE721C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11C-70F7-4CC1-9329-0853BB03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B8F-EAB5-4402-8F6C-8047A275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359-FE76-4BDC-9041-CD5D12A5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3B1-C182-482E-86D1-0379E211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F3D-14E0-4450-8451-885FDB89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F37-3B90-41CD-AF98-8546BFE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457-E7D5-4303-B387-D4AC5D45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7D84-D92E-43D8-844A-5240AE25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A9F-1A15-48AA-8FFA-8362504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FB1-9FDD-43FE-8019-4A30682E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79BE-EB1F-42C9-9854-54AC978EA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BC’s of MILITARY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4249440" cy="4568760"/>
          </a:xfrm>
          <a:prstGeom prst="rect">
            <a:avLst/>
          </a:prstGeom>
          <a:ln w="0">
            <a:noFill/>
          </a:ln>
        </p:spPr>
      </p:pic>
      <p:pic>
        <p:nvPicPr>
          <p:cNvPr id="47" name="deskbean" descr=""/>
          <p:cNvPicPr/>
          <p:nvPr/>
        </p:nvPicPr>
        <p:blipFill>
          <a:blip r:embed="rId2"/>
          <a:stretch/>
        </p:blipFill>
        <p:spPr>
          <a:xfrm>
            <a:off x="3405240" y="1828800"/>
            <a:ext cx="573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SES of a MEMORAND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the services of an individual or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re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changes or amend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a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440" y="660888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4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200" y="660888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62720" y="2438280"/>
            <a:ext cx="32162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20:05:16Z</dcterms:created>
  <dc:creator>DND</dc:creator>
  <dc:description/>
  <dc:language>en-US</dc:language>
  <cp:lastModifiedBy>Jamie Richards</cp:lastModifiedBy>
  <dcterms:modified xsi:type="dcterms:W3CDTF">1999-04-26T03:08:52Z</dcterms:modified>
  <cp:revision>5</cp:revision>
  <dc:subject/>
  <dc:title>ABC’s of MILITARY WRITING</dc:title>
</cp:coreProperties>
</file>