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9EB3-D7F1-4BE7-985B-ABEA1D734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D1B3-CEBB-400F-80C3-35F1557B4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A20D-C7B5-4E9A-82C8-6465393BA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8DA3-4245-417E-B169-3CF14F071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78FF-E8F9-4859-9AB4-EE88C8AFD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F0A4-F6D6-48AD-8EFF-254384E48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4FD5-6322-4780-BF67-49FB2F807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54A1-DDB0-4AD1-AFD6-7B57FD18D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4D29-719E-49F7-BAA6-62D7FA2D8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8393-61BA-4AC4-ABBE-9DE7BC19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5C24-293D-449F-A68A-9C8C3A28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995C-5E84-4423-B68C-32A48FAC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5A89D-F931-4727-BF9B-418874F5AE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4320" y="8763120"/>
            <a:ext cx="1297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8.02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447920"/>
            <a:ext cx="6400800" cy="78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bjectiv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counselling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improve the morale of cadet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increase efficienc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increase loyalty;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improve acceptance of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following a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function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hat assist in meeting these ai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ssu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motional rel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rified thin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80880" y="304920"/>
            <a:ext cx="609624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BJECTIVES OF COUNSELLING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4320" y="8763120"/>
            <a:ext cx="1297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8.02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1371600"/>
            <a:ext cx="6400800" cy="69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tablish the purpose of the session in advanc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pare the plan beforeha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unsel in private space, free of disruption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pect the interests and individuality of each cade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lp the cadet feel at ease by establishing tru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eep the conversation going, but do not domin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oid questions that may be answered by a yes or 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oid “why” questions as they force a defensive sta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04920" y="304920"/>
            <a:ext cx="624816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UGGESTED COUNSELLING RULES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4320" y="8763120"/>
            <a:ext cx="1297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8.02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1447920"/>
            <a:ext cx="6400800" cy="72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eep your views and opinions to yoursel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frain from giving unsolicited advic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frain from passing value judgement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oid exerting excessive contr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 not become sidetracked for lengthy period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d the session positivel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ord information, impressions and interpretation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eep the matter confident;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llow up unobtrusiv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04920" y="304920"/>
            <a:ext cx="624816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UGGESTED COUNSELLING RULES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800600" y="7112160"/>
            <a:ext cx="1828800" cy="15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4320" y="8763120"/>
            <a:ext cx="1297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8.02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447920"/>
            <a:ext cx="5943600" cy="31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ce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ea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nera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mi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ce Val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990720" y="304920"/>
            <a:ext cx="4800600" cy="761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MMON ERROR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438280" y="5029200"/>
            <a:ext cx="2143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3-15T14:09:37Z</cp:lastPrinted>
  <dcterms:modified xsi:type="dcterms:W3CDTF">1999-03-15T14:09:51Z</dcterms:modified>
  <cp:revision>33</cp:revision>
  <dc:subject/>
  <dc:title>No Slide Title</dc:title>
</cp:coreProperties>
</file>