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4731-7BF9-41CA-BA85-0C9235EC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E506-CF23-4032-BB1E-91811F36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1DFA-16AF-4823-92EA-84A00F5E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43E9-86D5-46B4-BA06-9AA81888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1A4-B878-4DFD-BB89-503BEE8B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B12-EA0F-4FAC-AB81-66BCAE05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4CA-DA90-4A9A-8CCE-0570422A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73E1-41BA-4452-A6F8-62D70997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AE54-D63F-407F-98A1-1F153C98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855-41BB-404E-9975-D80212FB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A06-D577-43D5-9BDD-212121FB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D0C-29CF-4052-B6D6-E5CB697C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1FAF-D761-457E-856A-BDA372625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 u="sng">
                <a:solidFill>
                  <a:srgbClr val="000000"/>
                </a:solidFill>
                <a:uFillTx/>
                <a:latin typeface="Arial"/>
              </a:rPr>
              <a:t>Cloud Formation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, in which water vapour is present, is cooled to its saturation point and condensation occu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, without a change in temperature taking place, may absorb additional water vapour until its saturation point is reac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ypes of Cloud For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mulus clou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 vertically into clumps.  They form in rising air currents and are evidence of unstable air condi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us clou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 in horizontal layers.  They usually form when a layer of moist air is cooled below its saturation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3:05:41Z</dcterms:created>
  <dc:creator>RC Air Cadets</dc:creator>
  <dc:description/>
  <dc:language>en-US</dc:language>
  <cp:lastModifiedBy>Jamie Richards</cp:lastModifiedBy>
  <cp:lastPrinted>1999-03-19T19:32:44Z</cp:lastPrinted>
  <dcterms:modified xsi:type="dcterms:W3CDTF">1999-03-31T03:53:19Z</dcterms:modified>
  <cp:revision>9</cp:revision>
  <dc:subject/>
  <dc:title>PITCH</dc:title>
</cp:coreProperties>
</file>