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6413-4B3A-41C0-81B8-E7C7A3BB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178-B7A7-4D55-9856-D68B9571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C75-20DD-4086-9815-357DA1CC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F5E8-E18D-437B-A42F-23FF50C7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A90C-CACE-46D5-BE35-A5648843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930-0786-4CC3-A0AD-7DA6F280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F6A-08A7-406B-BD47-DC0CBCE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38F-F9B0-4810-9CF0-81A38E8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1D2-F74F-49AD-9AFA-96C90D51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A7CE-ECB0-476C-9555-AD31D26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B74-0327-4AD2-94A0-9A78352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FE6-561B-4EDF-9D9B-CBA34018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0C2A-069E-4B46-8201-C58935B14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lative Size of Water Drop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rain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305920" cy="3786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UD DRO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ZZLE 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54100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NDR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Forms of Precipit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9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r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zz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-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e Pel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very small drops of water which appear to flo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are tiny ice crystals in the form of need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occurs when raindrops freeze. They are hard, transparent, globular grains of ice about the size of raindr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 smaller cloud, a hailstone usually remains small, does not have a hard covering and usually arrives at the ground as a soft, white ice pell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visible water vapor in the air sublimates directly into ice crystals, without passing through any intermediate water sto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pitation in the form of large water drople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form of precipitation forms in a cloud when water droplets freeze onto ice crystal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 form of precipitation with its description by placing the correct letter in the appropriate bla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640" y="1368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4304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34304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34304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4304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34304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17T19:04:14Z</cp:lastPrinted>
  <dcterms:modified xsi:type="dcterms:W3CDTF">1999-03-31T03:47:30Z</dcterms:modified>
  <cp:revision>8</cp:revision>
  <dc:subject/>
  <dc:title>Cloud Families</dc:title>
</cp:coreProperties>
</file>