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CDF-E7EA-4F43-873E-F5B4BF56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17A8-C86E-4985-A39A-AA0B707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A71-C08E-4E06-80D9-3E7A2A13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F92-F835-4F97-A61C-907A0620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0C1-E9E2-450A-B673-86509C1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18B-69FB-4E54-A5CC-60E093DC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17D5-4C84-4D40-8D46-F069E229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FAE-BBF7-43AD-88E7-50841599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7F9-21D0-4FB1-9050-1860077D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7EE-7D39-4B78-8332-1E3EDE5B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4F9-5773-4827-AD54-9C19DD1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880-B482-4066-BFBF-2DE4BCC2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AB2-C85C-4F60-8B3C-F411F0782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E ATMOSPHERE IS HEATED FROM BEL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eating" descr=""/>
          <p:cNvPicPr/>
          <p:nvPr/>
        </p:nvPicPr>
        <p:blipFill>
          <a:blip r:embed="rId1"/>
          <a:srcRect l="0" t="0" r="1868" b="0"/>
          <a:stretch/>
        </p:blipFill>
        <p:spPr>
          <a:xfrm>
            <a:off x="152280" y="2270160"/>
            <a:ext cx="87631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ctors </a:t>
            </a:r>
            <a:r>
              <a:rPr b="1" lang="en-US" sz="4600" spc="-1" strike="noStrike" u="sng">
                <a:solidFill>
                  <a:srgbClr val="000000"/>
                </a:solidFill>
                <a:uFillTx/>
                <a:latin typeface="Arial"/>
              </a:rPr>
              <a:t>Affecting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ur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asonal Vari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6:32Z</cp:lastPrinted>
  <dcterms:modified xsi:type="dcterms:W3CDTF">1999-03-31T03:48:08Z</dcterms:modified>
  <cp:revision>11</cp:revision>
  <dc:subject/>
  <dc:title>Cloud Families</dc:title>
</cp:coreProperties>
</file>