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DBB-1C10-41EF-BB38-1E56587E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910-7591-4E57-BCD3-8E6191A1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14C-1A3C-4DEC-A000-B1EB2C1B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137-F3F3-4CD8-9206-89BEE3FA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B9B-0D20-4EE0-A43A-B0FF3B9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01F-CAB6-49AF-AEBC-81C55A46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97A-87DF-46C7-B889-C9AC743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0A6B-B826-4210-9CCB-5E765C1D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672-604A-44CB-B28E-DBE1117F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1DF-8185-4DE6-9B03-11340F0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AA5-EF83-4D94-8EF9-BFB06F2D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004-1C98-4916-9E35-7FBE703C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EB82-467A-42A0-9CCF-02E9FF1BA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gnetic P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ag2" descr=""/>
          <p:cNvPicPr/>
          <p:nvPr/>
        </p:nvPicPr>
        <p:blipFill>
          <a:blip r:embed="rId1"/>
          <a:srcRect l="11629" t="0" r="16427" b="0"/>
          <a:stretch/>
        </p:blipFill>
        <p:spPr>
          <a:xfrm>
            <a:off x="1523880" y="1425600"/>
            <a:ext cx="6172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phere" descr=""/>
          <p:cNvPicPr/>
          <p:nvPr/>
        </p:nvPicPr>
        <p:blipFill>
          <a:blip r:embed="rId1"/>
          <a:srcRect l="7592" t="0" r="11411" b="4386"/>
          <a:stretch/>
        </p:blipFill>
        <p:spPr>
          <a:xfrm>
            <a:off x="2057400" y="1447920"/>
            <a:ext cx="5486400" cy="497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 flipV="1">
            <a:off x="3804120" y="1678320"/>
            <a:ext cx="87840" cy="224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469120" y="5416920"/>
            <a:ext cx="110880" cy="2142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9040" y="16765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6680" y="557856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s 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l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572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5720" y="54864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429000" y="5257800"/>
            <a:ext cx="1981080" cy="457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81480" y="1693800"/>
            <a:ext cx="552240" cy="3459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638320" y="1981080"/>
            <a:ext cx="1143000" cy="358164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885840" y="1752120"/>
            <a:ext cx="289548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ar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angle between the true meridian and the magnetic meridian.  Therefore, in the Northern Hemisphere, variation is the angle between true north and magnetic nor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the same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o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no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ngitude" descr=""/>
          <p:cNvPicPr/>
          <p:nvPr/>
        </p:nvPicPr>
        <p:blipFill>
          <a:blip r:embed="rId1"/>
          <a:srcRect l="0" t="5664" r="0" b="0"/>
          <a:stretch/>
        </p:blipFill>
        <p:spPr>
          <a:xfrm>
            <a:off x="1355760" y="1398600"/>
            <a:ext cx="6645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atitude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6400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ass 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7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rose" descr=""/>
          <p:cNvPicPr/>
          <p:nvPr/>
        </p:nvPicPr>
        <p:blipFill>
          <a:blip r:embed="rId1"/>
          <a:srcRect l="0" t="9142" r="9164" b="16564"/>
          <a:stretch/>
        </p:blipFill>
        <p:spPr>
          <a:xfrm>
            <a:off x="2057400" y="1352520"/>
            <a:ext cx="50292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Jamie Richards</cp:lastModifiedBy>
  <cp:lastPrinted>1999-03-03T19:08:46Z</cp:lastPrinted>
  <dcterms:modified xsi:type="dcterms:W3CDTF">1999-03-31T03:51:44Z</dcterms:modified>
  <cp:revision>25</cp:revision>
  <dc:subject/>
  <dc:title>Navigating Position</dc:title>
</cp:coreProperties>
</file>