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161-A09A-44FB-8CC0-9394C9FA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D43-D385-45F3-BC8B-1969954D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620-FADE-4480-A890-EC105BF1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1A9-D5F3-4431-8947-55990C6B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CC2-43E5-457F-B0AB-E84F9C8C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18E-3CAD-47F4-9F1F-F93AA0E5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1D3-5121-46CA-83FD-934840E1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157-1C1C-4800-A6FA-7F559F5B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AF3-A312-4D56-B26D-F766DFE2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8C8-8C3B-4575-8117-16C90109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7D8-803B-4090-AA75-DD923503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670-3EAE-4720-A198-399F0CFF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DD8A-DEC1-464F-A082-D42EF1BF5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tmospheric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tmosphere is made up of a mixture of invisible gases.  The main gases in the atmosphere a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itro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rbon dioxi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ddition to these gases, the lower layers of the atmosphere contain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ter vapou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From a weather standpoint, this water vapour is the most important constituent of the atmosphe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perties of the Atmosphe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ACITY FOR EXPA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PACITY FOR COMPR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 the letter which corresponds to the answer of each of the following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y the three main gases that are present in the atmosp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 Mon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of the following are the three principal properties of the atmosp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co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Expa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ui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Com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Combu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680" y="1486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752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93880" y="5295960"/>
            <a:ext cx="53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he word which best fits the following sente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25560" y="5624640"/>
            <a:ext cx="722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ause the atmosphere h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exerts a pressure on the Earth’s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867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50800" y="6019920"/>
            <a:ext cx="63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 the letter which corresponds to the answer of each of the following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y the three main gases that are present in the atmosp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 Mon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ch of the following are the three principal properties of the atmosph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co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Expa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uid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Com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for Combu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0680" y="1486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1752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93880" y="5295960"/>
            <a:ext cx="53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he word which best fits the following senten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25560" y="5624640"/>
            <a:ext cx="722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ause the atmosphere h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exerts a pressure on the Earth’s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5867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50800" y="6019920"/>
            <a:ext cx="63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13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195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114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4800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44956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35053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281952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4120" y="556272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6019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3:05:41Z</dcterms:created>
  <dc:creator>RC Air Cadets</dc:creator>
  <dc:description/>
  <dc:language>en-US</dc:language>
  <cp:lastModifiedBy>Jamie Richards</cp:lastModifiedBy>
  <cp:lastPrinted>1999-03-01T13:13:26Z</cp:lastPrinted>
  <dcterms:modified xsi:type="dcterms:W3CDTF">1999-03-31T03:52:19Z</dcterms:modified>
  <cp:revision>7</cp:revision>
  <dc:subject/>
  <dc:title>PITCH</dc:title>
</cp:coreProperties>
</file>