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8F19-2F07-46A9-81B2-28A4725D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EA93-4D5A-4CEE-BF6A-F2906D4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789-5F76-4F6E-994D-892F8382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28F-C136-4E31-AAA5-90DB35E2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527-D4B2-40AC-A1F0-6BF279B9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B2C-312B-4321-8FFB-72B8B22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5BD-4131-45C7-8780-C5E85FFB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A63-B016-48A1-BEDA-95EFCC1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8542-EAED-481D-841E-D97E89E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091-A8F6-4C17-8276-91CD8EE0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5BE-79D5-40FA-B39F-016BCFB5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C99-A9C9-48D9-A927-A22712A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5AE-2542-4A90-8A5D-3BAE9569F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00Z</dcterms:modified>
  <cp:revision>23</cp:revision>
  <dc:subject/>
  <dc:title>No Slide Title</dc:title>
</cp:coreProperties>
</file>