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E3E-761B-4CC0-940C-78BCC47F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911-5E07-49B2-B600-BFFCD31D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F81-D4A2-40A2-8923-410FA3BD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BFE-75FF-4987-90CA-0222DC10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1F8-1AFD-4C4F-915A-45AF4420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53E-F4E5-4435-9C3D-822FDD01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833-AB46-4607-8209-8262EBF7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A784-B50D-4A8B-8B80-E6B9E782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159-EBBE-46E1-B841-34ED476A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367-EDFB-43F0-8227-7BDD1F3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6C9-1CCC-4A73-9C5D-0E6C7F6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BF1-E639-47FF-81EB-9094C166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A2E3-9C6D-4969-9950-2DA7C31DD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MO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graph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838080"/>
            <a:ext cx="63248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4652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ustin%20hoffman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2374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19:30Z</dcterms:created>
  <dc:creator>DND</dc:creator>
  <dc:description/>
  <dc:language>en-US</dc:language>
  <cp:lastModifiedBy>Jamie Richards</cp:lastModifiedBy>
  <dcterms:modified xsi:type="dcterms:W3CDTF">1999-04-26T03:09:15Z</dcterms:modified>
  <cp:revision>9</cp:revision>
  <dc:subject/>
  <dc:title>COMPONENTS of a MEMORANDUM</dc:title>
</cp:coreProperties>
</file>