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10CF-32EF-420D-95A3-02056C8F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280A-A340-4DE6-9DE8-FF6FF31E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F1EF-FBFA-4357-9EB8-B52FB52C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CD0C-BDD4-4305-8BE2-EDB84206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7CD7-C4AD-4723-92AB-5DE5EA9E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14F9-3C3C-4837-BA4D-2D34577F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E3B0-1094-4B0A-8508-4B875C73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6949-28D0-442E-83D9-F554C5EC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E979-F6D9-40C8-8E7F-B86F8606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90A2-B058-4BD9-9BE8-8F1EDC0E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F934-29ED-4447-8BF3-62C3EA5A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4262-A877-4F04-AB04-BEB43519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944A-D5A2-41CD-ABBF-0655951B5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228600"/>
          <a:ext cx="87631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763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04920" y="1981080"/>
            <a:ext cx="23619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EATING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2743200"/>
            <a:ext cx="2743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BEING A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438280"/>
            <a:ext cx="32004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FEELING   GOOD ABOUT YOURSE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3352680"/>
            <a:ext cx="2959200" cy="318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4114800"/>
            <a:ext cx="2806920" cy="242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58000" y="5029200"/>
            <a:ext cx="318600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3657600"/>
          <a:ext cx="2362320" cy="25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657600"/>
                    <a:ext cx="236232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276720" y="4114800"/>
          <a:ext cx="251460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114800"/>
                    <a:ext cx="25146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705720" y="4952880"/>
          <a:ext cx="167616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05720" y="4952880"/>
                    <a:ext cx="1676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671480" y="228600"/>
          <a:ext cx="6086520" cy="205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1480" y="228600"/>
                    <a:ext cx="60865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63000" y="6545160"/>
            <a:ext cx="1521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06.01a Level F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6583320"/>
            <a:ext cx="426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ndout #1 - Maintaining a Safe and Healthy Life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2T14:57:40Z</cp:lastPrinted>
  <dcterms:modified xsi:type="dcterms:W3CDTF">1999-03-12T14:57:43Z</dcterms:modified>
  <cp:revision>22</cp:revision>
  <dc:subject/>
  <dc:title>No Slide Title</dc:title>
</cp:coreProperties>
</file>