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FFE-C222-4F54-8D0E-F2EA0A91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69F-A5DE-438A-B2E6-64210B06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194-1FA6-4022-8F30-7911D2E1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D0A-03A0-4015-8445-1EE4E953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BA3-C1A9-43BD-9714-DADB6D4D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C30-5667-46B7-B16E-E374BF5C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7DC-27EA-44F5-AC88-65209FAF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A7D4-E6E0-488E-A8DB-BC5F4BE6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965C-16E3-4923-AF93-787888B7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0DD-6E63-46E9-AEF0-AF1570D5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1614-1F5C-44AD-B357-45BFCA59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5AE-7831-4B3E-A39F-D2FC4E2E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5B79-F7BE-4485-B05A-F0D08E3C2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Jamie Richards</cp:lastModifiedBy>
  <cp:lastPrinted>1998-12-18T14:03:14Z</cp:lastPrinted>
  <dcterms:modified xsi:type="dcterms:W3CDTF">1999-04-23T18:53:39Z</dcterms:modified>
  <cp:revision>2</cp:revision>
  <dc:subject/>
  <dc:title>No Slide Title</dc:title>
</cp:coreProperties>
</file>