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2F40-D6A2-4823-8B6E-7527800F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F2AF-CA64-46E8-A908-DCE81615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1322-6D23-4699-BA26-E057E439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EFB0-699C-40B8-B1AC-C445F9C4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226-CA52-4842-896A-C552FBA8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EB4F-5B21-4D18-9730-4D43FEEC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B51C-CE9F-493F-A2AC-3EBE3FC4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9304-CEFD-4327-B9B0-1014BE1B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1094-F643-40A0-9A36-BEBAF4AA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C071-89CB-4F41-A85D-77BD1AB5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E8DC-736B-4D0F-AD02-667F8430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17E-B7EC-4D4F-8201-BE832A59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2CFE-0F23-44E8-93BC-5EE40DC55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438280"/>
            <a:ext cx="6096240" cy="77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ake a shower or ba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every other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ash dirty clothes once a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rim finger and toe nail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regular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840" y="872640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438280"/>
            <a:ext cx="6096240" cy="63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Use foot powder after ea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a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rush and floss your tee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after each me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Shave if requi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40" y="872640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0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Four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fg5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40080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5T18:06:34Z</cp:lastPrinted>
  <dcterms:modified xsi:type="dcterms:W3CDTF">1999-03-12T14:58:25Z</dcterms:modified>
  <cp:revision>11</cp:revision>
  <dc:subject/>
  <dc:title>No Slide Title</dc:title>
</cp:coreProperties>
</file>