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C70-274F-41D3-A17B-1187678B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D70-3C5B-4AB5-AB3A-77600A1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38C-3B60-4A51-84A2-8D7807A0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4A9-E7D1-4D16-8D7D-071B355D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E85-2BBE-4237-96A7-DD296A1A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005-11C7-4858-80F4-60272B75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90A-06C0-4FBF-A474-7C314FAF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B03-D223-474E-8EE8-48C9760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1A5-6E7B-43D7-B172-11FC94D7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6B1-B8DA-4783-974C-C19407E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B3A-1DDF-4715-9A28-BA572F6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56E-A6C2-4C30-B59C-86FF87CB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17B-337F-4D29-83CB-E61BFDFB3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662940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e the work of your subordinat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de on a meeting point from where you can coordinate the efforts of your staf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distance in order to keep an eye on the ensem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your assista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vailable to help solve any problems that may ari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 to modify the plan (Plan B) if circumstances change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w initiative and adapt to new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80520"/>
            <a:ext cx="63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155240"/>
            <a:ext cx="617220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POST-ACTIVIT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your assistant(s) to provide you with a post-activity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ost-activity report, verbal or written, answers the following ques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as the nature of my tas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problems did I encoun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olutions did I app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ourse of action could help improve the situation in the futu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weak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were the strongest points of my 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my personal opinion on the overall success of the activit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155736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98400"/>
            <a:ext cx="617220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ect the opinions of your subordina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y neutral and listen to your staff. Do not take their remarks personall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s should be in a climate of trust and honest exchan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 problem brought to the table, a constructive solution must be offered by you or, better yet, by the whole group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5257800"/>
            <a:ext cx="35812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UBMITTING A FINAL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045880"/>
            <a:ext cx="647712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analyzing the shortfalls and strong points from your assistant’s post-activity report, you must produce a Final Report (After Action Report) for your super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itten report must, in addition to answering the questions in the post-activity report, is to include a precise evaluation of each element of your origina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port must be detailed and include proper and precise recommend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5:47:13Z</cp:lastPrinted>
  <dcterms:modified xsi:type="dcterms:W3CDTF">1999-03-15T15:47:16Z</dcterms:modified>
  <cp:revision>43</cp:revision>
  <dc:subject/>
  <dc:title>No Slide Title</dc:title>
</cp:coreProperties>
</file>