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1CA-3E03-43ED-8FCB-439315F5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69C-9FA9-4E0B-A466-446AD05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D91-15C3-42B2-8302-99FAEBE5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C19-D508-4351-BAC7-D281CAA8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552-939D-45BC-BC44-552D3F3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A4B-7C2F-446A-88B8-D83934F3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384-BE22-4FBA-B9EF-DD9C289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541-EFD6-46E7-AA75-830308C1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22B-AA73-4E61-A6F7-8D9CB190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D75-29E0-473D-A5AA-F4E8B9B1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163-3BBF-4BEC-B0F1-5AB893A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B88-F949-414D-9C48-E07DAD1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46B0-022B-4968-B668-BBEAE1640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DETS’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225900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SSON PLANNING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4:07:10Z</dcterms:created>
  <dc:creator>DND</dc:creator>
  <dc:description/>
  <dc:language>en-US</dc:language>
  <cp:lastModifiedBy>Jamie Richards</cp:lastModifiedBy>
  <cp:lastPrinted>1999-02-15T14:18:34Z</cp:lastPrinted>
  <dcterms:modified xsi:type="dcterms:W3CDTF">1999-04-21T19:13:42Z</dcterms:modified>
  <cp:revision>3</cp:revision>
  <dc:subject/>
  <dc:title>LESSON PLANNING TIPS</dc:title>
</cp:coreProperties>
</file>