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4C2-DB9F-4C02-915D-80D0790C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CFD-5E17-487C-B676-281CA6EB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9B8-C8F4-4984-B29A-B473CF1F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D2C-3FDA-470E-92A7-0ED3DC3F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ED3-8A84-43AB-A27A-9304CE22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3FD-D951-49D2-AD16-41C272E0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F2B-2350-47B2-9BE3-43DAD379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2A1-5258-4D11-A09E-F0854236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051-13CA-4B9A-BD6C-E4A609B9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99F-C184-4CD3-9047-C485D5A8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570-863B-4121-8819-5CFBED24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C96-1D2D-4448-A49C-F01DA53F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655A-4519-4D56-8A77-A3831E0FB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14800" y="914400"/>
          <a:ext cx="7621560" cy="8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914400"/>
                    <a:ext cx="76215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90920" y="1905120"/>
          <a:ext cx="5181480" cy="380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905120"/>
                    <a:ext cx="518148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43000" y="1295280"/>
          <a:ext cx="5048280" cy="7147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95280"/>
                    <a:ext cx="5048280" cy="71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09:42Z</dcterms:modified>
  <cp:revision>22</cp:revision>
  <dc:subject/>
  <dc:title>No Slide Title</dc:title>
</cp:coreProperties>
</file>