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B68-6FB3-43A8-8D23-7A6FAD6F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BF1-0372-452E-A577-C2452240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8A7-2670-4849-AC5B-95CF3BEE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86A-64C1-4248-AEFC-B6C38073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365-D049-4E79-B585-E894F750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971E-A9A0-47FE-85BE-B2E7FBDB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5B6-751B-4454-BF81-41DC6FC1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F249-6010-431E-9DE5-6CED73C2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4EB-0E82-4A89-B2F2-2FC0EBCD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F2AE-98DE-4645-A496-9D0BA034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8B0-B2B5-4C57-B5CC-F52FE196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2D1-0AB7-439B-A546-FCFEB176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9797-639D-48FB-B721-69F2669E6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576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828800"/>
            <a:ext cx="6248520" cy="65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MPHASIZE THE STRONG POIN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SEARCH FOR A FORMUL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RELY COMPLETELY O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NDWICH METHOD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E IMPROVEMEN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 SPECIFI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CH HABIT PATERN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YOUR CRITICISM JOB-RELATE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K QUESTION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CRITICIZE A CADET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NTENTIONAL FAUL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TRY TO BE FUNNY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ARG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72240"/>
            <a:ext cx="63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ERFORMANCE INTER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6T13:56:24Z</cp:lastPrinted>
  <dcterms:modified xsi:type="dcterms:W3CDTF">1999-03-26T15:34:23Z</dcterms:modified>
  <cp:revision>41</cp:revision>
  <dc:subject/>
  <dc:title>No Slide Title</dc:title>
</cp:coreProperties>
</file>