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440-E7F0-4D82-A7D8-7DB9EAC3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DBA-44F1-4201-BD8F-430F50C7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11C-5399-46C6-B23F-F61F1BDB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0628-FAFD-4BBD-A54D-A1EFCBC6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216-96D7-4667-909E-60C560A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B79-D6A2-4090-8B92-0C8E418F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CA6-207A-4204-BAFC-D8291326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6F7-7554-4D88-AC2C-0FA8BCB0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9BD-83E7-4734-AF36-08038683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093-4363-4300-8D9E-6440A65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599-A206-4A80-B442-6B11E736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F59-52BF-4BC1-B8E5-75FDD25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3472-C0E1-42AB-AECC-7F44D2CE7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040" y="6545160"/>
            <a:ext cx="1297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2T14:59:07Z</dcterms:modified>
  <cp:revision>20</cp:revision>
  <dc:subject/>
  <dc:title>No Slide Title</dc:title>
</cp:coreProperties>
</file>