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F03-E999-4182-9528-7E5DC8D2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339D-678B-4256-9898-3C593AA6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81AD-FB0C-44D5-B012-BCDD916B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521-82B6-447A-B5D2-03198094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8C2-8655-4A31-A8F7-8001922D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19D-5F88-4D7B-8D29-AE5F2098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334-706B-4DC7-8209-E698FD00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F2B-091A-46F6-994F-2F3D4731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F91-B05D-4250-B254-90A06029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D8C-FB89-427C-9033-CA5BFB73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18F-4B9E-4940-AC6C-2F561F89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CC11-E763-4CE7-B37A-5715425F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9FBA-5225-4174-8A7F-15E51448E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565452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ead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091200" cy="83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1-13T15:20:17Z</dcterms:modified>
  <cp:revision>6</cp:revision>
  <dc:subject/>
  <dc:title>No Slide Title</dc:title>
</cp:coreProperties>
</file>