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879-0A97-4693-8879-852E155D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19E-1842-40B1-A865-039276CA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6D5-BA44-499E-B0A0-CBFA7D42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630-1225-477E-B853-87D68458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DD4-F280-4C26-ADB3-EEED69D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697-73DE-4EED-B449-8F8195B2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D3D-B8B2-46D0-AF35-E7471FC7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310-DBA8-4919-9413-9552248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A98-3CDE-4F81-AABA-B8175CF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840-E09E-463A-AE20-8AC6862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F5C-BDA2-40BD-93C9-D8C1524B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655-E2FB-43B2-A849-2F9819B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B4A1-40A6-4325-ACE1-051347A9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visions of the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tmosphere" descr=""/>
          <p:cNvPicPr/>
          <p:nvPr/>
        </p:nvPicPr>
        <p:blipFill>
          <a:blip r:embed="rId1"/>
          <a:srcRect l="7761" t="2184" r="8846" b="2835"/>
          <a:stretch/>
        </p:blipFill>
        <p:spPr>
          <a:xfrm>
            <a:off x="1700280" y="1074600"/>
            <a:ext cx="5538600" cy="54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l in each of the spaces with the correct name for that level of the atm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51560" cy="541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362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3505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1600" y="990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129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175248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32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292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292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328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876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84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840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65000" y="1371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8:37:42Z</dcterms:created>
  <dc:creator>RC Air Cadets</dc:creator>
  <dc:description/>
  <dc:language>en-US</dc:language>
  <cp:lastModifiedBy>Jamie Richards</cp:lastModifiedBy>
  <cp:lastPrinted>1999-03-09T14:03:22Z</cp:lastPrinted>
  <dcterms:modified xsi:type="dcterms:W3CDTF">1999-03-31T03:53:00Z</dcterms:modified>
  <cp:revision>8</cp:revision>
  <dc:subject/>
  <dc:title>Cloud Families</dc:title>
</cp:coreProperties>
</file>