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C40-054C-4B11-9D40-35F39EB1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F88-AEF5-4105-8A77-D131D461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519-4F7D-4FFE-AFC2-4DA2269E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996-D0A9-4A11-9A23-13003FD7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63E-033F-42B1-89A0-C44F4249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E5A-EBE7-4AB4-A037-D6413FDE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0FD-4B24-47C2-B80B-07F89A6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339-E252-47BB-82C0-A11887DD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319-31FA-4E31-9549-CA0A2ACD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741-C1EC-4A83-A9F6-C6C3F34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B3B-AB1B-485E-9A52-84C3B4E6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4E2-84DA-4D35-889F-BA94A2E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7F6-A4ED-42B4-A96D-F132FBB11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65530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Answer Key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3-02T13:28:36Z</dcterms:modified>
  <cp:revision>29</cp:revision>
  <dc:subject/>
  <dc:title>No Slide Title</dc:title>
</cp:coreProperties>
</file>