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B72-8582-4609-8817-EF3C02C8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0A2-E6D7-4BAC-9D5A-8FD95EE0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55D-2059-4861-A420-6C51092A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B09-D39F-4348-AC5E-0854A796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305-0731-4665-B147-D4F2483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2DC-8E28-401C-9F91-A77EE414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1C9-A300-466D-9834-0C8F595C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401-B347-4224-93C6-90C7DB47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835-C0D0-4F5E-BFE0-A4A2B51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59C-2A3A-4D47-A5EF-BD5186B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791-B56B-4900-9143-B3BA20FF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033-ACD4-4CAB-B880-5ACEDD52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34A5-58F7-40CB-84B2-5E5903D0E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-PERFORMANCE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971800" cy="192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3276720"/>
            <a:ext cx="198144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2T14:28:12Z</dcterms:created>
  <dc:creator>DND</dc:creator>
  <dc:description/>
  <dc:language>en-US</dc:language>
  <cp:lastModifiedBy>Jamie Richards</cp:lastModifiedBy>
  <cp:lastPrinted>1999-02-12T14:33:58Z</cp:lastPrinted>
  <dcterms:modified xsi:type="dcterms:W3CDTF">1999-04-21T19:11:40Z</dcterms:modified>
  <cp:revision>3</cp:revision>
  <dc:subject/>
  <dc:title>DEMONSTRATION-PERFORMANCE METHOD</dc:title>
</cp:coreProperties>
</file>