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C416-1338-4964-93F9-6AFDE5AD8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B9D2-D6ED-4E57-93D1-860E61172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42AB-8FCA-4094-A444-FD24C9341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12F8-9300-4B7F-96CC-D8D5CE652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3952-A7E8-440B-B63A-D978826A0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A8E7-ABB2-41D2-BBBF-C13A4177D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0F22-3CC7-43D2-9894-161F515CD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6F3C-3622-4E9A-AD83-505C00335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9F96-1979-43E3-B5A4-62F77198D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EE9D-6490-420F-ABA1-6409F5D74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C5C1-48D8-4E82-BDC5-A8522FCEE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D577-940C-4ABA-A846-939B7462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C984A-1736-441B-B6FF-2C40E8F4AA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Cloud Famili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3.02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cloud%20chart" descr=""/>
          <p:cNvPicPr/>
          <p:nvPr/>
        </p:nvPicPr>
        <p:blipFill>
          <a:blip r:embed="rId1"/>
          <a:srcRect l="2886" t="0" r="2868" b="0"/>
          <a:stretch/>
        </p:blipFill>
        <p:spPr>
          <a:xfrm>
            <a:off x="0" y="1925640"/>
            <a:ext cx="914400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l in the correct cloud types for each fam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767040" y="2786040"/>
            <a:ext cx="4310280" cy="3446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1371600"/>
            <a:ext cx="9161640" cy="3962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243520" y="5408640"/>
            <a:ext cx="12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rr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ostr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mul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43160" y="5408640"/>
            <a:ext cx="26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ocumulus Castellan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mbostr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wering Cumul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mulus Frac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018200" y="5408640"/>
            <a:ext cx="173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tocumul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rrostr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tus Frac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mulonim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4120" y="5408640"/>
            <a:ext cx="152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rrocumul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ocumul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297180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95280" y="365760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434340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2971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36576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43434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257800" y="2971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257800" y="34290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25780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257800" y="4343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578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238880" y="2971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23888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238880" y="4343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1066680"/>
            <a:ext cx="8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14400" y="1371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3.02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8T18:37:42Z</dcterms:created>
  <dc:creator>RC Air Cadets</dc:creator>
  <dc:description/>
  <dc:language>en-US</dc:language>
  <cp:lastModifiedBy>Jamie Richards</cp:lastModifiedBy>
  <cp:lastPrinted>1999-03-09T14:35:04Z</cp:lastPrinted>
  <dcterms:modified xsi:type="dcterms:W3CDTF">1999-03-31T03:53:47Z</dcterms:modified>
  <cp:revision>6</cp:revision>
  <dc:subject/>
  <dc:title>Cloud Families</dc:title>
</cp:coreProperties>
</file>