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D105-53A3-44B1-9CD7-7FAAB5521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9765-D05B-4FAB-9077-8E6B08CEC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337F-C0AD-47BB-8B2C-CEA199AE4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AD5B-DC42-4EC2-A971-2D0D87A83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BF11-F8DE-40C5-BD38-919FB9F77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7B8C-6D25-4B78-BD25-81E14986C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C29D-1F30-4009-A4D7-6613754B0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B932-4920-4A00-824D-49AD20A26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40B8-2716-4D49-AE06-F0DF52207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1D2B-252B-47AE-9CFD-6FE8CD1CF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1286-E7B0-4F14-94D2-ADDB07430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7AC4-7D1B-4111-8996-4AC2DD2A2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79EB1-0D59-48D4-AA75-14E586F675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6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6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6.png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6.png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6.png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6.png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6.png"/><Relationship Id="rId20" Type="http://schemas.openxmlformats.org/officeDocument/2006/relationships/image" Target="../media/image7.png"/><Relationship Id="rId2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irdgeIV" descr=""/>
          <p:cNvPicPr/>
          <p:nvPr/>
        </p:nvPicPr>
        <p:blipFill>
          <a:blip r:embed="rId1"/>
          <a:stretch/>
        </p:blipFill>
        <p:spPr>
          <a:xfrm>
            <a:off x="222120" y="533520"/>
            <a:ext cx="8921880" cy="60166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BIVOUAC SI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17880" y="1752480"/>
            <a:ext cx="231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ASHING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266688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RINKING WATER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388620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601640" y="5791320"/>
            <a:ext cx="127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RE P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591640" y="4952880"/>
            <a:ext cx="16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RE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345200" y="4800600"/>
            <a:ext cx="163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SS T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11680" y="4267080"/>
            <a:ext cx="117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UP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345560" y="3352680"/>
            <a:ext cx="101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545600" y="2971800"/>
            <a:ext cx="134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ATR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468920" y="4038480"/>
            <a:ext cx="1354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AFET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EHIC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154720" y="548640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725000" y="6019920"/>
            <a:ext cx="14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RST A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-1440" y="660888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19.01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305200" y="660888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304840" y="6608880"/>
            <a:ext cx="621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O 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-1440" y="660888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19.01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des%20picturres" descr=""/>
          <p:cNvPicPr/>
          <p:nvPr/>
        </p:nvPicPr>
        <p:blipFill>
          <a:blip r:embed="rId1"/>
          <a:stretch/>
        </p:blipFill>
        <p:spPr>
          <a:xfrm>
            <a:off x="2057400" y="1447920"/>
            <a:ext cx="5410080" cy="42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ho%20me%202" descr=""/>
          <p:cNvPicPr/>
          <p:nvPr/>
        </p:nvPicPr>
        <p:blipFill>
          <a:blip r:embed="rId1"/>
          <a:stretch/>
        </p:blipFill>
        <p:spPr>
          <a:xfrm>
            <a:off x="201600" y="566640"/>
            <a:ext cx="8740800" cy="57247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304840" y="6608880"/>
            <a:ext cx="621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O 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-1440" y="660888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19.01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62320" y="4876920"/>
          <a:ext cx="761760" cy="46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62320" y="4876920"/>
                    <a:ext cx="761760" cy="4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7086600" y="2209680"/>
          <a:ext cx="719280" cy="314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086600" y="2209680"/>
                    <a:ext cx="719280" cy="31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609480" y="762120"/>
          <a:ext cx="762120" cy="1295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9480" y="762120"/>
                    <a:ext cx="76212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3048120" y="5410080"/>
          <a:ext cx="1562040" cy="10670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048120" y="5410080"/>
                    <a:ext cx="1562040" cy="10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7010280" y="4876920"/>
          <a:ext cx="914400" cy="11430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7010280" y="4876920"/>
                    <a:ext cx="9144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848720" y="4724280"/>
          <a:ext cx="838080" cy="16002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7848720" y="4724280"/>
                    <a:ext cx="83808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7543800" y="609480"/>
          <a:ext cx="838080" cy="114300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7543800" y="609480"/>
                    <a:ext cx="83808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2514600" y="2362320"/>
          <a:ext cx="762120" cy="152388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2514600" y="2362320"/>
                    <a:ext cx="76212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2895480" y="2590920"/>
          <a:ext cx="1219320" cy="113004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2895480" y="2590920"/>
                    <a:ext cx="1219320" cy="113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4" name="bridge567" descr=""/>
          <p:cNvPicPr/>
          <p:nvPr/>
        </p:nvPicPr>
        <p:blipFill>
          <a:blip r:embed="rId20"/>
          <a:stretch/>
        </p:blipFill>
        <p:spPr>
          <a:xfrm>
            <a:off x="196920" y="366840"/>
            <a:ext cx="8750160" cy="61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2T18:40:10Z</dcterms:created>
  <dc:creator>DND</dc:creator>
  <dc:description/>
  <dc:language>en-US</dc:language>
  <cp:lastModifiedBy>Jamie Richards</cp:lastModifiedBy>
  <cp:lastPrinted>1999-01-26T19:45:31Z</cp:lastPrinted>
  <dcterms:modified xsi:type="dcterms:W3CDTF">1999-04-01T18:41:59Z</dcterms:modified>
  <cp:revision>14</cp:revision>
  <dc:subject/>
  <dc:title>BIVOUAC SITE</dc:title>
</cp:coreProperties>
</file>