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8A9-0B0E-4484-8293-91846DF3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B37-AAA4-4E08-99D0-13B411B1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B47-ACA9-4482-B6EE-250031F5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2DB-5F57-454E-9370-FD16BC70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2CC-89D9-475F-8D25-242BDD9F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76F-B21D-4837-8D2D-8906FC8F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C3E-0C08-417A-8487-5860459F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B11-7102-49E1-9F6E-CA5310BF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43F-DB9B-48A7-BAEE-0B92CF43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FAE-7DC3-4FE2-82C2-EDD9A6EE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583-B6C5-4EF9-AFCA-A1BD111B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066-0C36-4975-BAF1-97A06165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609A-B736-4535-AEF8-3D36D826D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cated Air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irplane’s speed as indicated by the airspeed indica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e Air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ctual speed of the airplane through the air m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ndspe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peed of the airplane relative to th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553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etic Merid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direction in which a compass needle will lie when influenced only by the Earth’s magnetic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ss Nort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direction in which a particular compass needle will lie when influenced by both the Earth’s magnetic field and local magnetic influences (deviation) in the air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zimu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a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refers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ion to or from any point, measured as an angle clockwise from a merid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ir in motion, especially a mass of air having a common direction or mo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ift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the angle between the heading being flown and the track made good over the gr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Heading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f an airplane is the angle between the longitudinal axis of the airplane at any moment and a meridia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other words, it is the direction the nose of the aircraft is pointing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s is different than a bearing.  A bearing from an aircraft to a particular location would not necessarily be the same as the direction the plane was heading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a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(intended) is the direction an airplan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intend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to travel over the groun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ack Made Good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actual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path traveled by the airplane over the ground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rack Error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 angle between the required track and the track made good, measured in degrees either left or right of the required track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ing Ang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gle between the required track and the track made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 Ang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angle between the old required track and the new required track necessary to arrive at the desti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3:33:38Z</dcterms:created>
  <dc:creator>DND</dc:creator>
  <dc:description/>
  <dc:language>en-US</dc:language>
  <cp:lastModifiedBy>Jamie Richards</cp:lastModifiedBy>
  <cp:lastPrinted>1999-03-17T14:50:24Z</cp:lastPrinted>
  <dcterms:modified xsi:type="dcterms:W3CDTF">1999-03-31T04:00:09Z</dcterms:modified>
  <cp:revision>3</cp:revision>
  <dc:subject/>
  <dc:title>NAVIGATION TERMS</dc:title>
</cp:coreProperties>
</file>