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5FFB-1C13-4FA3-87C3-5F9DBDD16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9B96-DCD0-47DB-B4F1-24B0C244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0816-DD5B-49C7-BA93-0FD6C8E0B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5398-106B-4C36-A5FC-62E360314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1CEB-0BC5-45B1-9F01-27AA219D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92B6-CFC2-4AC7-84BE-6D73F413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939C-D8D7-497B-BB8F-733166E7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3D70-C02E-4F94-A364-BD65D691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2682-FE1E-49E2-9CB5-7892B614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4473-CA53-439F-9E35-34AD6078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D2E2-7E04-4487-9C64-1A7AAC57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6C76-DCC1-4AC8-BDDB-E7507E0C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84FE-E175-45D4-A49C-2DC2E234F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NDUCTING A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6324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the meeting to order on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nounce the order of business as detailed in the 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the business and conduct the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e the spea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1440" y="66070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4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05200" y="66070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34120" y="3809880"/>
            <a:ext cx="320040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NDUCTING A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5562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 the time allotted to spea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 debate to the question under 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tain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gnize and secure a hearing for those entitled to spe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1440" y="66070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4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200" y="66070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19920" y="2209680"/>
            <a:ext cx="2939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848720" y="3886200"/>
            <a:ext cx="880920" cy="17524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NDUCTING A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fair, just and impart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rain from lecturing, being domineering and offering personal opin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oint committ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 the meeting on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1440" y="66070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4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200" y="66070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477120" y="4191120"/>
            <a:ext cx="1898640" cy="2057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410080" y="4419720"/>
            <a:ext cx="1606680" cy="1960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315200" y="5029200"/>
            <a:ext cx="133020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18:03:12Z</dcterms:created>
  <dc:creator>DND</dc:creator>
  <dc:description/>
  <dc:language>en-US</dc:language>
  <cp:lastModifiedBy>Jamie Richards</cp:lastModifiedBy>
  <dcterms:modified xsi:type="dcterms:W3CDTF">1999-04-26T03:10:43Z</dcterms:modified>
  <cp:revision>6</cp:revision>
  <dc:subject/>
  <dc:title>CONDUCTING A MEETING</dc:title>
</cp:coreProperties>
</file>