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BFA-EFC9-43B4-9DF4-864E8029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463-0746-4E25-B825-3D6BB26F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A27D-9C88-4FD5-932A-5E250CCF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1B1-33BF-4A93-9749-1CE952A7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55B-A005-4E75-AE31-2BB9B700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AC19-AAA6-46F5-94BB-7C0A5FBD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558-83B6-4BB7-BB16-C55696F5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B21-F841-4E5D-BE03-A6A44608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2D7-AA20-4AB7-8F8D-8AC12F19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62A-8DB2-4A60-835B-40D41769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4CB-C4EF-4415-A0DD-4ECB55B0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70A-EAD3-45FB-AD47-54DA3201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0661-D830-46E7-BCD6-469F70C48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YPES OF NAVIGATION CH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ian Pilotage Charts (C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FR Navigation Charts (V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Aeronautical Charts (W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FR Terminal Area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 Navigation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21640" y="4114800"/>
          <a:ext cx="1819080" cy="23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1640" y="4114800"/>
                    <a:ext cx="1819080" cy="23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P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ve 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ment of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ted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29200" y="2819520"/>
            <a:ext cx="350532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LIEF ON 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T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t H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h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47968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3280" y="177840"/>
            <a:ext cx="850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ontour Lines and Hachu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map" descr=""/>
          <p:cNvPicPr/>
          <p:nvPr/>
        </p:nvPicPr>
        <p:blipFill>
          <a:blip r:embed="rId1"/>
          <a:srcRect l="0" t="15242" r="0" b="4271"/>
          <a:stretch/>
        </p:blipFill>
        <p:spPr>
          <a:xfrm>
            <a:off x="457200" y="1617840"/>
            <a:ext cx="80773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7T13:04:32Z</dcterms:created>
  <dc:creator>DND</dc:creator>
  <dc:description/>
  <dc:language>en-US</dc:language>
  <cp:lastModifiedBy>Jamie Richards</cp:lastModifiedBy>
  <cp:lastPrinted>1999-03-17T13:29:04Z</cp:lastPrinted>
  <dcterms:modified xsi:type="dcterms:W3CDTF">1999-03-31T03:57:19Z</dcterms:modified>
  <cp:revision>4</cp:revision>
  <dc:subject/>
  <dc:title>TYPES OF NAVIGATION CHARTS</dc:title>
</cp:coreProperties>
</file>