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77024-88B7-44D7-B96D-D6E5DD178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3B2B6-A4E7-424D-AD5F-D207CF3CC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81D0F-0173-4FF8-96CA-841F2B3E6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7F2BE-94C6-401B-8DB6-A4E7D87DC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0B16B-D7F5-44D3-80E9-FED73EE0B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F59C3-E8B8-42F5-942B-B0889C2AD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CA778-ED16-4D68-9CD1-AF561CF10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7AD85-B9EA-4AEC-ADE9-EC761CAC1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ECE61-FF0B-4AA8-8E2B-2C93BB393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66778-E0B7-47A8-82BC-E128B8AE0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1FFE2-1A65-42F7-96F6-C28ED5773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46CA5-80D5-49D7-A720-D68F9B491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DE4D5-B90F-4318-96E4-1BD69C9346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6553080"/>
            <a:ext cx="8991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8441640" y="6545160"/>
            <a:ext cx="669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9040" y="6545160"/>
            <a:ext cx="12380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Four  405.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1981080"/>
            <a:ext cx="4496040" cy="44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Physical fitness should be a part of everyone’s daily routine.  You will feel healthier and your self-confidence will improve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04920" y="1779480"/>
            <a:ext cx="1904760" cy="15940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7223040" y="4013280"/>
            <a:ext cx="1311480" cy="20286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420840" y="4049640"/>
            <a:ext cx="1865160" cy="17859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203960" y="1830240"/>
            <a:ext cx="1559160" cy="1370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57200" y="380880"/>
            <a:ext cx="8229600" cy="5814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IR CADET FITNESS PROGR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6553080"/>
            <a:ext cx="8991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441640" y="6545160"/>
            <a:ext cx="6346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9040" y="6545160"/>
            <a:ext cx="12031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Four 405.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1905120"/>
            <a:ext cx="571500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Impact"/>
              </a:rPr>
              <a:t>WARM-UP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Impact"/>
              </a:rPr>
              <a:t>ACTIVIT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Impact"/>
              </a:rPr>
              <a:t>COOL-DOW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80880" y="1817640"/>
            <a:ext cx="2133720" cy="15526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6705720" y="1770120"/>
            <a:ext cx="1371600" cy="16016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7010280" y="3962520"/>
            <a:ext cx="1470240" cy="21319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3733920" y="5105520"/>
            <a:ext cx="1520640" cy="8269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5"/>
          <a:stretch/>
        </p:blipFill>
        <p:spPr>
          <a:xfrm>
            <a:off x="665280" y="3868560"/>
            <a:ext cx="1392120" cy="21528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457200" y="380880"/>
            <a:ext cx="8229600" cy="5814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IR CADET FITNESS PROGR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457200" y="1600200"/>
            <a:ext cx="8153280" cy="45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Raises Fitness Standar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Motivates Cade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Creates Interes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Confirms Ability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Prepares Cadets for Advanced Cours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5943600" y="1952640"/>
            <a:ext cx="2424240" cy="31226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59040" y="6545160"/>
            <a:ext cx="12031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Four 405.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8229600" y="6553080"/>
            <a:ext cx="66816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6553080"/>
            <a:ext cx="8991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380880"/>
            <a:ext cx="8229600" cy="5814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IR CADET FITNESS 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0" y="6553080"/>
            <a:ext cx="8991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441640" y="6545160"/>
            <a:ext cx="669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9040" y="6545160"/>
            <a:ext cx="12031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Four 405.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380880"/>
            <a:ext cx="8229600" cy="5814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IR CADET FITNESS 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04920" y="1523880"/>
            <a:ext cx="3271680" cy="4605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4495680" y="1447920"/>
            <a:ext cx="5105520" cy="42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ENDURANCE RU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PARTIAL CURL- U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PUSH U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STANDING LONG JUM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50 m RU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SHUTTLE RU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0" y="6553080"/>
            <a:ext cx="8991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8441640" y="6545160"/>
            <a:ext cx="669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9040" y="6545160"/>
            <a:ext cx="12031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Four 405.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6095880" y="3379680"/>
            <a:ext cx="2533680" cy="239724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457200" y="1600200"/>
            <a:ext cx="807732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mpact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Impact"/>
              </a:rPr>
              <a:t>Keep a schedule of the games to officia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mpact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Impact"/>
              </a:rPr>
              <a:t>Check for any changes prior to the ga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mpact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Impact"/>
              </a:rPr>
              <a:t>Report at least 30 minutes earl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mpact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Impact"/>
              </a:rPr>
              <a:t>Know the rules of the ga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mpact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Impact"/>
              </a:rPr>
              <a:t>Look profession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mpact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Impact"/>
              </a:rPr>
              <a:t>Keep in good shap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mpact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Impact"/>
              </a:rPr>
              <a:t>Watch other officials for point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521720" y="533520"/>
            <a:ext cx="6464160" cy="58140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TIES OF A SPORTS OFFIC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Valued Customer</dc:creator>
  <dc:description/>
  <dc:language>en-US</dc:language>
  <cp:lastModifiedBy>Jamie Richards</cp:lastModifiedBy>
  <cp:lastPrinted>1999-03-04T21:44:55Z</cp:lastPrinted>
  <dcterms:modified xsi:type="dcterms:W3CDTF">1999-04-22T20:49:36Z</dcterms:modified>
  <cp:revision>26</cp:revision>
  <dc:subject/>
  <dc:title>No Slide Title</dc:title>
</cp:coreProperties>
</file>