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3CB3-1C78-4584-B1AC-FCF34299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6C64-ADD7-42B3-A8C6-D7B52D74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4661-8DDB-46AA-A696-E4464307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A139-3FDB-4771-AB0D-19BBE233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DFD7-54AC-49FD-811A-248BCCA5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803A-E41F-48CD-A46B-43149A10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8914-7DF2-4E0D-A51D-B53455D8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74EF-3E90-4EDD-A9F0-7048C3C6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4D84-175A-407D-910E-D46C772C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053-1389-4A4C-AD10-6843C8FB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2921-F1B6-48DD-A6CA-10431D4D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4B9B-29BD-448F-ADE6-39AEF178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07BD-C230-4E0A-AAB9-4829C435C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049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ADRON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2743200"/>
            <a:ext cx="6019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3809880"/>
            <a:ext cx="6019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4876920"/>
            <a:ext cx="6019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ymbols4" descr=""/>
          <p:cNvPicPr/>
          <p:nvPr/>
        </p:nvPicPr>
        <p:blipFill>
          <a:blip r:embed="rId1"/>
          <a:srcRect l="1429" t="37860" r="66572" b="15085"/>
          <a:stretch/>
        </p:blipFill>
        <p:spPr>
          <a:xfrm>
            <a:off x="6477120" y="5638680"/>
            <a:ext cx="838080" cy="463680"/>
          </a:xfrm>
          <a:prstGeom prst="rect">
            <a:avLst/>
          </a:prstGeom>
          <a:ln w="0">
            <a:noFill/>
          </a:ln>
        </p:spPr>
      </p:pic>
      <p:pic>
        <p:nvPicPr>
          <p:cNvPr id="49" name="symbols4" descr=""/>
          <p:cNvPicPr/>
          <p:nvPr/>
        </p:nvPicPr>
        <p:blipFill>
          <a:blip r:embed="rId2"/>
          <a:srcRect l="1429" t="37860" r="66572" b="15085"/>
          <a:stretch/>
        </p:blipFill>
        <p:spPr>
          <a:xfrm>
            <a:off x="533520" y="1600200"/>
            <a:ext cx="838080" cy="463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rot="16200000">
            <a:off x="6392520" y="1760400"/>
            <a:ext cx="609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8305920" y="1828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16002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142640" y="259092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34290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3657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4495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4724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55627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0663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4724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066680" y="5562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0663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066680" y="3657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066680" y="3429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066680" y="25909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3657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449568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6292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62920" y="34290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3888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8145360" y="5189400"/>
            <a:ext cx="609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467120" y="4572000"/>
            <a:ext cx="8384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48720" y="160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8305920" y="159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599840" y="160020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95680" y="838080"/>
            <a:ext cx="0" cy="6098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274320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2952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6002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810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3623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6668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0481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4290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7339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0384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4197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8006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1055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4100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150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199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3244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553080" y="29714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295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680" y="1827720"/>
            <a:ext cx="168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RTING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02:10:20Z</dcterms:created>
  <dc:creator>DND</dc:creator>
  <dc:description/>
  <dc:language>en-US</dc:language>
  <cp:lastModifiedBy>DND</cp:lastModifiedBy>
  <dcterms:modified xsi:type="dcterms:W3CDTF">1999-03-23T02:11:02Z</dcterms:modified>
  <cp:revision>1</cp:revision>
  <dc:subject/>
  <dc:title>No Slide Title</dc:title>
</cp:coreProperties>
</file>