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3A46-B2ED-4422-928C-2A0E624A3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5216-245A-4405-B349-DD20E6CB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0E3F-0C60-4AEB-8BB1-872B8AAE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9515-1A82-49AF-9DE7-3F14587B1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1856-DF10-4F3B-959A-C8CAE476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9437-3A27-4BD2-B0C7-1F6C8E46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A554-61DA-4A23-8119-672F0A13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1759-7EF4-4FDA-9A3D-ED1ADC81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27E8-A1A0-4313-9C47-2E307210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7570-9745-44B3-9C35-672C75BB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CF4B-7263-4751-950C-AD2317EA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4AD2-6ABF-426D-AA8B-34A4BF2B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7FAB-9D6A-4A17-9AA6-E08FB48B3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5320" y="8763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80880"/>
            <a:ext cx="6248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MOR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1447920"/>
            <a:ext cx="6400800" cy="48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rale is a “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ate of mi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”. It directly influences the performance and proficiency of individuals and, therefore, that of the organization itself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rale is about how a person feels about his/her job, not a reflection of how/she feels about the unit or organization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57400" y="5867280"/>
            <a:ext cx="281952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5320" y="8763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80880"/>
            <a:ext cx="6248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MORALE IS INFLUENCED BY THE FOLLOWING FACTOR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2514600"/>
            <a:ext cx="6400800" cy="57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on Purpos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adershi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iplin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lf-respec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d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radeshi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tual Conf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det’s well-Being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fort and Welf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5320" y="8763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380880"/>
            <a:ext cx="6248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ATTITUDES THAT MAKE UP MOR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828800"/>
            <a:ext cx="6400800" cy="46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tate of anyone’s morale at any given time depends upon and is measurable by their attitud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quadro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mselv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ir companions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ir lea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6172200"/>
            <a:ext cx="2362320" cy="2216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876920" y="5943600"/>
            <a:ext cx="102384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5320" y="8763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380880"/>
            <a:ext cx="6248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SPRIT DE COR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447920"/>
            <a:ext cx="662940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represents one’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rid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belonging to a particular organization or unit. Basically it can be described as you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ense of group identi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can contribute to the development of esprit de corps by exerting your influence and personality in the following are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de in the Grou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quenes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dition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ynamic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29000" y="6515280"/>
            <a:ext cx="312408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5320" y="8763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8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80880"/>
            <a:ext cx="624852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DIFFERENCES BETWEEN MORALE AND ESPRIT DE COR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2514600"/>
            <a:ext cx="640080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th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epara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ntities. Either can exist independently of the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rale is how you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fee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bout your job, your leaders, yourself. Esprit de corps, on the other hand, is th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rid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ou have in your group, unit or organ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438280" y="5791320"/>
            <a:ext cx="18352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15T12:34:36Z</cp:lastPrinted>
  <dcterms:modified xsi:type="dcterms:W3CDTF">1999-03-15T12:34:38Z</dcterms:modified>
  <cp:revision>32</cp:revision>
  <dc:subject/>
  <dc:title>No Slide Title</dc:title>
</cp:coreProperties>
</file>