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0B5-F2DF-4879-853D-C07E5EB4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161-46B6-44B9-A544-AAF61F54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D6C-8C73-4FA9-BD3F-40F60C02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60F-ACFD-4DA1-A0DF-38C330F5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86B-724F-41E7-BAF0-6A956DCC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794-FFFF-4DFA-9A8E-A57A226A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1DB-74E9-41B9-8C8D-141585F1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095-2CC0-4DB4-A13E-8420C706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67B-B54A-4F13-B225-4041BAA0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5E9-47A8-401D-BB30-23AD3912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52E-2CAE-4B03-AA14-0A23AF69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3321-F31C-41CC-AC9F-7B09AC2F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ECDB-3261-459E-B4F6-DA248F06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ambert" descr=""/>
          <p:cNvPicPr/>
          <p:nvPr/>
        </p:nvPicPr>
        <p:blipFill>
          <a:blip r:embed="rId1"/>
          <a:srcRect l="0" t="3400" r="0" b="4987"/>
          <a:stretch/>
        </p:blipFill>
        <p:spPr>
          <a:xfrm>
            <a:off x="152280" y="1600200"/>
            <a:ext cx="8763120" cy="459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17200" y="146160"/>
            <a:ext cx="590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Lambert Confor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ic Pro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20040" y="163440"/>
            <a:ext cx="65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Mercator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ercator" descr=""/>
          <p:cNvPicPr/>
          <p:nvPr/>
        </p:nvPicPr>
        <p:blipFill>
          <a:blip r:embed="rId1"/>
          <a:stretch/>
        </p:blipFill>
        <p:spPr>
          <a:xfrm>
            <a:off x="463680" y="1373040"/>
            <a:ext cx="807084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7240" y="212760"/>
            <a:ext cx="883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Transverse Mercator Pro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transmercator" descr=""/>
          <p:cNvPicPr/>
          <p:nvPr/>
        </p:nvPicPr>
        <p:blipFill>
          <a:blip r:embed="rId1"/>
          <a:srcRect l="10860" t="8988" r="11298" b="10179"/>
          <a:stretch/>
        </p:blipFill>
        <p:spPr>
          <a:xfrm>
            <a:off x="457200" y="1681200"/>
            <a:ext cx="8001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2280"/>
            <a:ext cx="85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the projection type with the correct name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ransmercator" descr=""/>
          <p:cNvPicPr/>
          <p:nvPr/>
        </p:nvPicPr>
        <p:blipFill>
          <a:blip r:embed="rId1"/>
          <a:srcRect l="10860" t="8988" r="11298" b="10179"/>
          <a:stretch/>
        </p:blipFill>
        <p:spPr>
          <a:xfrm>
            <a:off x="304920" y="1069920"/>
            <a:ext cx="2438280" cy="1276560"/>
          </a:xfrm>
          <a:prstGeom prst="rect">
            <a:avLst/>
          </a:prstGeom>
          <a:ln w="0">
            <a:noFill/>
          </a:ln>
        </p:spPr>
      </p:pic>
      <p:pic>
        <p:nvPicPr>
          <p:cNvPr id="61" name="mercator2" descr=""/>
          <p:cNvPicPr/>
          <p:nvPr/>
        </p:nvPicPr>
        <p:blipFill>
          <a:blip r:embed="rId2"/>
          <a:stretch/>
        </p:blipFill>
        <p:spPr>
          <a:xfrm>
            <a:off x="533520" y="4484520"/>
            <a:ext cx="1874880" cy="2068560"/>
          </a:xfrm>
          <a:prstGeom prst="rect">
            <a:avLst/>
          </a:prstGeom>
          <a:ln w="0">
            <a:noFill/>
          </a:ln>
        </p:spPr>
      </p:pic>
      <p:pic>
        <p:nvPicPr>
          <p:cNvPr id="62" name="lambert2" descr=""/>
          <p:cNvPicPr/>
          <p:nvPr/>
        </p:nvPicPr>
        <p:blipFill>
          <a:blip r:embed="rId3"/>
          <a:stretch/>
        </p:blipFill>
        <p:spPr>
          <a:xfrm>
            <a:off x="762120" y="2286000"/>
            <a:ext cx="1479600" cy="224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05880" y="5502240"/>
            <a:ext cx="33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  Lambert Confor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ic Projec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81760" y="3825720"/>
            <a:ext cx="346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Transverse Mer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90040" y="198108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Mercator 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40120" y="762120"/>
            <a:ext cx="32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8320" y="5867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320" y="38862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8320" y="1828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6240" y="275904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Tubular Mer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8040" y="480060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 Polar Proj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1T19:22:24Z</dcterms:created>
  <dc:creator>RC Air Cadets</dc:creator>
  <dc:description/>
  <dc:language>en-US</dc:language>
  <cp:lastModifiedBy>Jamie Richards</cp:lastModifiedBy>
  <cp:lastPrinted>1999-03-27T18:43:54Z</cp:lastPrinted>
  <dcterms:modified xsi:type="dcterms:W3CDTF">1999-03-31T03:55:43Z</dcterms:modified>
  <cp:revision>6</cp:revision>
  <dc:subject/>
  <dc:title>No Slide Title</dc:title>
</cp:coreProperties>
</file>