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FA4-A321-4C3E-9346-3B81351E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3AC-7B1A-474F-BA76-5FE1CB93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2D3-92DA-4268-B66D-E4994C33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9C7-8819-4432-9C64-9293DA24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6D5-0402-4FF7-B3AD-8B51A1E6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B47-C2AD-450D-852B-69AB199E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FD4-4800-46F2-B122-A5EB32F6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063-7FED-41B9-9E61-7B41C82F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08E-FEDB-46F1-8C5A-F43C7152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C59-4A21-4FE5-BAF7-88E0AB6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0E2-9F53-4E98-870F-A42378E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E3B-CC27-4494-A2D1-958C0202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DE45-0638-40B6-9869-F8F863715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564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380880"/>
            <a:ext cx="7404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NCENTIVES TO PERFORMANC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491840"/>
            <a:ext cx="515808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KNOWLEDGE OF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NTHUSI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2133720" cy="219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2920" y="426708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2032200" cy="195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4492800"/>
            <a:ext cx="1752480" cy="16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64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457200"/>
            <a:ext cx="7404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NCENTIVES TO PERFORMANC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64200"/>
            <a:ext cx="853452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RGANIZATIONAL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VOIDING OVER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OOD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295360" cy="174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62072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14907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2-23T15:15:47Z</cp:lastPrinted>
  <dcterms:modified xsi:type="dcterms:W3CDTF">1999-02-23T15:16:49Z</dcterms:modified>
  <cp:revision>14</cp:revision>
  <dc:subject/>
  <dc:title>No Slide Title</dc:title>
</cp:coreProperties>
</file>