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6EC0-AE81-4384-BB43-DA240D68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A77A-50F1-4C73-B2F8-050B35F3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0A47-F507-4B21-9846-531E8B8D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33F2-A7A4-4F87-BDFF-5A7B4A62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1D05-2668-4FF0-B852-B280A920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0E07-70DC-41FE-A8F0-9943A501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ABF0-7C35-4BAB-9F2A-1C92EDFB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69A6-2266-4DAD-B736-1D4753D5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C364-F3FF-44DE-985F-D60E50E9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580B-7A39-4D38-BA84-3E9BA51E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B9E-02C7-4D5B-85DE-12F17468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B73-37E2-451D-B78A-DA37C2DB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C721-D2CD-4A53-9358-BBEABC941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304920"/>
            <a:ext cx="609480" cy="80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UNDERSTA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28600"/>
            <a:ext cx="4724280" cy="84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ESSONS MUST START AT THE LEVEL OF TRAINEE UNDERSTANDING AND PROCEED AT THE RATE OF TRAINEE COMPREHEN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IVIDE MATERIAL INTO LOGICAL STAGES, TEACHING A LITTLE AT A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ASY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DIFFIC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KNOWN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IMPLE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T THE BEGINNING OF A LESSON ASK QUESTIONS TO GAUGE THE KNOWLEDGE OF THE TRAN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257800" y="7086600"/>
          <a:ext cx="914400" cy="14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7086600"/>
                    <a:ext cx="91440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4267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4800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5410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457200"/>
            <a:ext cx="6248160" cy="79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HE PRINCIPLES OF INSTRUCTION CAN BE REMEMBERED BY USING THE ACRONYM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.S.P.IC.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 - 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 - 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 - 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 -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C - CONFI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E - EMPH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-SPICE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UP YOUR CLASS BY USING THEM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3048120"/>
            <a:ext cx="4572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04920"/>
            <a:ext cx="609480" cy="80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UNDERSTA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228600"/>
            <a:ext cx="480060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KEEP A FLOW OF QUESTIONS FROM THE INSTRUCTOR AND VICE-VE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EACH TO THE MAJ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ATCH OUT FOR FROWNING EYEBROWS OR EMPTY ST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2448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60984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SU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228600"/>
            <a:ext cx="4724280" cy="58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ESSONS MUST PROVIDE FOR THE TRAINNEE A SENSE OF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IVIDE THE LESSON INTO LOGICAL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749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KEEP THE CADETS INFORMED OF THEIR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GIVE PRAISE TO CADETS WHO ARE DOING WELL AND CORRECT CADETS WHO ARE FAI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124080" y="6248520"/>
          <a:ext cx="2316240" cy="21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6248520"/>
                    <a:ext cx="2316240" cy="21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28600"/>
            <a:ext cx="685800" cy="67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PARTICIP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228600"/>
            <a:ext cx="4724280" cy="56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HE LESSON MUST PROVIDE MENTAL AND/OR PHYSICAL PARTICIP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USE QUESTIONS TO MAKE THE TRAINEE TH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NCOURAGE AS MANY CADETS AS POSSIBLE TO PARTICIP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NCOURSGE SHY CADETS TO PARTICIPATE TO HELP THEM IMPROVE THEIR SELF-CONFI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14600" y="6781680"/>
          <a:ext cx="3649680" cy="15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6781680"/>
                    <a:ext cx="3649680" cy="15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1600200"/>
            <a:ext cx="457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INTE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228600"/>
            <a:ext cx="4800600" cy="84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ESSONS MUST CREATE AND MAINTAIN TRAINEE INTE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TIMULATE INTEREST BY LEAVINGTHE CLASSROOM SE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USE YOUR IMAGINATION TO TRY AND STIMULATE THE CADETS’ CURI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LAN SPEED AND/OR ABILITY COMPETITIONS OR GAMES THAT WILL HELP TO  MAINTAIN INTE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USE MORE THAN ONE INSTRU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048120" y="7467480"/>
          <a:ext cx="9903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7467480"/>
                    <a:ext cx="9903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191120" y="7467480"/>
          <a:ext cx="990360" cy="11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7467480"/>
                    <a:ext cx="99036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828800"/>
            <a:ext cx="76212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9480" y="1600200"/>
            <a:ext cx="457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INTE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228600"/>
            <a:ext cx="4800600" cy="37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KEEP INSTRUCTION AT THE LEVEL OF THE TRAIN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USE VARIOUS TRAINING A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E ENTHUSIASTIC - IT IS CONTAGIOU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828800"/>
            <a:ext cx="76212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14600" y="4343400"/>
            <a:ext cx="36576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1600200"/>
            <a:ext cx="457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INTE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228600"/>
            <a:ext cx="4800600" cy="76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ESSONS MUST PROVIDE FOR CONFIRMATION OF LEA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SK THE CADETS QUESTIONS OR HAVE THEM PERFORM A PRACTICAL EXERC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ONFIRM THE LESSON BY ST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VIEW AT THE START OF EACH LES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NAYLIZE THE CADETS’ QUESTIONS TO SEE WHICH POINTS NEED TO BE REVIE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609480"/>
            <a:ext cx="76212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CONFI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724280" y="7010280"/>
          <a:ext cx="14479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7010280"/>
                    <a:ext cx="14479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1600200"/>
            <a:ext cx="457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INTE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228600"/>
            <a:ext cx="480060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ESSONS MUST EMPHASIZE AND SUPPORT MAIN TEACHING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LEARLY DEFINE WHY YOU ARE TEACHING THE LES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AKE SURE YOU ALLOCATE ENOUGH TIME TO THE TEACHING POIN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EVOTE SUFFICIENT TIME TO PRACTICAL EXERCI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USE TEACHING AIDS THAT APPEAL TO THE FIVE SE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E REPET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676520"/>
            <a:ext cx="76212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EMPH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6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410080" y="7010280"/>
          <a:ext cx="106704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7010280"/>
                    <a:ext cx="10670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1600200"/>
            <a:ext cx="457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INTE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28600"/>
            <a:ext cx="4800600" cy="60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USE NOTES,WRITTEN HANDOUTS, OR ISSUE ASSIGN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ONDUCT REVIEW OR PROGRESS TESTS DURING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EACH MATERIAL STEP-BY-STEP AND REVIEW EACH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676520"/>
            <a:ext cx="76212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EMPH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8763120"/>
            <a:ext cx="838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6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19520" y="4800600"/>
            <a:ext cx="3217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2T13:23:59Z</cp:lastPrinted>
  <dcterms:modified xsi:type="dcterms:W3CDTF">1999-03-12T13:24:13Z</dcterms:modified>
  <cp:revision>16</cp:revision>
  <dc:subject/>
  <dc:title>No Slide Title</dc:title>
</cp:coreProperties>
</file>