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3BA-71EF-4412-B9E8-FD5D89F6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497-4A1C-4622-A8C1-067E6989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2AB-461A-420C-8152-6077C2C4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D195-16FA-46FC-B82E-CCC581DC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3D8-AB52-4D67-80AA-55106522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A8B5-6A67-46AE-ABE2-9460531E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681-D1C1-4D6A-9CA6-DD250B72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C00-040B-4647-96A0-217A260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539-C5E3-4382-8912-55AEFBA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7D2-CBA7-408F-92EC-AD9A26FF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618-2823-4348-88FF-82FBE655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4B5-311E-4A4E-BF58-E6F0E13F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4D79-D259-41EB-83D9-F639AC597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RGI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90720"/>
            <a:ext cx="8077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use a map properly, you must understand the information foun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133720"/>
            <a:ext cx="5257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Name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Number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Date of the Map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Magnetic Decl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Explanation of a Grid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Reference Plate of Conventional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Index to Adjacent Map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Map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 Scale B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07040" y="23558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7040" y="23558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553080" y="205740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onventional sig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05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66688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819520"/>
            <a:ext cx="198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666880"/>
            <a:ext cx="1905120" cy="0"/>
          </a:xfrm>
          <a:prstGeom prst="line">
            <a:avLst/>
          </a:prstGeom>
          <a:ln w="507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743200"/>
            <a:ext cx="205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less than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2666880"/>
            <a:ext cx="190512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81952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8098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57200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8564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235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8640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1444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7692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54100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en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527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334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onry  (concrete)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TRANSMISSION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17524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T T T 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371600"/>
            <a:ext cx="1752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98108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37160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9810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37160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20968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pow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9548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9492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09680" y="350496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90360" y="37339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733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11480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50532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360" y="350532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388620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862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88620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670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67080" y="38098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733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114800"/>
            <a:ext cx="297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 or highway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80060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5537160"/>
            <a:ext cx="2287440" cy="522360"/>
          </a:xfrm>
          <a:custGeom>
            <a:avLst/>
            <a:gdLst/>
            <a:ahLst/>
            <a:rect l="l" t="t" r="r" b="b"/>
            <a:pathLst>
              <a:path w="1441" h="329">
                <a:moveTo>
                  <a:pt x="0" y="64"/>
                </a:moveTo>
                <a:lnTo>
                  <a:pt x="24" y="32"/>
                </a:lnTo>
                <a:lnTo>
                  <a:pt x="48" y="24"/>
                </a:lnTo>
                <a:lnTo>
                  <a:pt x="72" y="8"/>
                </a:lnTo>
                <a:lnTo>
                  <a:pt x="96" y="0"/>
                </a:lnTo>
                <a:lnTo>
                  <a:pt x="120" y="0"/>
                </a:lnTo>
                <a:lnTo>
                  <a:pt x="144" y="0"/>
                </a:lnTo>
                <a:lnTo>
                  <a:pt x="168" y="0"/>
                </a:lnTo>
                <a:lnTo>
                  <a:pt x="192" y="0"/>
                </a:lnTo>
                <a:lnTo>
                  <a:pt x="216" y="0"/>
                </a:lnTo>
                <a:lnTo>
                  <a:pt x="240" y="0"/>
                </a:lnTo>
                <a:lnTo>
                  <a:pt x="264" y="0"/>
                </a:lnTo>
                <a:lnTo>
                  <a:pt x="288" y="0"/>
                </a:lnTo>
                <a:lnTo>
                  <a:pt x="312" y="0"/>
                </a:lnTo>
                <a:lnTo>
                  <a:pt x="336" y="16"/>
                </a:lnTo>
                <a:lnTo>
                  <a:pt x="360" y="24"/>
                </a:lnTo>
                <a:lnTo>
                  <a:pt x="384" y="40"/>
                </a:lnTo>
                <a:lnTo>
                  <a:pt x="408" y="48"/>
                </a:lnTo>
                <a:lnTo>
                  <a:pt x="432" y="56"/>
                </a:lnTo>
                <a:lnTo>
                  <a:pt x="448" y="80"/>
                </a:lnTo>
                <a:lnTo>
                  <a:pt x="472" y="88"/>
                </a:lnTo>
                <a:lnTo>
                  <a:pt x="488" y="112"/>
                </a:lnTo>
                <a:lnTo>
                  <a:pt x="512" y="120"/>
                </a:lnTo>
                <a:lnTo>
                  <a:pt x="536" y="128"/>
                </a:lnTo>
                <a:lnTo>
                  <a:pt x="560" y="144"/>
                </a:lnTo>
                <a:lnTo>
                  <a:pt x="592" y="152"/>
                </a:lnTo>
                <a:lnTo>
                  <a:pt x="672" y="160"/>
                </a:lnTo>
                <a:lnTo>
                  <a:pt x="720" y="168"/>
                </a:lnTo>
                <a:lnTo>
                  <a:pt x="768" y="176"/>
                </a:lnTo>
                <a:lnTo>
                  <a:pt x="816" y="184"/>
                </a:lnTo>
                <a:lnTo>
                  <a:pt x="840" y="184"/>
                </a:lnTo>
                <a:lnTo>
                  <a:pt x="864" y="184"/>
                </a:lnTo>
                <a:lnTo>
                  <a:pt x="888" y="184"/>
                </a:lnTo>
                <a:lnTo>
                  <a:pt x="912" y="184"/>
                </a:lnTo>
                <a:lnTo>
                  <a:pt x="936" y="184"/>
                </a:lnTo>
                <a:lnTo>
                  <a:pt x="960" y="184"/>
                </a:lnTo>
                <a:lnTo>
                  <a:pt x="992" y="184"/>
                </a:lnTo>
                <a:lnTo>
                  <a:pt x="1016" y="184"/>
                </a:lnTo>
                <a:lnTo>
                  <a:pt x="1040" y="184"/>
                </a:lnTo>
                <a:lnTo>
                  <a:pt x="1064" y="184"/>
                </a:lnTo>
                <a:lnTo>
                  <a:pt x="1096" y="184"/>
                </a:lnTo>
                <a:lnTo>
                  <a:pt x="1120" y="176"/>
                </a:lnTo>
                <a:lnTo>
                  <a:pt x="1144" y="168"/>
                </a:lnTo>
                <a:lnTo>
                  <a:pt x="1168" y="168"/>
                </a:lnTo>
                <a:lnTo>
                  <a:pt x="1192" y="160"/>
                </a:lnTo>
                <a:lnTo>
                  <a:pt x="1216" y="144"/>
                </a:lnTo>
                <a:lnTo>
                  <a:pt x="1240" y="136"/>
                </a:lnTo>
                <a:lnTo>
                  <a:pt x="1264" y="136"/>
                </a:lnTo>
                <a:lnTo>
                  <a:pt x="1288" y="128"/>
                </a:lnTo>
                <a:lnTo>
                  <a:pt x="1312" y="112"/>
                </a:lnTo>
                <a:lnTo>
                  <a:pt x="1336" y="104"/>
                </a:lnTo>
                <a:lnTo>
                  <a:pt x="1360" y="88"/>
                </a:lnTo>
                <a:lnTo>
                  <a:pt x="1384" y="80"/>
                </a:lnTo>
                <a:lnTo>
                  <a:pt x="1408" y="72"/>
                </a:lnTo>
                <a:lnTo>
                  <a:pt x="1432" y="48"/>
                </a:lnTo>
                <a:lnTo>
                  <a:pt x="1440" y="208"/>
                </a:lnTo>
                <a:lnTo>
                  <a:pt x="1296" y="256"/>
                </a:lnTo>
                <a:lnTo>
                  <a:pt x="1272" y="272"/>
                </a:lnTo>
                <a:lnTo>
                  <a:pt x="1248" y="288"/>
                </a:lnTo>
                <a:lnTo>
                  <a:pt x="1224" y="296"/>
                </a:lnTo>
                <a:lnTo>
                  <a:pt x="1200" y="304"/>
                </a:lnTo>
                <a:lnTo>
                  <a:pt x="1176" y="304"/>
                </a:lnTo>
                <a:lnTo>
                  <a:pt x="1152" y="304"/>
                </a:lnTo>
                <a:lnTo>
                  <a:pt x="1128" y="320"/>
                </a:lnTo>
                <a:lnTo>
                  <a:pt x="1104" y="320"/>
                </a:lnTo>
                <a:lnTo>
                  <a:pt x="1072" y="328"/>
                </a:lnTo>
                <a:lnTo>
                  <a:pt x="1048" y="328"/>
                </a:lnTo>
                <a:lnTo>
                  <a:pt x="1024" y="328"/>
                </a:lnTo>
                <a:lnTo>
                  <a:pt x="1000" y="328"/>
                </a:lnTo>
                <a:lnTo>
                  <a:pt x="976" y="328"/>
                </a:lnTo>
                <a:lnTo>
                  <a:pt x="952" y="328"/>
                </a:lnTo>
                <a:lnTo>
                  <a:pt x="928" y="328"/>
                </a:lnTo>
                <a:lnTo>
                  <a:pt x="904" y="328"/>
                </a:lnTo>
                <a:lnTo>
                  <a:pt x="880" y="328"/>
                </a:lnTo>
                <a:lnTo>
                  <a:pt x="856" y="328"/>
                </a:lnTo>
                <a:lnTo>
                  <a:pt x="832" y="328"/>
                </a:lnTo>
                <a:lnTo>
                  <a:pt x="808" y="328"/>
                </a:lnTo>
                <a:lnTo>
                  <a:pt x="784" y="320"/>
                </a:lnTo>
                <a:lnTo>
                  <a:pt x="760" y="312"/>
                </a:lnTo>
                <a:lnTo>
                  <a:pt x="736" y="304"/>
                </a:lnTo>
                <a:lnTo>
                  <a:pt x="712" y="296"/>
                </a:lnTo>
                <a:lnTo>
                  <a:pt x="688" y="296"/>
                </a:lnTo>
                <a:lnTo>
                  <a:pt x="664" y="288"/>
                </a:lnTo>
                <a:lnTo>
                  <a:pt x="640" y="272"/>
                </a:lnTo>
                <a:lnTo>
                  <a:pt x="616" y="272"/>
                </a:lnTo>
                <a:lnTo>
                  <a:pt x="592" y="272"/>
                </a:lnTo>
                <a:lnTo>
                  <a:pt x="528" y="264"/>
                </a:lnTo>
                <a:lnTo>
                  <a:pt x="480" y="264"/>
                </a:lnTo>
                <a:lnTo>
                  <a:pt x="456" y="248"/>
                </a:lnTo>
                <a:lnTo>
                  <a:pt x="432" y="224"/>
                </a:lnTo>
                <a:lnTo>
                  <a:pt x="408" y="216"/>
                </a:lnTo>
                <a:lnTo>
                  <a:pt x="384" y="208"/>
                </a:lnTo>
                <a:lnTo>
                  <a:pt x="368" y="184"/>
                </a:lnTo>
                <a:lnTo>
                  <a:pt x="344" y="176"/>
                </a:lnTo>
                <a:lnTo>
                  <a:pt x="320" y="168"/>
                </a:lnTo>
                <a:lnTo>
                  <a:pt x="296" y="152"/>
                </a:lnTo>
                <a:lnTo>
                  <a:pt x="272" y="144"/>
                </a:lnTo>
                <a:lnTo>
                  <a:pt x="248" y="144"/>
                </a:lnTo>
                <a:lnTo>
                  <a:pt x="224" y="128"/>
                </a:lnTo>
                <a:lnTo>
                  <a:pt x="200" y="120"/>
                </a:lnTo>
                <a:lnTo>
                  <a:pt x="176" y="120"/>
                </a:lnTo>
                <a:lnTo>
                  <a:pt x="152" y="120"/>
                </a:lnTo>
                <a:lnTo>
                  <a:pt x="128" y="120"/>
                </a:lnTo>
                <a:lnTo>
                  <a:pt x="104" y="120"/>
                </a:lnTo>
                <a:lnTo>
                  <a:pt x="80" y="120"/>
                </a:lnTo>
                <a:lnTo>
                  <a:pt x="56" y="128"/>
                </a:lnTo>
                <a:lnTo>
                  <a:pt x="32" y="144"/>
                </a:lnTo>
                <a:lnTo>
                  <a:pt x="8" y="160"/>
                </a:lnTo>
                <a:lnTo>
                  <a:pt x="0" y="160"/>
                </a:lnTo>
                <a:lnTo>
                  <a:pt x="0" y="136"/>
                </a:lnTo>
                <a:lnTo>
                  <a:pt x="0" y="112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0" y="5259240"/>
            <a:ext cx="1523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162" swAng="5407162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162" swAng="5407162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680000">
            <a:off x="4863960" y="4999320"/>
            <a:ext cx="275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961" swAng="5403961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961" swAng="5403961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943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586728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90560" y="594360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60958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1814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river 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06668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RAIL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828800"/>
            <a:ext cx="2667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133720"/>
            <a:ext cx="228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752480"/>
            <a:ext cx="2514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8680" y="1454040"/>
            <a:ext cx="291960" cy="59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0968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81952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31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0040" y="3587760"/>
            <a:ext cx="368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200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352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309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30456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52720" y="3352680"/>
            <a:ext cx="22860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476760" y="3429000"/>
            <a:ext cx="75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00400"/>
            <a:ext cx="249120" cy="230040"/>
          </a:xfrm>
          <a:custGeom>
            <a:avLst/>
            <a:gdLst/>
            <a:ahLst/>
            <a:rect l="l" t="t" r="r" b="b"/>
            <a:pathLst>
              <a:path w="157" h="145">
                <a:moveTo>
                  <a:pt x="0" y="0"/>
                </a:moveTo>
                <a:lnTo>
                  <a:pt x="48" y="36"/>
                </a:lnTo>
                <a:lnTo>
                  <a:pt x="84" y="36"/>
                </a:lnTo>
                <a:lnTo>
                  <a:pt x="120" y="60"/>
                </a:lnTo>
                <a:lnTo>
                  <a:pt x="156" y="84"/>
                </a:lnTo>
                <a:lnTo>
                  <a:pt x="144" y="96"/>
                </a:lnTo>
                <a:lnTo>
                  <a:pt x="120" y="132"/>
                </a:lnTo>
                <a:lnTo>
                  <a:pt x="84" y="132"/>
                </a:lnTo>
                <a:lnTo>
                  <a:pt x="48" y="132"/>
                </a:lnTo>
                <a:lnTo>
                  <a:pt x="0" y="144"/>
                </a:lnTo>
                <a:lnTo>
                  <a:pt x="12" y="108"/>
                </a:lnTo>
                <a:lnTo>
                  <a:pt x="12" y="72"/>
                </a:lnTo>
                <a:lnTo>
                  <a:pt x="0" y="0"/>
                </a:lnTo>
                <a:lnTo>
                  <a:pt x="36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505320"/>
            <a:ext cx="121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50532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290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2670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H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49568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02920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5627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2200" y="4421160"/>
            <a:ext cx="24379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10552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2760" y="4878360"/>
            <a:ext cx="259020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371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3710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920" y="4649760"/>
            <a:ext cx="22852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257800"/>
            <a:ext cx="53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620000">
            <a:off x="5391360" y="4924800"/>
            <a:ext cx="22860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487692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ou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06668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 MISCELLANEOUS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9051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286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98108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25909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me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98108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13372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9112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51460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78640" y="1930320"/>
            <a:ext cx="558720" cy="330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40044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40044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6292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51460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vo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505320"/>
            <a:ext cx="4953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orize the most common Conventional Signs - it will save you time when map reading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446200" cy="270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9T18:45:38Z</dcterms:created>
  <dc:creator>Valued Customer</dc:creator>
  <dc:description/>
  <dc:language>en-US</dc:language>
  <cp:lastModifiedBy>DND</cp:lastModifiedBy>
  <cp:lastPrinted>1999-01-11T17:42:50Z</cp:lastPrinted>
  <dcterms:modified xsi:type="dcterms:W3CDTF">1999-01-11T17:42:52Z</dcterms:modified>
  <cp:revision>8</cp:revision>
  <dc:subject/>
  <dc:title>No Slide Title</dc:title>
</cp:coreProperties>
</file>