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31E-E756-4FEC-B0F6-65887AF3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CA1-406E-44A7-84BC-588B5FB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FF2-A417-48E8-A2A8-90C1E2BB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F90-ED62-4E6A-A6E3-709D9E10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D33-4300-493F-B62E-C070D95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59D-F42C-4F78-A7AE-05F0F48D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19D6-E168-41EF-85D6-CD715A9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C40-0FB8-4BB1-B094-E0B31F6A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47F-E2A1-4911-9E62-C6709DB8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568-51E4-41AF-9842-0F89555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2FCD-25A6-4FC0-9B4A-7D8F7C9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069A-F71F-4EAD-813A-3C160DE9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52F6-49B2-4658-AD60-DFF7145C0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12Z</dcterms:modified>
  <cp:revision>23</cp:revision>
  <dc:subject/>
  <dc:title>No Slide Title</dc:title>
</cp:coreProperties>
</file>