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CD8F-A31A-4D87-9F73-1EB334B9A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6C8B-0485-4874-8CFA-16109B04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28B6-4687-4C31-B435-31131E3F7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9AA4-90AD-45AC-84F2-C4497648E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95C7-B917-4916-9701-7C0944F8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2CF8-F9CD-48E5-89CA-72F16E66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404A-DE00-4281-8EEB-0A5C273D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529F-6697-42CD-9E69-044C0173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E1FF-A24F-4522-A392-A1CAAB95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F4D4-FEC3-47C8-A22E-E67D96A0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4AB6-66AB-428A-AAAA-C9677CD1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3BFA-CD13-4B56-9E8C-8B80A2F6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0880-259A-473F-9B42-B5BF4B572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762120"/>
            <a:ext cx="468648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4608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aettenschweiler"/>
              </a:rPr>
              <a:t>  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Haettenschweiler"/>
              </a:rPr>
              <a:t>GOOD HYGIEN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228600"/>
            <a:ext cx="32763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Haettenschweiler"/>
              </a:rPr>
              <a:t>rules to…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438280"/>
            <a:ext cx="6096240" cy="77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Take a shower or bat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every other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Wash dirty clothes once a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wee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Trim finger and toe nail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regular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240" y="8737560"/>
            <a:ext cx="674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760" y="8726400"/>
            <a:ext cx="136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6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5880" y="8737560"/>
            <a:ext cx="704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66680" y="762120"/>
            <a:ext cx="468648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4608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aettenschweiler"/>
              </a:rPr>
              <a:t>  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Haettenschweiler"/>
              </a:rPr>
              <a:t>GOOD HYGIEN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32763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Haettenschweiler"/>
              </a:rPr>
              <a:t>rules to…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438280"/>
            <a:ext cx="6096240" cy="63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Use foot powder after eac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ba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Brush and floss your teet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after each me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Shave if requi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240" y="8737560"/>
            <a:ext cx="674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760" y="8726400"/>
            <a:ext cx="136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6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5880" y="8737560"/>
            <a:ext cx="704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0000" y="8763120"/>
            <a:ext cx="136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6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19920" y="876312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cfg5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6400800" cy="84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05T18:06:34Z</cp:lastPrinted>
  <dcterms:modified xsi:type="dcterms:W3CDTF">1999-03-11T14:56:39Z</dcterms:modified>
  <cp:revision>10</cp:revision>
  <dc:subject/>
  <dc:title>No Slide Title</dc:title>
</cp:coreProperties>
</file>