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DB00-C604-4699-A6CE-1D1A9A67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8B7F-6E97-436A-A4B8-8972F00B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B066-B543-43B7-B991-E4E06F1DA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AB2F-024F-4CA7-B9CE-A62A7247A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C65F-A941-422F-BF62-D9E67225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478E-8B53-4C0E-A39B-2EA19039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C63A-3A73-41D2-BB2F-BC7A312C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29A4-613A-490A-A37B-916D2AC9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5BB2-2EAD-4CFB-B7CD-A862FD06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8BC6-CBB3-4192-B223-DE28E283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BC6B-3AA5-47CE-9803-89CDADCD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109B-36DD-4A26-899F-640532B2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58C2-6BBA-4FE9-8031-C01C755B2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INGLE STATION C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words “THIS  I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requency on which you are transmi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all sign of your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all sign of the station cal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invitation to reply (“OVER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15200" y="6553080"/>
            <a:ext cx="182880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 - Mini-Qui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477120"/>
            <a:ext cx="1339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41300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ce the number in the blank provided to indicate the order in which a single station call should be mad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:_____________________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17:11:36Z</dcterms:created>
  <dc:creator>DND</dc:creator>
  <dc:description/>
  <dc:language>en-US</dc:language>
  <cp:lastModifiedBy>dnd</cp:lastModifiedBy>
  <dcterms:modified xsi:type="dcterms:W3CDTF">1999-03-30T17:08:38Z</dcterms:modified>
  <cp:revision>2</cp:revision>
  <dc:subject/>
  <dc:title>   SINGLE STATION CALL Place the number in the blank provided to indicate the order in which a single station call should be made  Name:_____________________.</dc:title>
</cp:coreProperties>
</file>