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AEB-89F7-4B1A-8570-2197EF89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504-B275-4AE9-AA43-20738986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74B-F803-4037-9AAB-3FA72566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916-ECF0-48BD-80B7-AB23340A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727-BF06-4422-A876-FE0410FE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B1B-45EA-496C-A659-94E4B940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A50-A0DF-4437-B84B-F7564043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7561-7309-4905-AD32-049A7EB0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1D5D-8070-40C9-A11F-D728F0BB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AAA-E910-4DE2-A062-E30DD32F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1971-830F-40CE-B4BB-7627589F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28A-FB92-4EA5-8584-55A7A2D5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44FE-444F-44D5-B3EC-E83BCF1AF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EXAMPLE 2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ON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N-PAN-PAN-ALL STATIONS, ALL STATIONS, ALL STATIONS-THIS IS OTTAWA RADIO, OTTAWA RADIO, OTTAWA RADIO-EMERGENCY DESCENT AT OTTAWA AIRPORT-OTTAWA TOWER INSTRUCTS ALL AIRCRAFT THAT ARE BELOW SIX THOUSAND FEET WITHING RANGE OF ONE ZERO MILES OTTAWA VOR LEAVE EAST AND SOUTH SECTORS IMMEDIATELY -THIS IS OTTAWA RADIO-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77320" y="6545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8:27:14Z</dcterms:created>
  <dc:creator>DND</dc:creator>
  <dc:description/>
  <dc:language>en-US</dc:language>
  <cp:lastModifiedBy>dnd</cp:lastModifiedBy>
  <dcterms:modified xsi:type="dcterms:W3CDTF">1999-03-30T18:21:11Z</dcterms:modified>
  <cp:revision>2</cp:revision>
  <dc:subject/>
  <dc:title>URGENCY EXAMPLE 1 AIRCRAFT CALL WARNING OTHER AIRCRAFT</dc:title>
</cp:coreProperties>
</file>