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3E8-619D-42C1-B024-F7999219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345-59EF-45F9-BA5B-F1E115C4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CA5-3B9F-49E9-BB76-0C5B4785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1A8-E0C7-426C-8FFC-E75A8E50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E82-F705-40F2-AD8A-74F9B414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736-2FA6-4AAB-B7DA-1BEDF341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689-BFB7-4378-BA32-103F9F9C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F3C-93B4-4DAB-96DA-A5ED4FF6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446-2B06-40A6-B298-BB508AA5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246-AF64-4601-A925-2B8DAE6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CD8-D1F1-440D-9EC4-0776DCB9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9A5-357C-4186-A773-C4C0D02F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0F84-562E-42D1-9DFC-E9B238A4D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ng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is determined by a grid system of intersecting circles on the earth’s surf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ose running north and south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ridians of Longitu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ose running east and west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s of Longitu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lculating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lines from which coordinates are calc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qua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eat circle on the surface of the earth lying equidistant from the po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ime Meridi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ich is the meridian passing through Greenwich, Englan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360 meridians of longitude which all converge a the true north and south p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e is measured from 0-180 degrees east and west of the Prime Merid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e Meridian is numbered 0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80th meridian is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Date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e is measured in degrees, minutes and seconds.   60’=1º &amp;  60’’=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ongitude" descr=""/>
          <p:cNvPicPr/>
          <p:nvPr/>
        </p:nvPicPr>
        <p:blipFill>
          <a:blip r:embed="rId1"/>
          <a:srcRect l="0" t="5664" r="0" b="0"/>
          <a:stretch/>
        </p:blipFill>
        <p:spPr>
          <a:xfrm>
            <a:off x="1355760" y="1398600"/>
            <a:ext cx="6645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180 parallels of lat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itude is measured from 0 to 90 degrees north or south of the equ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or is numbered 0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itude is also expressed in degrees, minutes and 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of latitude are parallel and are thus referred to as parallels.  Parallels of latitude do not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atitude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6400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ition by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sition of anywhere on earth can be expressed as the intersection of a parallel of latitude and a meridian of longitu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his is done, the latitude is written first, followed by the longitude coordin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 Winnipeg is 49º 5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97º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dnd</cp:lastModifiedBy>
  <dcterms:modified xsi:type="dcterms:W3CDTF">1999-03-30T14:19:38Z</dcterms:modified>
  <cp:revision>15</cp:revision>
  <dc:subject/>
  <dc:title>Navigating Position</dc:title>
</cp:coreProperties>
</file>