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50F-704D-499A-BE1B-C265BBA5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779-667D-474F-A777-17B8110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A9A-135D-408F-B512-0010F2FC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AA4-8915-4EA5-BF6A-C3082EA3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B2F-2AC6-443B-B7BE-FC2DC0D2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266A-B37F-4093-9C01-65ED4BB4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D26-CD8E-4DCE-97CF-AE9098E5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44B-67D2-4CFA-93CC-46E04585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37E-B361-4034-AA09-5081F91F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7C28-8BF0-4BC8-9A01-BC12EBE4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82E-C96F-4AC4-8395-9ABAD1CE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7077-358C-4E5A-B722-5333CA3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C60C-16ED-4C4A-81EE-8EA743CD7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057400"/>
            <a:ext cx="6248520" cy="62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appeal to more than one of the five sens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elp the trainees understand   principles and law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bring realism in the                       classroo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aid the trainees by giving them a pattern, or by helping to form associ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86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ADVANTAGES OF USING AN INSTRUCTIONAL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8680" y="7086600"/>
            <a:ext cx="9874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057400"/>
            <a:ext cx="6553440" cy="56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chool’s Art or Graphic Sec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ther Instructo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ments in Newspapers and Magazines, on Television or in Stor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erence Books and Manual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Imag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53352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URCES OF IDEA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5867280"/>
            <a:ext cx="10555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057400"/>
            <a:ext cx="624852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TUAL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IMUL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CK-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UMAN BE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ICTORIAL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LECTRONIC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6858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INSTRUCTIONAL AI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09480"/>
            <a:ext cx="62485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conjunction with answering the “what is to be taught” question, the chalkboard should display the following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structor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ic and Main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erence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6324480"/>
            <a:ext cx="28958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019920" cy="8001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76880" y="716256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Lt. I.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674360"/>
            <a:ext cx="1417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PO 409.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Lev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795760"/>
            <a:ext cx="4419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he Six 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MTP’s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Confi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Emph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71720" y="716256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1300-13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1698120"/>
            <a:ext cx="31212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Ref: A-CR-CCP-913/PT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Technique of Instruction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0T00:22:15Z</cp:lastPrinted>
  <dcterms:modified xsi:type="dcterms:W3CDTF">1999-03-10T00:24:00Z</dcterms:modified>
  <cp:revision>30</cp:revision>
  <dc:subject/>
  <dc:title>No Slide Title</dc:title>
</cp:coreProperties>
</file>