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EC7-A946-48B7-8357-09D5D55C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E3E-30F9-416C-A609-69BE8DDF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F45-FA12-48A6-9D93-60B96AD8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E4A-3A00-4FFC-8C1F-588E2927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9C19-6951-4CB9-B9FE-E147F976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437-5731-48C8-83FA-3D0A279B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53D5-3EA8-4EB5-9E20-416227C3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55CA-C594-49D6-9A36-9B5A97C3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39D-4B5B-4408-8EFB-B2D6C2D7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D2CD-CB28-4EE9-AAE1-81024E34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862-39EA-4C09-B8CA-780F69B4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265-241F-42A6-A39F-B5BEA946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CA7D-33B4-4325-9522-76A100180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SIG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when threatened by grave or imminent danger o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ware of a threat of grave or imminent d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344016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DAY spoken three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s THI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ll sign of the station in di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81080" y="2971800"/>
          <a:ext cx="52578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971800"/>
                    <a:ext cx="52578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MESSAG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533520" y="380880"/>
            <a:ext cx="11582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2" marL="104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ress signal “MAYDAY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ll sign of station in dist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ure of the distress condition and kind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ance required (i.e. what has happene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ntion of the person in comma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00400" y="4952880"/>
            <a:ext cx="2895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MESSAG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533880" y="1066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iculars of its posi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ersons 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and injuries (if applicabl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information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ht facilitate rescue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ll signal of the st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ist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3530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DAY-MAYDAY-MAY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ZERO MILES SOUTH OF GRAND FALLS AT ONE SEVEN TWO FIVE EAS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THOU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OULS A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SSNA 185 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ATTEMPT CRASH LANDING ON 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-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CEIPT OF A DISTRESS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ll sign of the station in di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s THI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ll sign of the station acknowledging recei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s RECEIVED MAY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124080" y="3962520"/>
          <a:ext cx="2667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962520"/>
                    <a:ext cx="2667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CEIPT OF DISTRESS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GANDER RADIO-GANDER RADIO-GANDER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MAY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NDER RADI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PROCEDURE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the sentences so that they are in the proper order of a distress procedur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ulars of its 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ther information that might facilitate resc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 sign of the station in distress. (o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ess signal 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Y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the distress condition and kind of assistance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ntion of the person in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 sign of station in distress. (Three ti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persons on board and injuries. (If applic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4:33:50Z</dcterms:created>
  <dc:creator>DND</dc:creator>
  <dc:description/>
  <dc:language>en-US</dc:language>
  <cp:lastModifiedBy>dnd</cp:lastModifiedBy>
  <cp:lastPrinted>1999-03-12T19:20:08Z</cp:lastPrinted>
  <dcterms:modified xsi:type="dcterms:W3CDTF">1999-03-30T18:37:02Z</dcterms:modified>
  <cp:revision>12</cp:revision>
  <dc:subject/>
  <dc:title>DISTRESS SIGNAL</dc:title>
</cp:coreProperties>
</file>