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6FC-EEF4-4992-84D5-91572823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AD0-DE29-49BF-93BB-B8D64DC9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6F0-A214-47FD-8CC4-CB27D6DE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E4C-305B-4EF9-85A9-68164288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B18-E45B-4A76-B6EA-FCC399C6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9C7-2DEC-4887-A0BF-14D52054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2E22-9ABE-4BB7-A975-FD68AB49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AA8-CA00-45D4-944D-DDCDB5CF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99D-3BEB-45C9-818D-3A3E73B5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551-4D61-4178-9FA2-EA639DB2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FBF-2B1F-4502-A734-C095A9BC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810-3103-4952-8591-181E98E6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FDD3-955A-43A3-B860-3C5ED3168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LL LESSON H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290988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471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E.E.R.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17680" cy="395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e the movement taught and the reason for teach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level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next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8130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19:07:22Z</dcterms:created>
  <dc:creator>DND</dc:creator>
  <dc:description/>
  <dc:language>en-US</dc:language>
  <cp:lastModifiedBy>DND</cp:lastModifiedBy>
  <cp:lastPrinted>1999-02-09T14:34:26Z</cp:lastPrinted>
  <dcterms:modified xsi:type="dcterms:W3CDTF">1999-03-25T18:01:04Z</dcterms:modified>
  <cp:revision>8</cp:revision>
  <dc:subject/>
  <dc:title>DRILL LESSON HEADINGS</dc:title>
</cp:coreProperties>
</file>