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DA2-42ED-4A9C-9EE6-8B4D11C6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8B99-3090-4F7A-AEAF-C5A95D4A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E98-0FE2-4ED0-8B2B-8CC62867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32C-1F23-4082-B40E-4E9C4ED4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C055-8262-44D6-88B8-3B1BB52D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40DF-908F-4758-92BF-EAD3B01E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2AE-8D0E-4DA7-BFB1-E45D608A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4CD-4857-47C5-8C9C-39A12CBF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3FF-E5F2-4657-9F89-1CE515CA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F527-A04B-45DB-981A-58C71E19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B68-EEB7-42F6-9E4F-639A5E0F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AE4-AA89-4808-A2F2-09B3B7AE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C145-D2EE-4393-A502-5BB23A1A8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4120" y="990720"/>
          <a:ext cx="8002440" cy="91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990720"/>
                    <a:ext cx="8002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447920" y="2057400"/>
          <a:ext cx="5105160" cy="5803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057400"/>
                    <a:ext cx="510516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914400" y="2209680"/>
          <a:ext cx="4722840" cy="5257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209680"/>
                    <a:ext cx="4722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29:37Z</dcterms:modified>
  <cp:revision>12</cp:revision>
  <dc:subject/>
  <dc:title>No Slide Title</dc:title>
</cp:coreProperties>
</file>