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208-2EDC-47F8-8A3A-B6B7916A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894-E51A-450B-8E7D-B59CF206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9C8-F679-4022-AD3B-B69C2307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99A-20EB-491B-B467-117336F7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AAF-D2F6-4E31-A4DE-EC492695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914-B598-4147-87DD-2119CCCF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CF6-D46C-4642-BB6F-EF3ED19C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6F6-C56C-45DC-80C8-009FC409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99C-D8F0-4F41-96BE-CC50949B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987-4AE0-4A19-9C86-FC130D6F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FB2-9628-429E-A6AA-67C932E1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FF98-6BDF-42F7-8B1F-37E9C36B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BD95-D91F-4D08-84F6-25A8F463B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1880" y="876312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5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5943600"/>
            <a:ext cx="3353040" cy="109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FETY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572000"/>
            <a:ext cx="289584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CI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3276720"/>
            <a:ext cx="2514600" cy="109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F-ESTE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1676520"/>
            <a:ext cx="205740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F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7315200"/>
            <a:ext cx="39430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IC PHYSIO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380880"/>
            <a:ext cx="5305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PRIORITY OF NEED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4:28:35Z</dcterms:created>
  <dc:creator>dnd</dc:creator>
  <dc:description/>
  <dc:language>en-US</dc:language>
  <cp:lastModifiedBy>dnd</cp:lastModifiedBy>
  <cp:lastPrinted>1999-01-19T19:08:23Z</cp:lastPrinted>
  <dcterms:modified xsi:type="dcterms:W3CDTF">1999-01-21T14:17:07Z</dcterms:modified>
  <cp:revision>6</cp:revision>
  <dc:subject/>
  <dc:title>No Slide Title</dc:title>
</cp:coreProperties>
</file>