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B29-8134-4353-8093-6B4D96F7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BF9-E398-4BE3-855B-9BAE0D9C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186-7AD0-4608-88F4-2948A82C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D12-9310-40BD-9ADF-288257EC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38F-36EE-4D94-8BA8-AE64955C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8B6-4218-4796-98B3-12054ABD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F417-9577-4E09-B0C8-54083074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25D-666C-4496-8C19-1065894F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32FD-54F6-4551-A36C-AC3BC32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F8A-CE4A-4FAC-AA64-3CACC866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D6B-7E18-46C5-ABA3-E9EBB37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ED2-6682-41C4-981C-CB76F143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484B-82AE-42F3-8CCF-0BE440B0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-flight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563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of a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of map/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of flight lo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NOT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ing of a flight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plan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7162920" cy="514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6200000">
            <a:off x="-1926000" y="2891880"/>
            <a:ext cx="49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light Plan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837640" y="0"/>
            <a:ext cx="1440" cy="678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26080" y="609840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628120" y="2268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ligh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pect the flight 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pect the airspace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 aware of checkpoi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ke route corrections    if necess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2612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2T19:32:52Z</cp:lastPrinted>
  <dcterms:modified xsi:type="dcterms:W3CDTF">1999-03-30T14:15:30Z</dcterms:modified>
  <cp:revision>13</cp:revision>
  <dc:subject/>
  <dc:title>Fuel Systems</dc:title>
</cp:coreProperties>
</file>