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A65-79D5-4063-9382-76AC4FF7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B56-36DB-438D-8DEF-5EE780AD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439C-50D0-4E21-BF18-7778C968F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CD5-9BEE-4521-9F52-FE67FFBE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0E3-F5DA-471C-9AF3-BE9ED78A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DC8-8983-4FC7-9231-D3310EF2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C2E-CB05-4645-984C-DE17A734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938-B740-47CC-80CE-CF1C26A6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A53-2DA8-4191-A928-1B03BB47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D70-DA68-443E-B498-8D7A765E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0868-9B21-4D5E-BD19-8CC61751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464-8CEC-4C2D-BB3C-1F93957F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50DE-65A1-4551-9827-781329E79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EXAMPLE 1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CRAFT CALL WARNING OTHER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-PAN-PAN-CLEVELAND TOWER-THIS IS DE HAVILLAND FOXTROT GOLF FOXTROT ECHO-ADVISE STINSON FOUR NINE ONE NOVEMBER THAT HIS UNDERCARAGE IS DAMAGED-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838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27:14Z</dcterms:created>
  <dc:creator>DND</dc:creator>
  <dc:description/>
  <dc:language>en-US</dc:language>
  <cp:lastModifiedBy>dnd</cp:lastModifiedBy>
  <dcterms:modified xsi:type="dcterms:W3CDTF">1999-03-30T18:21:41Z</dcterms:modified>
  <cp:revision>2</cp:revision>
  <dc:subject/>
  <dc:title>URGENCY EXAMPLE 1 AIRCRAFT CALL WARNING OTHER AIRCRAFT</dc:title>
</cp:coreProperties>
</file>