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1B0-FE0B-4E4F-891F-AC318ACD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046-0001-4D4F-8069-4F865166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21A8-C4AF-4B7F-94B2-E53F8944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7C45-3282-4244-86E0-3C58DEDD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BA1-114C-47C6-BA4E-72F40285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30A-E895-4355-AD72-E80432BC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254F-DD3C-4C99-AAB2-CB797329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AA5-8F3E-4113-8501-A43B7761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3E8-D83B-4E58-82E5-1BB8BA9F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8DE-E455-4B90-A2C9-F1E39742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91E-8965-4280-A2F4-97779140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FF63-39BF-47C5-B02D-8A9A83DA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F33F-4C74-45B7-A48D-536B39515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HREE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280" y="1447920"/>
            <a:ext cx="54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D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CADET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LETIC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IAN LEVEL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O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ERO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IR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0T19:42:52Z</cp:lastPrinted>
  <dcterms:modified xsi:type="dcterms:W3CDTF">1999-02-19T21:22:44Z</dcterms:modified>
  <cp:revision>34</cp:revision>
  <dc:subject/>
  <dc:title>No Slide Title</dc:title>
</cp:coreProperties>
</file>