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583E-703D-4336-877C-8A38BF4C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C41E-9A6F-4EAC-AA08-21B0744E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55CC-D8A2-4995-B188-A1248AFD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336F-F588-4B80-A14A-87DDCEBD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DDB8-5F73-4E69-BFED-2ED15E13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D33-A84A-44AC-9608-E982FA1E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5A67-B753-485A-8C8B-1B6558EF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BD79-35D0-4BCF-BAB1-717152AD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B50E-3FA5-4176-9399-6D4BA8E3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A8BA-7B98-4921-97CB-D7F6250B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44D4-5A32-4FCD-83F9-906ACEBA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5BB9-01BE-4AA0-A7B9-4D2A36E6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4F02-A66F-4B66-ABB3-ED56E6D1F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TEG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“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ral soundness, honesty, freedom from corrupting influence or practices, strictness in the fulfilment of contracts and trustworthiness in discharging responsibilities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19320" y="533520"/>
            <a:ext cx="65991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LITIES OF A LEAD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PECT FOR ONES WOR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PECT FOR OTHER’S PROPERTY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NANCIAL HONESTY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SONAL DIG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880" y="53352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GREDIENTS THAT MAKE UP INTEGRIT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OFFESSIONAL COMPE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ERSONAL DIGN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NSE OF RESPON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19320" y="609480"/>
            <a:ext cx="6599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LITIES OF A LEAD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14:28:35Z</dcterms:created>
  <dc:creator>dnd</dc:creator>
  <dc:description/>
  <dc:language>en-US</dc:language>
  <cp:lastModifiedBy>dnd</cp:lastModifiedBy>
  <cp:lastPrinted>1999-03-09T19:59:39Z</cp:lastPrinted>
  <dcterms:modified xsi:type="dcterms:W3CDTF">1999-03-09T20:02:54Z</dcterms:modified>
  <cp:revision>4</cp:revision>
  <dc:subject/>
  <dc:title>No Slide Title</dc:title>
</cp:coreProperties>
</file>