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A83B-6108-43C8-98D7-08C4783E6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51C7-72FB-4F87-A0B0-AC70D4B7B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2F91-9C8D-464F-8759-C39768EA9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8A7A-73D5-4F69-B09E-80BED1F46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F774-861C-4E97-89C0-21952DEBA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5A40-4232-4828-A98E-616CFAA0E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5B7D-8CCA-49BE-9ADC-9D4DAED83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AE15-F89A-47C2-BBBA-F708AFD1E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378D-54DB-48D5-AD9B-1F4ECE75F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06D3-3488-46C0-A0BF-3BF323F10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8704-B53B-411B-B0BD-6A30E956A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CE31-0DE8-4FB1-8DAC-101BE7138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07700-CB76-4357-B483-0237ABE00D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The Eart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7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sphere" descr=""/>
          <p:cNvPicPr/>
          <p:nvPr/>
        </p:nvPicPr>
        <p:blipFill>
          <a:blip r:embed="rId1"/>
          <a:srcRect l="7592" t="0" r="11411" b="4386"/>
          <a:stretch/>
        </p:blipFill>
        <p:spPr>
          <a:xfrm>
            <a:off x="2057400" y="1447920"/>
            <a:ext cx="5486400" cy="4976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 flipH="1" flipV="1">
            <a:off x="3804120" y="1678320"/>
            <a:ext cx="87840" cy="224280"/>
          </a:xfrm>
          <a:prstGeom prst="line">
            <a:avLst/>
          </a:prstGeom>
          <a:ln w="572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5469120" y="5416920"/>
            <a:ext cx="110880" cy="214200"/>
          </a:xfrm>
          <a:prstGeom prst="line">
            <a:avLst/>
          </a:prstGeom>
          <a:ln w="572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09040" y="1676520"/>
            <a:ext cx="144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n Ax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556680" y="5578560"/>
            <a:ext cx="248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ns in 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terly di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755720" y="137160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th P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55720" y="5486400"/>
            <a:ext cx="16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th P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3429000" y="5257800"/>
            <a:ext cx="1981080" cy="45720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81480" y="1693800"/>
            <a:ext cx="552240" cy="34596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5638320" y="1981080"/>
            <a:ext cx="1143000" cy="358164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3885840" y="1752120"/>
            <a:ext cx="2895480" cy="22860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Magnetic Pol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7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mag2" descr=""/>
          <p:cNvPicPr/>
          <p:nvPr/>
        </p:nvPicPr>
        <p:blipFill>
          <a:blip r:embed="rId1"/>
          <a:srcRect l="11629" t="0" r="16427" b="0"/>
          <a:stretch/>
        </p:blipFill>
        <p:spPr>
          <a:xfrm>
            <a:off x="1523880" y="1425600"/>
            <a:ext cx="6172200" cy="48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Vari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Variat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the angle between the true meridian and the magnetic meridian.  Therefore, in the Northern Hemisphere, variation is the angle between true north and magnetic north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ines drawn on a chart joining places having the same variation are called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sogonic lin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ines drawn on a chart joining places having no variation are called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gonic lin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7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04T23:08:58Z</dcterms:created>
  <dc:creator>RCIS(A)</dc:creator>
  <dc:description/>
  <dc:language>en-US</dc:language>
  <cp:lastModifiedBy>dnd</cp:lastModifiedBy>
  <cp:lastPrinted>1999-03-26T20:28:20Z</cp:lastPrinted>
  <dcterms:modified xsi:type="dcterms:W3CDTF">1999-03-30T14:16:49Z</dcterms:modified>
  <cp:revision>36</cp:revision>
  <dc:subject/>
  <dc:title>Navigating Position</dc:title>
</cp:coreProperties>
</file>