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2C1-1916-4EDE-959B-A445132E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C6A-4DD1-49CA-A661-CFAFE930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170-1007-4B93-A8BD-8A79692C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ABA-A9D9-4C98-900D-78199466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53C-6501-4407-B594-8164405A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5A8-E3BD-44F0-9073-D335EACA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B78-3FA1-49B6-AB3F-69AD2A2D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FAA-0AF3-496C-AF95-95547234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EF3-673E-4250-AEFC-49207869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8DA-D81F-40ED-9159-87770964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0F5-B362-4039-BB19-AFE21080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FB7-9C92-46D3-ABC2-6A68D03A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FBE3-3122-4069-A13B-AE0A9059A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Points of the Compas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ints of the compass divide up a circl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circle has 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6400 m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ints read clock-wise from North (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rdinal Poin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th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/4 cir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th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/2 cir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7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3/4 cir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43480" y="1371600"/>
            <a:ext cx="4243320" cy="428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Points of the Compas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rdinal points are further divided into 12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tters representing North, South, East and West are comb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SE for South East: betw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th and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E for South South Ea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South and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st the card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first then the intermed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37960" y="4952880"/>
          <a:ext cx="37152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4952880"/>
                    <a:ext cx="371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267080" y="1219320"/>
            <a:ext cx="4710240" cy="47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at is Magnetic Declin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293840"/>
            <a:ext cx="3810240" cy="50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ue North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Nor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North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rge magnetic field in the Canadain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ue and Magnetic North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n the same pla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The difference between them is an error that can be corr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correction is called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Declin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60720" y="1827360"/>
            <a:ext cx="4800600" cy="4038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00600" y="1600200"/>
            <a:ext cx="121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ue No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2438280"/>
            <a:ext cx="1066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gnetic No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373392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. John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1600200"/>
            <a:ext cx="1600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angle created by the lines is an error, or the Magnetic Declination for St. John’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Points of the Compass -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343400" y="966960"/>
          <a:ext cx="68580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966960"/>
                    <a:ext cx="6858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014640" y="990720"/>
          <a:ext cx="6397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4640" y="990720"/>
                    <a:ext cx="639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870200" y="2209680"/>
          <a:ext cx="64440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0200" y="2209680"/>
                    <a:ext cx="64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781680" y="5029200"/>
          <a:ext cx="1067040" cy="43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5029200"/>
                    <a:ext cx="10670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1680" y="1219320"/>
          <a:ext cx="569880" cy="90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1219320"/>
                    <a:ext cx="5698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752480" y="4343400"/>
          <a:ext cx="685800" cy="74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52480" y="4343400"/>
                    <a:ext cx="6858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305240" y="5791320"/>
          <a:ext cx="711360" cy="685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05240" y="5791320"/>
                    <a:ext cx="711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7075440" y="3276720"/>
          <a:ext cx="620640" cy="74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75440" y="3276720"/>
                    <a:ext cx="6206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17"/>
          <a:stretch/>
        </p:blipFill>
        <p:spPr>
          <a:xfrm>
            <a:off x="2666880" y="1623960"/>
            <a:ext cx="4114800" cy="4052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9T14:02:26Z</dcterms:created>
  <dc:creator>Valued Customer</dc:creator>
  <dc:description/>
  <dc:language>en-US</dc:language>
  <cp:lastModifiedBy>DND</cp:lastModifiedBy>
  <cp:lastPrinted>1999-01-12T17:49:30Z</cp:lastPrinted>
  <dcterms:modified xsi:type="dcterms:W3CDTF">1999-01-12T17:55:08Z</dcterms:modified>
  <cp:revision>17</cp:revision>
  <dc:subject/>
  <dc:title>The Parts of the Compass</dc:title>
</cp:coreProperties>
</file>