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5DE-7065-4A19-A7DF-88D0DCAF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64B-B52E-49D6-B7C8-503A3686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68D-A6CE-4D58-9E8D-6EE66684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387-95E9-4AFA-B18F-58DE4B28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AD7-3AE5-4838-8CB4-A6C19C03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F84-9C93-45C5-A7CE-32F5B972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03D-A0A6-49C9-8157-0D7F2BD9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DCE-E4F6-48AD-ABDD-34F5C914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A8F-36B4-4993-AE33-8DD95BC1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DFD-6B82-4E60-978C-2C209F16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88D7-8981-47C7-B6F4-235501C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6030-D1E4-4196-B31E-96152547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A6F4-94D4-457B-BADF-729ED673F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11360" y="1905120"/>
          <a:ext cx="6146640" cy="5638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" y="1905120"/>
                    <a:ext cx="6146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48:33Z</dcterms:modified>
  <cp:revision>8</cp:revision>
  <dc:subject/>
  <dc:title>No Slide Title</dc:title>
</cp:coreProperties>
</file>