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DDEA-D061-432B-8F21-1705F3E6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B62-C43F-42F9-84DE-72EBBE25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E62D-A02B-4E3B-BDCA-C385B575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882-8555-4FA9-8E03-5A71D031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41FC-F8C7-4D61-98FD-C9D339D0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786-AF05-4510-AD2D-C8340A8D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2D2C-B640-4FBA-A513-51CFABE6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A95-B414-4EAD-BD76-03B4A3D6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0445-F46F-4752-9217-D0748008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867-0B91-4DBF-8A4D-A519E513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3424-4AE1-4292-80EB-41008DDB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1E3-4D60-4EE0-9D42-8F7816C9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2267-0AEC-42FA-91E8-6B6679864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5200" y="657216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523880"/>
            <a:ext cx="800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TP is a document that contains, in detail, all the instructional objectives on which you must base your train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6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is kept, normally, in the Training Office and there is one for each level of train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6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formation in the CTP must be followed to the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6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TP follows national standards that are identical for every squadron in Canad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3049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COURSE TRAINING PLAN (CTP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5200" y="657216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523880"/>
            <a:ext cx="800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HAPTER 1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- COURSE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HAPTER 2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- COURSE MANAG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HAPTER 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- ASSESSMENT OF CAD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HAPTER 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- PERFORMANCE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81280" y="5562720"/>
            <a:ext cx="187344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09480" y="304920"/>
            <a:ext cx="8001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SCRIPTION OF TRAINING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5200" y="657216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447920"/>
            <a:ext cx="86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PERFORMANCE OBJECTIVE DESCRIBES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FORMANC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QUIRED OF EACH CADET IN ORDER TO PASS A PARTICULAR COURSE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457200"/>
            <a:ext cx="8001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ERFORMANCE OBJECTIVE (PO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5200" y="657216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295280"/>
            <a:ext cx="8534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COURSE IS DIVIDED INTO SEVERAL LESSONS. THESE LESSONS CONTAIN THE MATERIAL THE CADETS MUST KNOW TO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N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M TO PASS THE COURS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 408, FOR EXAMPLE, IS DIVIDED INTO 5 LESS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EO IS IDENTIFIED BY A NUMBER THAT ALWAYS FOLLOWS THE CORRESPONDING PO NUMBER. 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/EO 408.O1 -  IDENTIFY THE PRINCIPL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OF LEADER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3049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NABLING OBJECTIVE (EO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1T21:19:45Z</cp:lastPrinted>
  <dcterms:modified xsi:type="dcterms:W3CDTF">1999-03-11T21:20:18Z</dcterms:modified>
  <cp:revision>36</cp:revision>
  <dc:subject/>
  <dc:title>No Slide Title</dc:title>
</cp:coreProperties>
</file>