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7D4-337F-45BB-A6B8-50240E73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95C-24CE-43C1-B831-1FC53BCB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78A-D9B8-496C-BCBC-A9F32231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921-0E91-423F-966F-30DE4C0C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E12-67D2-48DF-91B3-81A9021E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0721-D47D-4F57-AC1E-D1E457D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625-2B04-42B2-B96D-B33B6DBF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77B-E0E6-4B71-ACDE-829C686B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88F5-F88D-4C8C-AB0D-5FC10104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EAA5-F7CB-49C3-B57A-7EB8539F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36D-F49F-4EBC-AC52-FFE8889D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4FF0-81A2-401D-A53E-1FF5D2D7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698D-45DB-4E10-BD3E-938C2A64A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DAY ALL STATIONS-ALL STATIONS-ALL STATIONS-THIS IS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AT ONE SEVEN FOUR ZERO EASTERN-FOXTROT OSCAR NOVEMBER ROMEO DISTRESS TRAFFIC ENDED-ICE CLEARED-RETURNING GRAND FALLS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04:26Z</dcterms:created>
  <dc:creator>DND</dc:creator>
  <dc:description/>
  <dc:language>en-US</dc:language>
  <cp:lastModifiedBy>dnd</cp:lastModifiedBy>
  <cp:lastPrinted>1999-01-20T18:19:40Z</cp:lastPrinted>
  <dcterms:modified xsi:type="dcterms:W3CDTF">1999-03-30T17:22:16Z</dcterms:modified>
  <cp:revision>4</cp:revision>
  <dc:subject/>
  <dc:title>DISTRESS EXAMPLE </dc:title>
</cp:coreProperties>
</file>