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6B6-0240-4E4D-8182-A3490CC3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E42-1D3B-4255-ADFD-CF5770C1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070-C5B0-43EC-849E-C880744A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128C-8344-4847-8C65-3D808165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14B-9A31-406B-987F-C38A0101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295-98C9-43F7-8AB0-913D486A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D34E-B3F8-43DC-9910-0BA52140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BA4-F1B0-4EB7-8AAF-FB5137C8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074-B920-48DA-B7D2-93CED292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B1F7-9F0A-4B7A-82CA-398E60F8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3C9C-B48A-4A66-BA25-548A8198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4C9-603C-4E77-B52D-A4611081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F604-329B-45F8-9E70-A028D8806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lonce feen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 P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rega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0" y="21337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en on (frequenc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poken word for Urgenc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coding, check text wi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ginator and send correct ver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international expression for a distre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cellation. The aeronautical expression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DISTRESS TRAFFIC ENDED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der that message as not s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poken word for distre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77120"/>
            <a:ext cx="1339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6553080"/>
            <a:ext cx="18288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2 - Mini-Qu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2193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ch the procedural word or phrase with its definition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5:45:02Z</dcterms:created>
  <dc:creator>DND</dc:creator>
  <dc:description/>
  <dc:language>en-US</dc:language>
  <cp:lastModifiedBy>dnd</cp:lastModifiedBy>
  <dcterms:modified xsi:type="dcterms:W3CDTF">1999-03-30T15:39:25Z</dcterms:modified>
  <cp:revision>3</cp:revision>
  <dc:subject/>
  <dc:title>PROCEDURAL WORDS AND        PHRASES Match the procedural word or phrase with its definition. Name:_________</dc:title>
</cp:coreProperties>
</file>