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927-920A-4900-B6F2-C1C17274E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DBF-F2A3-4302-B548-F7EDED06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C4DD-6DD4-46A1-8C70-5268084B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894-13EB-4DFF-B4B8-BA161750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6CB-74F1-4B14-AE4D-612C9F45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C47-0717-42B7-857C-6C1086F4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37D-DDE4-4818-8312-B150C56B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5D7-B831-4E44-98B5-A31CB96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864-C8DA-4E78-830E-1E10C49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34A-CECB-4024-AB6C-4046F97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3CD-750C-4EA4-BD58-ECAFD1C6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2F5-5AA9-41CB-8ED5-00D7D72D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F19F-FDC4-416B-A482-0C8471871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4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Answer ke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3:14:19Z</cp:lastPrinted>
  <dcterms:modified xsi:type="dcterms:W3CDTF">1999-03-09T23:14:56Z</dcterms:modified>
  <cp:revision>34</cp:revision>
  <dc:subject/>
  <dc:title>No Slide Title</dc:title>
</cp:coreProperties>
</file>