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1B1B-D200-4E2E-9815-5CF6F6E8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F93-6651-4027-85DD-43E9814C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BEB1-ABB0-49E7-A9D4-EAC37207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A8A-54EC-410F-9EFD-719A7C5C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5FC-AEE2-449B-8BEA-5C150A2D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602-B571-4DD4-8D4E-E9FDB439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7BF-A983-413F-AE7B-27E3CB8E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B703-8FF0-472F-B45D-0B3C13FE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F913-84BF-4774-856D-36241ED4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A04-1330-4107-97C1-9A173D5B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3B9-936F-4AB8-B49D-8201EF3A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F34-7456-4BDA-BB07-5007EDC2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6D99-DB31-43E8-BB0F-352642708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EXAMPLE 3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CRAFT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-PAN-PAN-THIS IS PIPER GOLF DELTA BRAVO KILO-EXPERIENCING PARTIAL ENGINE FAILURE-WILL LAND-ASSISTANCE NOT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53280" y="6545160"/>
            <a:ext cx="838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8:27:14Z</dcterms:created>
  <dc:creator>DND</dc:creator>
  <dc:description/>
  <dc:language>en-US</dc:language>
  <cp:lastModifiedBy>dnd</cp:lastModifiedBy>
  <dcterms:modified xsi:type="dcterms:W3CDTF">1999-03-30T18:20:06Z</dcterms:modified>
  <cp:revision>2</cp:revision>
  <dc:subject/>
  <dc:title>URGENCY EXAMPLE 1 AIRCRAFT CALL WARNING OTHER AIRCRAFT</dc:title>
</cp:coreProperties>
</file>