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0CA-8F27-4D97-A073-94C90D1D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3728-4F3D-4957-8A0F-52123A1C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E6A-105D-43B3-B567-93050312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1CA-E891-46FF-B36B-D38EA1D1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DCD-E825-44AE-9799-CE7F9FED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1AA-4B4A-47E2-BB99-8667A85A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C82-6DF3-4B74-87EF-8BF80240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CDC-2477-4E93-9152-E97871BE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3F9-E05E-42E6-ADFA-D51132CE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A12-F401-4D94-9974-6B8A72B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215-921F-4400-9A0A-EF5306D4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07A-515E-4022-A7B2-949A8A31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3F64-6C27-444A-BF47-8FB92FB63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 OF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33520" y="2057400"/>
            <a:ext cx="0" cy="228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8610480" y="2057400"/>
            <a:ext cx="0" cy="2286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720" y="297180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80160" y="297180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WN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04960" y="1828800"/>
            <a:ext cx="24382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1160" y="205740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440" y="15508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5080" y="44197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T TRAINING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61880" y="441972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3640" y="1550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RS CHAIN OF COMM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3880" y="1523880"/>
          <a:ext cx="59216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9216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 OF COMMAND N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74760" y="1384200"/>
          <a:ext cx="4943520" cy="43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760" y="1384200"/>
                    <a:ext cx="4943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9:58:43Z</cp:lastPrinted>
  <dcterms:modified xsi:type="dcterms:W3CDTF">1999-02-19T21:11:11Z</dcterms:modified>
  <cp:revision>29</cp:revision>
  <dc:subject/>
  <dc:title>No Slide Title</dc:title>
</cp:coreProperties>
</file>