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5B5-7A6E-4C30-AF7A-C8312954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762-0046-4A8E-A307-083FCED8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6A6-30B3-4D22-B915-DE4E593D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639-C0B3-4F01-ADC6-F6B7BF24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AC0-25A3-4226-8E61-13045FD6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824-9AF8-4780-A91E-88555DEC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DF1-6E2B-4F15-BEDC-DD52A2BC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F9A-592F-4C2A-A66E-58264E69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15B-2171-4181-BD53-F7A1393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996A-01FC-42DE-91AD-8CA9A7D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CF3-0F87-4B52-A214-7F5CEB5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AF2-9D0D-42E9-885B-429ACD4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BF0B-911D-4CC5-9925-F197A03C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2 COMMON EXPEC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GOOD 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KNOW WHAT IS EXPECTED OF TH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RECOGNIZED FOR GOOD      PERFORMA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TREATED WITH DIGN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HAVE OPPORTUNITIES FOR PROMO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45240" y="3900600"/>
            <a:ext cx="2421000" cy="18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2880" y="3962520"/>
            <a:ext cx="1617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d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e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44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2 COMMON EXPEC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1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ENJOY A CERTAIN FREEDO  OF AC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ENGAGE IN SOCIAL ACTIV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RECEIVE AN EXPLANATION FOR CHAN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ASSIGNED STIMULATING WOR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TREATED EQUALLY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HIGH-CON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340000" cy="203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34320" y="4648320"/>
            <a:ext cx="129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pect each other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44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4T13:25:15Z</cp:lastPrinted>
  <dcterms:modified xsi:type="dcterms:W3CDTF">1999-01-14T13:28:28Z</dcterms:modified>
  <cp:revision>5</cp:revision>
  <dc:subject/>
  <dc:title>No Slide Title</dc:title>
</cp:coreProperties>
</file>