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E3E-7C38-40DD-85A1-B06E2C4A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54B-6A93-4EB0-B8F0-7C684CE1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83D2-03DA-42F2-A656-9A293B51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2EF-1D01-4C06-8723-7E00F855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4BB-C80E-452A-882D-A35C9E70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D0C9-BF1E-4750-942C-824A281D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8D3-F676-42FF-B6CA-2A755669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310-A844-497D-8F7B-A21FDD09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557-1A30-4F49-85C8-AC6F05C1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7EA2-D927-4CBA-86F5-BF80E2C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A2E-CE48-45C6-AF1C-EDFF7853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8A6-DCD6-4818-A4BA-DD65DE8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8534-ED45-495C-B642-119FA3352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used PAN 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priority except over di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ons wait 3 minutes after he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further they can 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4080" y="4648320"/>
            <a:ext cx="32004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80880" y="1676520"/>
            <a:ext cx="1089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gency signal “PAN PAN” (three ti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of the station addressed or the wo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“ALL STATIONS” (three ti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s “THIS IS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ntification of the aircra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ture of the urgency cond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tions of the person in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 position, the flight level or the altitude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he heading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ther useful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7162920" y="266688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99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-PAN-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NTO TOWER THIS IS DE HAVIL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XTROT GOLF FOXTROT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 STINSON FOXTROT HOTEL OS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MEO THAT HIS UNDERCARRI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IS DAM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CAL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the sentences so that they are in the proper order of a urgency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other useful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s “THIS I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fication of the aircra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rgency signal “PAN PAN” (Three tim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ture of the urgency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the station addressed or the words “ALL THE STATIONS” (Three tim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ntions of the persons in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position, the flight level or the altitude and the h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communication has priority over urgency communication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5:46:34Z</dcterms:created>
  <dc:creator>DND</dc:creator>
  <dc:description/>
  <dc:language>en-US</dc:language>
  <cp:lastModifiedBy>dnd</cp:lastModifiedBy>
  <cp:lastPrinted>1999-01-19T19:43:16Z</cp:lastPrinted>
  <dcterms:modified xsi:type="dcterms:W3CDTF">1999-03-30T18:37:59Z</dcterms:modified>
  <cp:revision>8</cp:revision>
  <dc:subject/>
  <dc:title>URGENCY SIGNAL</dc:title>
</cp:coreProperties>
</file>