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87C5-8F2A-45A9-9026-907FCE47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876D-3068-420B-8745-55074CBE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4F96-0C2F-4D84-AA33-770640F4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3867-7E7D-42BF-A276-8B2B457C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9EE9-86ED-4BC5-9671-01229574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D47A-D39C-463E-9CAC-0FC8A0C2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6DC-0B2E-43F4-8A24-A5C38EF4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BC4A-1C73-4147-9114-42323F96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6C6C-0155-4BE9-A0A4-E075E61E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FCD-3568-466E-896A-55218182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C05-CF6B-4106-B50F-24B31C2A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4B44-FB68-4B46-8203-4156BE6F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6B8B-29F5-4755-8A89-355F42A7C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CENARI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685800" y="2057400"/>
            <a:ext cx="982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ssna 185 FIUT requests touch and go landing from Toronto t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 tower says 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ssna 185 FIUT radios back asking for confirmation of Toronto towers respo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 tower calls back confirming the respo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13760" y="6553080"/>
            <a:ext cx="18288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 - Mini-Qu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CENARI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609480" y="1752480"/>
            <a:ext cx="9296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 Toronto tower telling them to activate your flight plan at 3:30 p.m. your plane is Cessna 185 FLG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 tower does not receive well and asks you to retransm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retransmit the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 tower activates the flight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3760" y="6553080"/>
            <a:ext cx="18288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 - Mini-Qu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CENARI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762120" y="1600200"/>
            <a:ext cx="9448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ssna 185 FMOA asks Toronto tower for clearance to land on runway 2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 tower asks you to hold three minutes while they che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 tower gives you clearance but says runway 12 then corrects and says runway 2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ccept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13760" y="6553080"/>
            <a:ext cx="18288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 - Mini-Qu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7:45:54Z</dcterms:created>
  <dc:creator>DND</dc:creator>
  <dc:description/>
  <dc:language>en-US</dc:language>
  <cp:lastModifiedBy>dnd</cp:lastModifiedBy>
  <cp:lastPrinted>1999-02-19T19:36:01Z</cp:lastPrinted>
  <dcterms:modified xsi:type="dcterms:W3CDTF">1999-03-30T17:17:48Z</dcterms:modified>
  <cp:revision>4</cp:revision>
  <dc:subject/>
  <dc:title>SCENARIO 1</dc:title>
</cp:coreProperties>
</file>