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C569-235E-44A2-9064-B3214F388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9250-0C98-4C4D-AD24-23C240F37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BA89-1ECA-4D85-BA87-7BE63F808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EF24-5A14-467D-8DD0-C3DB22B40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78F8-D1D9-4B43-A8A1-59901FC5D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9C37-800A-47A1-92B9-1CD7B94B5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F7AB-7444-493A-A9E9-FF80D9CD0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6BFB-E35C-43DB-88A9-F5B478D1D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DEB7-4D80-4535-A9BC-E3E8B135B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3080-23A6-42CA-AF3D-478A7C252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FC6B-772B-4CB6-B304-42E13DF65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9138-75C9-4F5E-9124-34AF0BD02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6381D-8A3E-4D10-8C20-FDE9CCD8EA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3040" y="6572160"/>
            <a:ext cx="873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8880" y="657216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8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026560" y="6572160"/>
            <a:ext cx="914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1676520"/>
            <a:ext cx="4343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UTOCRA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EMOCRA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REE-RE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486400" y="2286000"/>
            <a:ext cx="2712960" cy="3311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09480" y="228600"/>
            <a:ext cx="8153640" cy="1523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THE THREE STYLES OF LEAD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752480" y="2286000"/>
          <a:ext cx="221004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286000"/>
                    <a:ext cx="221004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885840" y="2362320"/>
            <a:ext cx="52578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6600"/>
              </a:buClr>
              <a:buFont typeface="Monotype Sorts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ensure obedienc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ts val="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10000"/>
              </a:lnSpc>
              <a:spcBef>
                <a:spcPts val="700"/>
              </a:spcBef>
              <a:buClr>
                <a:srgbClr val="006600"/>
              </a:buClr>
              <a:buFont typeface="Monotype Sorts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der establishes procedures to be followed;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ts val="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Monotype Sorts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der makes the decision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80880" y="2133720"/>
          <a:ext cx="1357560" cy="259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133720"/>
                    <a:ext cx="1357560" cy="25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457200" y="228600"/>
            <a:ext cx="8153280" cy="1523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AUTOCRATIC APPROA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03040" y="6572160"/>
            <a:ext cx="873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8880" y="657216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8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026560" y="6572160"/>
            <a:ext cx="914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380880" y="2286000"/>
          <a:ext cx="3130560" cy="294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86000"/>
                    <a:ext cx="3130560" cy="29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3809880" y="2209680"/>
            <a:ext cx="5181840" cy="29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buClr>
                <a:srgbClr val="660066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olves group participation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660066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der encourages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olvement;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660066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as and suggestions obtain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ough group discussion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ult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228600"/>
            <a:ext cx="8153280" cy="1523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DEMOCRATIC APPROA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03040" y="6572160"/>
            <a:ext cx="873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8880" y="657216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8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026560" y="6572160"/>
            <a:ext cx="914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57200" y="228600"/>
            <a:ext cx="8153280" cy="1523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FREE-REIN APPROA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3040" y="6572160"/>
            <a:ext cx="873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8880" y="657216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8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026560" y="6572160"/>
            <a:ext cx="914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28600" y="2438280"/>
          <a:ext cx="1905120" cy="256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438280"/>
                    <a:ext cx="1905120" cy="25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2590920" y="2133720"/>
          <a:ext cx="761760" cy="3200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0920" y="2133720"/>
                    <a:ext cx="76176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3657600" y="1981080"/>
            <a:ext cx="5486400" cy="35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cc3300"/>
              </a:buClr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only in certain situation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Clr>
                <a:srgbClr val="cc3300"/>
              </a:buClr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der is a sourc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the group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cc3300"/>
              </a:buClr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der exerts only a minim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ount of control over the group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cc3300"/>
              </a:buClr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ies on the initiative of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up to get things d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03040" y="6572160"/>
            <a:ext cx="873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8880" y="657216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8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026560" y="6572160"/>
            <a:ext cx="914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1676520"/>
            <a:ext cx="861048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UTOCRATIC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sed for hostile and dependant person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EMOCRA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sed for co-operative and team-spirited pers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REE-RE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sed for the individualist and the lon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0880" y="228600"/>
            <a:ext cx="8534520" cy="1752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WHO TO USE THREE STYLES OF LEADERSHIP 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2-22T17:20:33Z</cp:lastPrinted>
  <dcterms:modified xsi:type="dcterms:W3CDTF">1999-03-25T13:58:27Z</dcterms:modified>
  <cp:revision>15</cp:revision>
  <dc:subject/>
  <dc:title>No Slide Title</dc:title>
</cp:coreProperties>
</file>