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D8B-5633-45D7-83F6-D0F15E5C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9EF9-B5B4-4B9D-AF61-57F6335B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FCB-8B43-4AA5-A424-54494C93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55A-1E02-453D-A92B-EBBE4679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167-D29D-4C7F-A1BF-14990CC0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450-8896-4A6A-9179-008D58C8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B043-A50D-4C72-A4CE-801B6DC4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57A-D688-4202-B2B9-AE0BF555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019-45C7-46D8-813A-09ABF91A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63F-6B16-4046-934D-2502AFF7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821-8680-4789-B638-EA43AE43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794-9660-4F45-BE7C-3FD07ACC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4B9A-B639-448D-A3A5-373FA54A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620120" y="2514600"/>
            <a:ext cx="1228680" cy="32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RECTIONS AND RE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ORRECTING THE WORD “CORRECTION” I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SKING FOR SOMETHING TO BE REPEATED THE WORDS “SAY AGAIN”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6545160"/>
            <a:ext cx="135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PETI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SSNA GOLF ALPHA TANGO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Y FOR TAKE OFF ON RUNWAY ZERO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RIGHT TURN OUT-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040" y="6545160"/>
            <a:ext cx="135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4281480"/>
            <a:ext cx="36576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9:15:04Z</dcterms:created>
  <dc:creator>DND</dc:creator>
  <dc:description/>
  <dc:language>en-US</dc:language>
  <cp:lastModifiedBy>dnd</cp:lastModifiedBy>
  <dcterms:modified xsi:type="dcterms:W3CDTF">1999-03-30T18:31:59Z</dcterms:modified>
  <cp:revision>8</cp:revision>
  <dc:subject/>
  <dc:title>REPLYING</dc:title>
</cp:coreProperties>
</file>