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099-35A7-4792-9CD0-7A333B78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8EA-3237-4317-957A-A7DCF667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089-80E4-4BF4-8306-1F0BC7A6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2E0-9F1A-40F8-B3AB-BB644ABC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B05-1F55-4CC0-89AF-99BA24E6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F63-BB94-4A58-BA28-1A4C4E93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F09-7C1A-47F6-A6D5-0A89A6A5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953D-53E3-43E8-BF8C-89D4CE3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2B4-7C33-4197-8D63-068EAED2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BC1-F7BE-4B97-B084-706CC44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A50-D887-4F3C-AF58-5D63013A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3FA-8114-4B88-8495-F181E201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DB96-1278-4DE1-941D-42EA9A440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6572160"/>
            <a:ext cx="1016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33148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enables you to organize your less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enables you to remain faithful to the objecti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use it as an occasional reminder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use it as protection against stage fright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lap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0160"/>
            <a:ext cx="764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ADVANTAGES OF USING A LESS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0T00:51:01Z</cp:lastPrinted>
  <dcterms:modified xsi:type="dcterms:W3CDTF">1999-03-10T00:51:03Z</dcterms:modified>
  <cp:revision>34</cp:revision>
  <dc:subject/>
  <dc:title>No Slide Title</dc:title>
</cp:coreProperties>
</file>