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C08-BD88-4948-9F30-67E0CF85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FCC-C1E0-4DE4-AD8B-65F7CFD8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66A-975E-4A57-B77D-F1B334CB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F03-B9DE-4D77-8D12-AA7EDADB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639-C13A-493C-8FBB-54ECB43D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180-BB8A-4D2A-AF6F-6C542DC2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6C33-0B1F-42AF-BBA8-92F862E8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A72-8C63-4EE9-B617-32BB7C96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1B2-18C7-4E8F-AC19-BF7C5315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B43-6D55-44C9-8E56-CF2CF4A8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2DC-0AFF-43F7-8C2F-1551BE8E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6AE-E874-4C04-8800-2AD65C60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6AD7-A155-4461-A1C0-615074FA3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ix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6-figure grid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ay of pinpointing a fe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id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curate to with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al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-figure GR is used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ther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or 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ame feature in a grid squar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we need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giving a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1903320"/>
            <a:ext cx="2827440" cy="267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ix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05120" y="1295280"/>
            <a:ext cx="4981680" cy="4496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219320"/>
            <a:ext cx="274320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-figure grid reference divides a grid square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squar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Squ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5 bri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you know which one               to go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00400" y="3581280"/>
          <a:ext cx="67464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3581280"/>
                    <a:ext cx="67464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aking A 6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535280" cy="414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1447920"/>
            <a:ext cx="2590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“In the house, and up the stai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971800"/>
            <a:ext cx="22860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#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eas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s nor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Figure GR for Bridge #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13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e of a R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4838760" cy="3795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143000"/>
            <a:ext cx="2895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accurately measure    a six-figure grid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corner of your paper on the landmark, and read off the 10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: 7673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20:14:10Z</dcterms:created>
  <dc:creator>DND</dc:creator>
  <dc:description/>
  <dc:language>en-US</dc:language>
  <cp:lastModifiedBy>DND</cp:lastModifiedBy>
  <dcterms:modified xsi:type="dcterms:W3CDTF">1999-01-19T20:15:06Z</dcterms:modified>
  <cp:revision>1</cp:revision>
  <dc:subject/>
  <dc:title>The Six-Figure Grid Reference</dc:title>
</cp:coreProperties>
</file>