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C5A-D037-49B7-BDED-B1B81D7B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628-DA5F-4486-B696-CF909382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D5D-0527-46ED-95D0-0F628DAD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93D-2208-4F83-AFA2-A07F3481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E76-5C5A-4361-9CE9-BC024F87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670-B23F-4266-81C7-61C634E2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01B-E6A8-4CC9-9622-90AF2C2A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DA8-E438-4723-9961-DA6A3D28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25B-0998-419F-91CE-AE0A6B0E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5FB8-81D3-4CF5-AB30-9451E27C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1ED-3A24-47DA-943C-48E9B832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98C-29D7-4578-B741-56152DE3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2F00-6787-47B3-881C-BF8CCB4DB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90720" y="1905120"/>
          <a:ext cx="4665600" cy="5943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905120"/>
                    <a:ext cx="466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0:37Z</dcterms:modified>
  <cp:revision>4</cp:revision>
  <dc:subject/>
  <dc:title>No Slide Title</dc:title>
</cp:coreProperties>
</file>