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F4E-2B4B-4D95-A6D2-A3D40E88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A5B-5C86-4C86-BF3E-766131D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904-F64C-4696-B7E6-5C6AF358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E55-826F-4BFC-A4FC-08649BA28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DAE-6195-4305-9CD7-EFB5639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80A-1FAA-4CCB-972F-73013EE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416-60A5-46AF-BD64-550EE61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A8D-7293-45B6-81EB-A85D1C29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B69-C96A-447F-A449-440C892C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657-7FB8-41B4-A587-D669ED07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8983-7237-4127-BA94-AC060BD4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F39-B0B3-4B05-8020-F5386E60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2978-9632-4BC1-BD08-D3030E1BA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atmap" descr=""/>
          <p:cNvPicPr/>
          <p:nvPr/>
        </p:nvPicPr>
        <p:blipFill>
          <a:blip r:embed="rId1"/>
          <a:srcRect l="7521" t="8332" r="33578" b="40006"/>
          <a:stretch/>
        </p:blipFill>
        <p:spPr>
          <a:xfrm>
            <a:off x="0" y="22860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395360"/>
            <a:ext cx="358128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OGRAO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 PH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OAD" descr=""/>
          <p:cNvPicPr/>
          <p:nvPr/>
        </p:nvPicPr>
        <p:blipFill>
          <a:blip r:embed="rId2"/>
          <a:srcRect l="0" t="0" r="17287" b="23334"/>
          <a:stretch/>
        </p:blipFill>
        <p:spPr>
          <a:xfrm>
            <a:off x="5715000" y="2362320"/>
            <a:ext cx="3048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mallmap" descr=""/>
          <p:cNvPicPr/>
          <p:nvPr/>
        </p:nvPicPr>
        <p:blipFill>
          <a:blip r:embed="rId1"/>
          <a:srcRect l="49866" t="0" r="0" b="23749"/>
          <a:stretch/>
        </p:blipFill>
        <p:spPr>
          <a:xfrm>
            <a:off x="6858000" y="380880"/>
            <a:ext cx="2286000" cy="464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990720" y="99072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 the maps properly when not in use. Protect the map sheet from wet and grime by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p board covered with hard plast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tic coating – sheets or spray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stic b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map gets wet, open it fully and dry it at the first opport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d the map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ver fully open a map where the wind can catc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P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480" y="22096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0120" y="2971800"/>
          <a:ext cx="10666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971800"/>
                    <a:ext cx="1066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FOLD A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" descr=""/>
          <p:cNvPicPr/>
          <p:nvPr/>
        </p:nvPicPr>
        <p:blipFill>
          <a:blip r:embed="rId1"/>
          <a:srcRect l="0" t="0" r="935" b="0"/>
          <a:stretch/>
        </p:blipFill>
        <p:spPr>
          <a:xfrm>
            <a:off x="533520" y="1600200"/>
            <a:ext cx="807696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15:47:54Z</dcterms:created>
  <dc:creator>DND</dc:creator>
  <dc:description/>
  <dc:language>en-US</dc:language>
  <cp:lastModifiedBy>DND</cp:lastModifiedBy>
  <cp:lastPrinted>1999-03-01T18:43:40Z</cp:lastPrinted>
  <dcterms:modified xsi:type="dcterms:W3CDTF">1999-03-01T18:44:44Z</dcterms:modified>
  <cp:revision>5</cp:revision>
  <dc:subject/>
  <dc:title>TYPES OF MAPS</dc:title>
</cp:coreProperties>
</file>