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D80E-90F5-471D-9079-0BE7F59CB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0C37-0679-4BD9-9048-B288911A6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FD23-04D3-4D50-97A7-CFDB6F867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DC22-F647-40A3-8CFA-1717F3392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9738-A09E-440B-830C-6A0AE0FB5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2661-4B0C-4F06-B17A-0CC1CAC9C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7502-F1C5-4D08-BBF9-2AE7AEC3A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9C4F-91FE-46E6-A812-CF2FCE48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201A-7AD2-4956-B2D6-18364B230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25EA-1572-4EE1-A0C4-8EA7AFCB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C1C1-9210-48CD-8294-5FB8559F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399D-EC56-4639-AF71-C88C99BD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43003-F576-4DDD-88AE-147A7EF5F0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401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5397480" cy="70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2T15:16:04Z</dcterms:created>
  <dc:creator>DND</dc:creator>
  <dc:description/>
  <dc:language>en-US</dc:language>
  <cp:lastModifiedBy>Jamie Richards</cp:lastModifiedBy>
  <cp:lastPrinted>1999-01-12T15:16:38Z</cp:lastPrinted>
  <dcterms:modified xsi:type="dcterms:W3CDTF">1999-04-25T23:11:04Z</dcterms:modified>
  <cp:revision>1</cp:revision>
  <dc:subject/>
  <dc:title>No Slide Title</dc:title>
</cp:coreProperties>
</file>