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C06-6C86-48D5-8796-EC3CB016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4C7-4D02-47EF-AD75-25D6789F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F0A-4733-44D8-A0A7-1B1082C3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3BF-3C3A-460A-9504-F1183A79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42AE-FA4E-42BE-9846-0E30020E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01C1-7D6D-47DB-8271-BBF88E6D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8576-82F1-46A7-9D2E-65BA87D0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D84-E859-4CFC-9805-85DA1C84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03C-2825-477A-99DD-6CD7375C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04C0-5974-48C0-A159-7E5D398F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F8D-CDF7-468F-9CA8-1F19398A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E034-51D1-4D35-8462-0AA586CE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B239-F11E-4B2D-B33F-D856F8AB4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335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ng Flank - Advancing in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7524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7521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8288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9807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1333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9047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9047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6668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6665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7432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8951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0477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8191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8191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5049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5049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5053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581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7339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8858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6576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6572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4193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419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4197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4956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6483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8002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5720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5716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337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337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3341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4100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5627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714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4864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4860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171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172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248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400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324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324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7712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1828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symbols5" descr=""/>
          <p:cNvPicPr/>
          <p:nvPr/>
        </p:nvPicPr>
        <p:blipFill>
          <a:blip r:embed="rId1"/>
          <a:srcRect l="10393" t="0" r="72858" b="12051"/>
          <a:stretch/>
        </p:blipFill>
        <p:spPr>
          <a:xfrm>
            <a:off x="4038480" y="5029200"/>
            <a:ext cx="501840" cy="990720"/>
          </a:xfrm>
          <a:prstGeom prst="rect">
            <a:avLst/>
          </a:prstGeom>
          <a:ln w="0">
            <a:noFill/>
          </a:ln>
        </p:spPr>
      </p:pic>
      <p:pic>
        <p:nvPicPr>
          <p:cNvPr id="164" name="symbols4" descr=""/>
          <p:cNvPicPr/>
          <p:nvPr/>
        </p:nvPicPr>
        <p:blipFill>
          <a:blip r:embed="rId2"/>
          <a:srcRect l="19145" t="7718" r="64287" b="12051"/>
          <a:stretch/>
        </p:blipFill>
        <p:spPr>
          <a:xfrm>
            <a:off x="3962520" y="1371600"/>
            <a:ext cx="500040" cy="914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2120" y="2666880"/>
            <a:ext cx="0" cy="221004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5335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ng Flank - Retiring in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7524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7521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8288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9807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1333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047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9047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6668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6665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7432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8951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0477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8191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8191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5049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49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5053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581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7339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8858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6576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6572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4193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419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4197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4956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6483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8002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5716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3337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3337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3341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4100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5627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714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4864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4860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171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172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248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400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6324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324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43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48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67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647712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00800" y="1828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962520" y="5105520"/>
          <a:ext cx="6379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5105520"/>
                    <a:ext cx="6379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886200" y="1295280"/>
          <a:ext cx="65232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295280"/>
                    <a:ext cx="6523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 flipH="1" flipV="1">
            <a:off x="762120" y="2666520"/>
            <a:ext cx="1440" cy="221004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838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ing Flank when Moving to the Right in Th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524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053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7524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7521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8288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9807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21333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9047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9047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6668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6665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7432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8951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0477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8191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8191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5049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5049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5053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581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37339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8858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6576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6572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4193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419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4197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4956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6483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8002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5720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5716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53337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3337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3341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4100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5627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714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54864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4860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171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6172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248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400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6324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6324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43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248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28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410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6708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7010280" y="2895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symbols5" descr=""/>
          <p:cNvPicPr/>
          <p:nvPr/>
        </p:nvPicPr>
        <p:blipFill>
          <a:blip r:embed="rId1"/>
          <a:srcRect l="13571" t="11776" r="0" b="67750"/>
          <a:stretch/>
        </p:blipFill>
        <p:spPr>
          <a:xfrm flipH="1">
            <a:off x="3962520" y="5257800"/>
            <a:ext cx="914400" cy="480960"/>
          </a:xfrm>
          <a:prstGeom prst="rect">
            <a:avLst/>
          </a:prstGeom>
          <a:ln w="0">
            <a:noFill/>
          </a:ln>
        </p:spPr>
      </p:pic>
      <p:pic>
        <p:nvPicPr>
          <p:cNvPr id="416" name="symbols4" descr=""/>
          <p:cNvPicPr/>
          <p:nvPr/>
        </p:nvPicPr>
        <p:blipFill>
          <a:blip r:embed="rId2"/>
          <a:srcRect l="1429" t="37860" r="66572" b="15085"/>
          <a:stretch/>
        </p:blipFill>
        <p:spPr>
          <a:xfrm>
            <a:off x="3886200" y="1676520"/>
            <a:ext cx="914400" cy="5061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 flipH="1">
            <a:off x="5638320" y="5791320"/>
            <a:ext cx="221004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3520" y="838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ing Flank when Moving to the Left in Th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524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7524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7524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668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197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41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17524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7521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8288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9807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1333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19047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19047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6668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6665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7432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8951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30477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8191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8191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5049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35049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35053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3581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37339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8858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6576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36572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44193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419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44197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4956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46483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8002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45720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5716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53337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53337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53341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54100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5627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714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54864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54860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6171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6172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248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6400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6324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6324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43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248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828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410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6708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26708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7010280" y="2895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35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3505320" y="5257800"/>
          <a:ext cx="106668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5257800"/>
                    <a:ext cx="10666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3429000" y="1447920"/>
          <a:ext cx="990720" cy="6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1447920"/>
                    <a:ext cx="9907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 flipV="1">
            <a:off x="5867280" y="5638320"/>
            <a:ext cx="221004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66880" y="21337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752480" y="21337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21337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19720" y="21337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34120" y="21337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1337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52480" y="29718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752480" y="3809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66880" y="29718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3809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05320" y="29718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05320" y="3809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419720" y="29718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19720" y="3809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34120" y="29718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334120" y="3809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172200" y="29718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172200" y="3809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1752480" y="2133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1752120" y="2133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1752120" y="2133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182880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1980720" y="2286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213336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666880" y="21337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1904760" y="2286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190476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666880" y="21337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2666880" y="2133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666520" y="2133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666520" y="2133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74320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2895120" y="2286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04776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2819160" y="2286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81916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505320" y="21337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504960" y="2133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504960" y="2133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505320" y="2133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58128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733920" y="22860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88584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365760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365724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419720" y="21337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419360" y="2133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419360" y="2133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419720" y="2133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49568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4648320" y="22860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480024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457200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457164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334120" y="21337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5333760" y="2133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5333760" y="2133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5334120" y="2133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541008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562720" y="22860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71464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548640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48604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72200" y="213372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6172200" y="2133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171840" y="2133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6172200" y="2133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624852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6400440" y="2286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6553080" y="2438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632448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632412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051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81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1337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3809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7432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8954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9718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481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4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505320" y="3809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581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6576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339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8862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625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419720" y="3809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956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6483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006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8769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172200" y="3809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2485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3244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4008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4771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553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6294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8288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334120" y="3809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410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864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5627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6386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715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7913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67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1T15:23:34Z</dcterms:created>
  <dc:creator>DND</dc:creator>
  <dc:description/>
  <dc:language>en-US</dc:language>
  <cp:lastModifiedBy>DND</cp:lastModifiedBy>
  <cp:lastPrinted>1999-03-25T14:15:50Z</cp:lastPrinted>
  <dcterms:modified xsi:type="dcterms:W3CDTF">1999-03-25T17:59:38Z</dcterms:modified>
  <cp:revision>21</cp:revision>
  <dc:subject/>
  <dc:title>No Slide Title</dc:title>
</cp:coreProperties>
</file>