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86D-A8F2-40FF-A2D0-0CE5DDF5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C84-3CF0-4D3E-8812-FEC80CF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91A-1491-4EC2-8DD4-B0CB0201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DAC-80DC-425B-A238-98992307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716-4268-4F8E-81B7-0881AA0C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AA7-B24F-4076-B319-E0919D9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A54-1C8E-48BB-8BC7-DC449F31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F5C-1AF1-41FE-B080-47BE328D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BB3-C0F9-4936-89DA-99BDDF4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DD1A-D44C-49CA-8024-388E846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D14D-9225-4B26-99A5-552F517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B7C-05BB-42F8-8215-072B7E78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8F9A-9483-42B2-99DA-1E2A21783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771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62920" y="4724280"/>
          <a:ext cx="12589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258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33720" y="4648320"/>
          <a:ext cx="13111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648320"/>
                    <a:ext cx="13111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3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4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533520" y="1066680"/>
            <a:ext cx="1508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5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838080" y="1143000"/>
            <a:ext cx="1219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6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90720"/>
            <a:ext cx="914400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3429000"/>
          <a:ext cx="251460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25146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7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8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19T18:23:46Z</cp:lastPrinted>
  <dcterms:modified xsi:type="dcterms:W3CDTF">1999-03-30T17:05:18Z</dcterms:modified>
  <cp:revision>8</cp:revision>
  <dc:subject/>
  <dc:title>PROCEDURAL WORDS &amp; PHRASES</dc:title>
</cp:coreProperties>
</file>