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C43-1D4C-4808-B743-5192DB04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8C7-F242-4BE9-8922-50D137C8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B29-37BB-4DAB-9A2A-DC313656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F98-456B-4CFE-A508-DA564D89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FAB-FFF2-45DD-8166-090BBD74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EE6C-7FFE-442F-8010-3A02A28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9B6-084C-47AB-84A1-487FE31C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597-E749-49E1-91AD-F5FC6E2E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619-9D42-4BF8-A33F-4C1B0228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B63-9664-47A9-9F06-A0385156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E12-C616-4452-9A2D-182EC09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106-CA24-4944-8905-D3B9F5F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B476-C337-4D70-A744-230710D15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REE R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3880"/>
            <a:ext cx="4496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048120"/>
            <a:ext cx="4496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572000"/>
            <a:ext cx="4496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38080" y="1523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837720" y="1523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523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9140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5235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7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23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5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767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809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858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14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0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716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800600" y="1752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05160" y="2057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1464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9096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9096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0280" y="1752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3276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4800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NEL POSITION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191120"/>
            <a:ext cx="457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5334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905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Comm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1371600" y="2743200"/>
            <a:ext cx="501480" cy="990720"/>
          </a:xfrm>
          <a:prstGeom prst="rect">
            <a:avLst/>
          </a:prstGeom>
          <a:ln w="0">
            <a:noFill/>
          </a:ln>
        </p:spPr>
      </p:pic>
      <p:pic>
        <p:nvPicPr>
          <p:cNvPr id="101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1371600" y="1447920"/>
            <a:ext cx="5414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2133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81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5181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576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053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12372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3962520" y="533412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232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3962520" y="1219320"/>
            <a:ext cx="4521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COLUMN OF TH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288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8284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8288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051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0570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2096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9810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9807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43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742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743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19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971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124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95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89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5812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5809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5809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6576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8095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9621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335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7335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4956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4953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4953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720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239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8765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6479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6479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4100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4097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097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864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6383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909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5623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2481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2481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2485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3244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4771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6290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8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4004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12408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5181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7339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2000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34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43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4114800" y="556272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367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4114800" y="1332000"/>
            <a:ext cx="990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8288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8284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288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9051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0570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2096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9810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743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742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743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819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971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124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895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89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5809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809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6576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8095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9621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7335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5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4956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4953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4953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5720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7239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765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6479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6479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4100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4097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4097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4864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6383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909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5623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2481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2481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2485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3244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4771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6290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4008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004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2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67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288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8080" y="4038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5029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838080" y="5181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816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50292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01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7813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2468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533160" y="3429000"/>
            <a:ext cx="990360" cy="520560"/>
          </a:xfrm>
          <a:prstGeom prst="rect">
            <a:avLst/>
          </a:prstGeom>
          <a:ln w="0">
            <a:noFill/>
          </a:ln>
        </p:spPr>
      </p:pic>
      <p:pic>
        <p:nvPicPr>
          <p:cNvPr id="502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7391520" y="3429000"/>
            <a:ext cx="990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71800" y="1143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52480" y="1295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COLUMN OF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0512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COLUMN OF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1-11T17:54:44Z</cp:lastPrinted>
  <dcterms:modified xsi:type="dcterms:W3CDTF">1999-03-25T17:58:52Z</dcterms:modified>
  <cp:revision>17</cp:revision>
  <dc:subject/>
  <dc:title>No Slide Title</dc:title>
</cp:coreProperties>
</file>