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309-D59F-4F7C-B37B-F5B785BB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BE5-C7D3-4C76-B945-334AC964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70B-7DE8-461C-8F44-3C2B780A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475-28A8-4C89-B24B-8B054D64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9AD-7967-4C1F-AB1E-5F5CEA45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5D82-3DA7-4803-B812-84C836B8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82B-156D-49E9-9856-867F5DF9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306-F489-4C74-950A-49C80B95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F95-9F56-473D-BF2E-2E4172EF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CA5-97D3-45A1-9E43-A58F5FE8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E2B-D6A9-4F59-8657-1C9D79E3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7EB4-E8C4-451F-BC38-CB495273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1447-C58D-4177-8F85-68902DB2B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65452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ead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120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13T15:20:17Z</dcterms:modified>
  <cp:revision>6</cp:revision>
  <dc:subject/>
  <dc:title>No Slide Title</dc:title>
</cp:coreProperties>
</file>