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F9C-D249-4ACD-B3DC-ED479E7E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2A2-99C4-4CE9-888E-7DB520B9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379-B1DC-4DFF-89FE-22B1BC05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CA8-A72F-4E06-A046-34960A2B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12F-1087-4D2F-821B-97B7BBA9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2018-4D72-45E2-9219-9B7DCBE5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46D-9ED9-4201-9A30-89262617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7F7C-9CA6-4D10-BB91-B2545412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266-361C-422A-A674-2F1EB554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58F-3A84-4FBA-A3A0-E571C95A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1FA8-C419-4AEC-8003-2518E5B1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B52-3DA7-4251-8CCF-7BCE91A0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1FF1-BA7D-46BA-AF68-A50B25534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-HOUR SYSTEM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:45 a.m. - 00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:00 noon - 1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:45 p.m. - 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:00 midnight - 2400 or 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2279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ADIOTELEPHONE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LL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KNOWLEDGEMENT OR 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6095880" y="2514600"/>
            <a:ext cx="2210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ADIO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1402200" y="1752480"/>
            <a:ext cx="11002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hout into the microph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 distance of 12 cm between the lips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phone when transmit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ane or obscene language is strictly prohibi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slang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486400" y="4343400"/>
          <a:ext cx="259092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4343400"/>
                    <a:ext cx="259092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13:10:36Z</dcterms:created>
  <dc:creator>DND</dc:creator>
  <dc:description/>
  <dc:language>en-US</dc:language>
  <cp:lastModifiedBy>dnd</cp:lastModifiedBy>
  <cp:lastPrinted>1999-01-19T19:48:30Z</cp:lastPrinted>
  <dcterms:modified xsi:type="dcterms:W3CDTF">1999-03-30T18:33:54Z</dcterms:modified>
  <cp:revision>6</cp:revision>
  <dc:subject/>
  <dc:title>TIME AND DATE</dc:title>
</cp:coreProperties>
</file>