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5DD2-C426-4E00-A43E-6F90E214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AB29-1B18-45E4-A1FF-202B4583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9B14-6EA3-4FC3-ADEC-FD3BD256E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7AAA-1F05-4663-A588-AEED07B20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8668-3C28-4F48-BC4C-0AB82801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0BD7-62D1-4DFA-8576-AF5D18E4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413F-0147-4468-BD3B-16EF7F63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EE4C-BDC3-4C82-8490-5C150722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8CB6-6082-4012-860C-433B2F99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AD24-4540-4CC0-9D8D-497B9AFA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D02C-EBE1-4F02-A100-119C789F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1C19-9542-47A4-A472-60F5B8D6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C820-ACE4-4257-B462-8ECCC3BBE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MPASS BEA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41911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ss bea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dir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measure bearings u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ees (36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r mils (640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rings are 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asu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ockwi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ero lin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gnetic decli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your area must be s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your compas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ing a bear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8077320" y="2514600"/>
          <a:ext cx="60948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2514600"/>
                    <a:ext cx="6094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5740560" y="1854360"/>
            <a:ext cx="1168200" cy="10918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13716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362320"/>
            <a:ext cx="91440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91320" y="990720"/>
            <a:ext cx="1066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62920" y="2743200"/>
            <a:ext cx="7596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7086240" y="2895480"/>
            <a:ext cx="15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6248520" y="1371240"/>
            <a:ext cx="7596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6324480" y="1371240"/>
            <a:ext cx="7632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752480"/>
            <a:ext cx="914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2971800"/>
            <a:ext cx="1219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EA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557600" y="4419720"/>
            <a:ext cx="4272120" cy="1471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TEPS IN TAKING A COMPASS BEA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4956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Open the cover of the compass to about 50-7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Place the safety cord around your neck. Extend your arm and hold the compass flat at eye le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Face the object. Use the sighting line in your compass to ensure that you keep all the parts in a straight 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791320" y="1633680"/>
            <a:ext cx="1852560" cy="4087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TEPS IN TAKING A COMPASS BEARING (cont’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4800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 Turn the compass dial until the red end of the magnetic needle is inside the orienting a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 not look at the compass dial - look at its reflection in the mirr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 Open the cover and look at the number next to the luminous index pointer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 This number is you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ss bea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!  You are ready to start hiking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856120" y="1981080"/>
          <a:ext cx="274176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6120" y="1981080"/>
                    <a:ext cx="274176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FOLLOWING A GIVEN BEA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419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Turn the compass dial until the bearing appears opposite the luminous index poin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 Place the safety cord around your neck and raise the compass to eye lev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 Turn your body until the red end of the magnetic needle is lined up with the orienting arr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 Look through the sight and select an object in your  pa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 Close the compass and hike to the object.  When you reach it, choose a new landmark and repeat the ste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195880" y="1341360"/>
            <a:ext cx="3489480" cy="4754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BACKBEA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bearings are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posite rea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 compass bea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take a backbea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Read the number opposite the luminous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Turn the dial so that this number now appears at the luminous index po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This new bearing will take you back to where you sta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410080" y="1219320"/>
          <a:ext cx="28958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1219320"/>
                    <a:ext cx="28958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6477120" y="2971800"/>
            <a:ext cx="1295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. John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1905120"/>
            <a:ext cx="1676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deric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5880" y="1523880"/>
            <a:ext cx="114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lif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14T14:31:16Z</dcterms:created>
  <dc:creator>Valued Customer</dc:creator>
  <dc:description/>
  <dc:language>en-US</dc:language>
  <cp:lastModifiedBy>DND</cp:lastModifiedBy>
  <cp:lastPrinted>1999-01-12T19:54:28Z</cp:lastPrinted>
  <dcterms:modified xsi:type="dcterms:W3CDTF">1999-03-12T18:26:32Z</dcterms:modified>
  <cp:revision>13</cp:revision>
  <dc:subject/>
  <dc:title>No Slide Title</dc:title>
</cp:coreProperties>
</file>