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0BD-6EB3-4F9D-B4C5-BDA12A39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20FA-7F9B-49BE-927B-1B5D9E0F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DCC-A6C1-4DD4-A433-B7E76E33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618-DD70-4661-BA50-5F670177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422-A39C-41E8-BC46-9C351F57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04F-BCE6-4E4D-8CD3-A747C5FB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7CB-2166-421C-BC84-B67CC835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60CE-20C8-4589-A37A-9A631CE3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6C5F-87EA-44A2-BCBE-75EE4C4B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BE1C-8549-4293-BAF1-356B7E9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8A64-72F6-4076-8717-C32CD60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9AF-3700-44A5-A395-76494F1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7EA9-9768-4B9B-A76D-DDC71DC76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72400" y="198108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 Answer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1440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95680" y="4876920"/>
          <a:ext cx="53352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876920"/>
                    <a:ext cx="53352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33920" y="2286000"/>
          <a:ext cx="82692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0"/>
                    <a:ext cx="826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4920" y="5334120"/>
          <a:ext cx="44424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34120"/>
                    <a:ext cx="4442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772400" y="1752480"/>
          <a:ext cx="838080" cy="243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1752480"/>
                    <a:ext cx="8380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429000"/>
            <a:ext cx="39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5196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35196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196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1337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0:56:30Z</dcterms:created>
  <dc:creator>dnd</dc:creator>
  <dc:description/>
  <dc:language>en-US</dc:language>
  <cp:lastModifiedBy>dnd</cp:lastModifiedBy>
  <dcterms:modified xsi:type="dcterms:W3CDTF">1999-02-24T19:29:48Z</dcterms:modified>
  <cp:revision>2</cp:revision>
  <dc:subject/>
  <dc:title>No Slide Title</dc:title>
</cp:coreProperties>
</file>