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A866-54AE-4F37-A373-517792209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9F13-8C22-4CCD-BBC6-C5B3DCE84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E67D-D115-4499-A556-8629AC604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DC3A-A929-4DE4-B5E5-0C7343B76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6DC6-7056-43C4-BB8D-B2B18B029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6317-F6B2-4714-9DCF-02BCD2AC7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2FF3-BF9A-4A28-B951-68B805DF3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1E88-E7D4-4FB0-8592-DF2687BAD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106A-1E72-4DEE-A963-CA4B19E69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00FC-5872-43C0-AE6A-3A6DB0CA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BA70-90F8-4685-BA93-8EE7FE5F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0090-019F-4285-B40D-09208359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895FA-C9AB-4DCF-A96E-86BE35B884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DISTRESS EXAMPLE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TION RE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XTROT OSCAR NOVEMBER ROMEO-FOXTROT OSCAR NOVEMBER ROMEO-FOXTROT OSCAR NOVEMBER ROMEO-THIS IS GANDER RADIO-GANDER RADIO-GANDER RADIO-ROGER MAYDAY GANDER RADIO 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153280" y="6545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ndout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0T18:04:26Z</dcterms:created>
  <dc:creator>DND</dc:creator>
  <dc:description/>
  <dc:language>en-US</dc:language>
  <cp:lastModifiedBy>dnd</cp:lastModifiedBy>
  <cp:lastPrinted>1999-01-20T18:19:40Z</cp:lastPrinted>
  <dcterms:modified xsi:type="dcterms:W3CDTF">1999-03-30T17:22:02Z</dcterms:modified>
  <cp:revision>4</cp:revision>
  <dc:subject/>
  <dc:title>DISTRESS EXAMPLE </dc:title>
</cp:coreProperties>
</file>