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C51-1A6D-4C5F-932F-E6C8056B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5E7-D358-4586-8799-08108582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FB2-13C8-476E-9B53-95D9D517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DF1-B375-4593-B69E-BBAA88D4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F76-7848-4DBC-8972-487E1B40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0CF-72A7-44B5-8121-A7984393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C52-F11D-492F-8A67-C4E0BBCD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F6E-8A36-4664-9857-3A5B2188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8317-0436-4B22-97F1-E6DA69F7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133-4617-4532-865E-DCE4B9BD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B6E1-78D0-4C5E-BAE2-7CB3F5F0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DB7-039D-465F-BB42-A2D8759B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05B7-DD7D-40C9-A698-2DEC110BC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057400"/>
            <a:ext cx="6248520" cy="35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bal support is 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oo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s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rif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hasize;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variety and interes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you are trying to expl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5715000"/>
            <a:ext cx="2819520" cy="2870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3360" y="418320"/>
            <a:ext cx="62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AT IS VERBAL SUPPO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905120"/>
            <a:ext cx="662940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a bridge built by the instructor that bridges the gap between the known and the 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ons are logical explanations that satisfy the question “WHY??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TEM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amp;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quently an instructor must repeat what he/she said for emphasis. One way  to do this to restate it in a different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3360" y="418320"/>
            <a:ext cx="62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YPES OF VERBAL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905120"/>
            <a:ext cx="6477120" cy="60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example is an illustration use to clarify and simplify an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re a systematic compilation of information (usually in numerical form) about some occurrence or thing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estimony is using personal experience or a quotation from a recognized authority to add credibility to what you are teaching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3360" y="418320"/>
            <a:ext cx="62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YPES OF VERBAL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9T22:59:19Z</cp:lastPrinted>
  <dcterms:modified xsi:type="dcterms:W3CDTF">1999-03-09T22:59:36Z</dcterms:modified>
  <cp:revision>22</cp:revision>
  <dc:subject/>
  <dc:title>No Slide Title</dc:title>
</cp:coreProperties>
</file>