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AAA-8998-460B-A720-4F861CF5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B58-D84D-4455-80BE-16FD1295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5723-5AE3-4065-82A4-0A79C413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59E-362A-4EE9-8D5E-8DD9EA73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191-D0D5-4B61-93DA-8535035F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252-D72B-4606-9440-71FD6743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245-7D4F-4B91-8137-1CE06030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BC1-5EFC-438C-BE74-387AB03C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59ED-0138-45AE-BD18-8D6F4C0C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A676-1D03-42AD-A59C-244A401A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BFC-63F3-4042-BB8D-14DB7F64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EF6-02F3-4B98-91E0-0EEB606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52A3-FF47-4AC8-98FA-D5C84B49C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3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Answer Key  - Order Giving Proc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3505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3809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4419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24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286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2895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200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2895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200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3505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590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3200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3809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2286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5334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5334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5334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5334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334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1676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5638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5334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3809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590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2286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2895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3505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4419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724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5029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5334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2286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676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1066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2895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29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3200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2-23T12:02:14Z</dcterms:modified>
  <cp:revision>28</cp:revision>
  <dc:subject/>
  <dc:title>No Slide Title</dc:title>
</cp:coreProperties>
</file>