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666A-CB24-4DC7-A11E-CB0FD3BC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E76-84A1-4606-AE0F-D7BF8D3D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6B3-1228-48AD-B21D-48A5127E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F5A-3A1D-4866-836F-EA52B598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BFA8-B683-403F-92CE-4E896F61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F03-7540-4710-B2B8-94569D68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291-EDD7-4A65-9CD8-A8E68371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689-9703-45DB-8EA2-931FD707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60E-BCB0-4A95-970C-E1EFE2DA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8C7-2295-4F3F-A248-071D3175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DB4-76EE-4D1D-8624-34505633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DD4-6370-4408-A884-84FA52C7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F406-6AFF-4FED-A71B-7BA6721FF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0120" y="6545160"/>
            <a:ext cx="149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2-17T20:15:57Z</cp:lastPrinted>
  <dcterms:modified xsi:type="dcterms:W3CDTF">1999-03-11T15:31:57Z</dcterms:modified>
  <cp:revision>20</cp:revision>
  <dc:subject/>
  <dc:title>No Slide Title</dc:title>
</cp:coreProperties>
</file>