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2E2D-54F9-46AE-8689-110841D19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993C-D301-4DB4-A4F5-208F922F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BD51-4380-4C34-B7B3-3F8F9C96E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C407-F483-45C7-AAD0-B9EACEBA6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7220-818E-4ED0-8845-9076231C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3465-0F0D-4B21-85F0-962A9F1C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6496-372A-4BFB-A056-B81B539D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6458-18C8-4007-B4D1-3D123F10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644F-290B-4A02-8BA7-4BC5EFB5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7660-7180-467E-B32A-978DF646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D7E7-AD81-4CAD-83E6-9F59F235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4BF1-F6B0-440C-B568-FF3D1722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8F84-8545-4556-8EF0-F63139D81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Fuel System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ravity feed fuel syste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only suitable for high-wing aircraft.  The tanks are mounted in the wings above the engine, with gravity causing the fuel to flow from the tanks to the engin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el pump fuel syste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used in low-wing aircraft and in high performance aircraft.  An engine-driven fuel pump supplies the pressure required to keep the fuel flowing to the engine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6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Fuel Tank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anent tan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located in the fuselage or wing structure where the fuel supply is stored for normal opera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xiliary tan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ither fixed or drop type, can be fitted when a greater than normal fuel supply is required.  They are located on the external structures of the wings or fuselag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6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roblems with the Fue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95120" y="1371240"/>
            <a:ext cx="3886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to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-Ign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pour Lo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6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1T15:12:40Z</dcterms:created>
  <dc:creator>RC Air Cadets</dc:creator>
  <dc:description/>
  <dc:language>en-US</dc:language>
  <cp:lastModifiedBy>dnd</cp:lastModifiedBy>
  <cp:lastPrinted>1999-03-01T15:37:14Z</cp:lastPrinted>
  <dcterms:modified xsi:type="dcterms:W3CDTF">1999-03-30T13:07:48Z</dcterms:modified>
  <cp:revision>4</cp:revision>
  <dc:subject/>
  <dc:title>Fuel Systems</dc:title>
</cp:coreProperties>
</file>