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embeddings/oleObject4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92202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2168-FA8B-46E4-AE21-3AA29DE3C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F2BE-71D0-4062-96CD-08678964B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9D9B-1B68-4CFF-9495-EEE8A9419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4E04-B4D8-4455-B12C-DF7E1F909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AD1C-5985-43C0-9894-F1C19E839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7340-3902-44FC-8110-A0FF26D9A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4C2A-AC29-4886-B4EE-6AE523F83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22FD-2527-4703-8222-DD34B876E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C005-E030-447B-9293-E2864BBC9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DC9B-9507-4E53-B7AF-E16DABF8B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6AF3-F6B6-4391-B65C-B17AA7173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23E3-0372-45EF-B292-782024213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CA8DF-9C45-4FD3-A959-DC87CEE2B2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3.wmf"/><Relationship Id="rId7" Type="http://schemas.openxmlformats.org/officeDocument/2006/relationships/package" Target="../embeddings/oleObject4.docx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4114800" y="990720"/>
          <a:ext cx="7392960" cy="842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990720"/>
                    <a:ext cx="7392960" cy="84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" name=""/>
          <p:cNvGraphicFramePr/>
          <p:nvPr/>
        </p:nvGraphicFramePr>
        <p:xfrm>
          <a:off x="5029200" y="1905120"/>
          <a:ext cx="6859440" cy="3603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29200" y="1905120"/>
                    <a:ext cx="685944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" name=""/>
          <p:cNvGraphicFramePr/>
          <p:nvPr/>
        </p:nvGraphicFramePr>
        <p:xfrm>
          <a:off x="838080" y="2362320"/>
          <a:ext cx="5715000" cy="518148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38080" y="2362320"/>
                    <a:ext cx="571500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"/>
          <p:cNvGraphicFramePr/>
          <p:nvPr/>
        </p:nvGraphicFramePr>
        <p:xfrm>
          <a:off x="1371600" y="2438280"/>
          <a:ext cx="4448160" cy="571500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371600" y="2438280"/>
                    <a:ext cx="444816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Valued Customer</dc:creator>
  <dc:description/>
  <dc:language>en-US</dc:language>
  <cp:lastModifiedBy>Jamie Richards</cp:lastModifiedBy>
  <cp:lastPrinted>1998-12-18T00:28:34Z</cp:lastPrinted>
  <dcterms:modified xsi:type="dcterms:W3CDTF">1999-04-23T18:40:29Z</dcterms:modified>
  <cp:revision>21</cp:revision>
  <dc:subject/>
  <dc:title>No Slide Title</dc:title>
</cp:coreProperties>
</file>