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F24-63E2-4F68-9A22-8103A9A3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CE5-A274-45A1-8981-8816BE6C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534-4C94-4949-9893-5815DACD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455-A294-45AB-99AA-AB076B6A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E15-ADBC-4AFD-BD5E-BD8A55E9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13C-954F-4EA1-B642-F32EBAE4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828-0454-4003-A08F-DCC902A5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7AA-8F7C-4948-AB16-288EAD9C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A2F-4B41-4852-B7FB-04DC835F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86F-5B40-4B79-8C62-5C8F6D6B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127-090A-4121-A0B5-67D015FF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2E8-5DEF-4C87-8456-4A150879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FB92-6E63-4AAB-8E6F-3CE2B4084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avigation is the process of navigating by any one of the many methods of planning or determining an aircraft’s position and cours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mply put, it is being able to determine where you are, where you you want to be, and how to get ther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ypes of Nav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5638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lo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 Reck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dio Nav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estial Nav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ertial Nav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8129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5:12:40Z</dcterms:created>
  <dc:creator>RC Air Cadets</dc:creator>
  <dc:description/>
  <dc:language>en-US</dc:language>
  <cp:lastModifiedBy>dnd</cp:lastModifiedBy>
  <cp:lastPrinted>1999-03-02T19:17:20Z</cp:lastPrinted>
  <dcterms:modified xsi:type="dcterms:W3CDTF">1999-03-30T14:14:37Z</dcterms:modified>
  <cp:revision>8</cp:revision>
  <dc:subject/>
  <dc:title>Fuel Systems</dc:title>
</cp:coreProperties>
</file>