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B721-184D-4D1B-AF29-F4B7D30F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FDB-B27F-4947-A0DB-8DD7FAE3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0E5-1349-42C1-A708-FE697147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7F85-D33F-4494-A898-F46A620D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36F-90F7-4CBC-B92A-5FF266EC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007-68A3-4195-85A1-C95619FF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6D5-BE26-4037-8BB6-6318288B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EB2-D3CF-4545-84BA-F7FB030A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C0EC-C6DC-4CA5-845C-38D8784E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6EA-755E-42F6-A1EE-1DDB8781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B39-7080-49AA-9922-6B277A89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58A-E3BD-4493-B6AE-0ECA9567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BB65-E9BD-4BDA-A5DB-A78DFD442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ction is measured clockwise from north to the nearest degree and is expressed in a three figure grou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th=000, East=090, South=180, West=27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ulting circle of direction is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ass Ro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ass 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ose" descr=""/>
          <p:cNvPicPr/>
          <p:nvPr/>
        </p:nvPicPr>
        <p:blipFill>
          <a:blip r:embed="rId1"/>
          <a:srcRect l="0" t="9142" r="9164" b="16564"/>
          <a:stretch/>
        </p:blipFill>
        <p:spPr>
          <a:xfrm>
            <a:off x="2057400" y="1352520"/>
            <a:ext cx="50292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rotract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rotractor" descr=""/>
          <p:cNvPicPr/>
          <p:nvPr/>
        </p:nvPicPr>
        <p:blipFill>
          <a:blip r:embed="rId1"/>
          <a:stretch/>
        </p:blipFill>
        <p:spPr>
          <a:xfrm>
            <a:off x="1676520" y="1312920"/>
            <a:ext cx="5562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lo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lotter" descr=""/>
          <p:cNvPicPr/>
          <p:nvPr/>
        </p:nvPicPr>
        <p:blipFill>
          <a:blip r:embed="rId1"/>
          <a:srcRect l="0" t="13613" r="0" b="13559"/>
          <a:stretch/>
        </p:blipFill>
        <p:spPr>
          <a:xfrm>
            <a:off x="228600" y="1865160"/>
            <a:ext cx="87631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dnd</cp:lastModifiedBy>
  <dcterms:modified xsi:type="dcterms:W3CDTF">1999-03-30T14:20:56Z</dcterms:modified>
  <cp:revision>16</cp:revision>
  <dc:subject/>
  <dc:title>Navigating Position</dc:title>
</cp:coreProperties>
</file>