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12BB-9E13-452B-8F36-DFEFB0CF2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C306-8B08-4684-8B13-CAF3AA65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1492-CDEB-4E4A-B6CF-AE810B92F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4D8E-AD36-4A0F-AD4B-F0D9C208A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3516-68B7-46B5-8E80-5FDB2673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B143-17D2-4CEA-835F-0D76523A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84A9-8B55-4BCD-AEB4-0A343B06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7CC1-F15F-430E-B135-2E146195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D073-F49A-4357-A455-B9ADB58D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D80B-D053-4A17-8227-0A460712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5666-C7FE-4A78-8D6D-F6834BFB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666D-5AD8-4921-B255-C8969C43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306D-ACA5-4284-BA2F-4E4C9F3D5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63880" y="152280"/>
            <a:ext cx="513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The Carbureto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560" y="6551640"/>
            <a:ext cx="13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6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arb" descr=""/>
          <p:cNvPicPr/>
          <p:nvPr/>
        </p:nvPicPr>
        <p:blipFill>
          <a:blip r:embed="rId1"/>
          <a:srcRect l="0" t="0" r="15406" b="16010"/>
          <a:stretch/>
        </p:blipFill>
        <p:spPr>
          <a:xfrm>
            <a:off x="990720" y="1066680"/>
            <a:ext cx="74102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560" y="6551640"/>
            <a:ext cx="13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6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97080" y="76320"/>
            <a:ext cx="486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Carburetor I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ice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6476760" cy="5427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278160" y="3733920"/>
            <a:ext cx="155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MPY 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5400" y="106668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40680" y="257508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82120" y="524196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48640" y="4143960"/>
            <a:ext cx="542160" cy="7038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6337080" y="2734200"/>
            <a:ext cx="888840" cy="1764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45280" y="1460520"/>
            <a:ext cx="6480" cy="88884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796680" y="5438880"/>
            <a:ext cx="1607040" cy="1872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hingy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413480" cy="5386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38088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 in each part of the carburetor in the correct sp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560" y="6551640"/>
            <a:ext cx="13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6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160020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28954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38862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7150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29200" y="54864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8769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274320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10080" y="220968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27432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29920" y="38088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86600" y="7621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1T17:38:52Z</dcterms:created>
  <dc:creator>RC Air Cadets</dc:creator>
  <dc:description/>
  <dc:language>en-US</dc:language>
  <cp:lastModifiedBy>dnd</cp:lastModifiedBy>
  <cp:lastPrinted>1999-03-01T18:26:34Z</cp:lastPrinted>
  <dcterms:modified xsi:type="dcterms:W3CDTF">1999-03-30T13:11:26Z</dcterms:modified>
  <cp:revision>4</cp:revision>
  <dc:subject/>
  <dc:title>No Slide Title</dc:title>
</cp:coreProperties>
</file>