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860E-9725-46DA-9228-E607EF3C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7613-80EF-421E-8540-8A3FDEB2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189-DF4B-48C7-A5CF-0915F5FE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8A93-1227-4670-8F11-BABDAA4D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C056-FDBB-4A9D-989C-8EB9A96B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2A7F-3EDE-42AC-85FC-FCAF9B75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1E0A-25DA-476B-89E3-57E58EF2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F211-AD8E-4D59-9EBD-56257795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76B3-9517-4C4D-B08B-B2A40C13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2267-A220-4DA0-AFD5-266FD928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E6ED-4ED6-4A53-9812-7A51E2DD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B350-DB64-43FF-94E8-405A8883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1748-C652-407A-8EA1-2DD7633D8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533520" y="609480"/>
            <a:ext cx="10744200" cy="65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me know that you ha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d and understood th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irm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or permission gra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s the separa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portions of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(to be used when t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o clear distinction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xt and other portion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o channel…befo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e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185724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hone" descr=""/>
          <p:cNvPicPr/>
          <p:nvPr/>
        </p:nvPicPr>
        <p:blipFill>
          <a:blip r:embed="rId1">
            <a:grayscl/>
          </a:blip>
          <a:srcRect l="0" t="0" r="79666" b="42682"/>
          <a:stretch/>
        </p:blipFill>
        <p:spPr>
          <a:xfrm>
            <a:off x="7162920" y="4724280"/>
            <a:ext cx="1542960" cy="1752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609480" y="1219320"/>
            <a:ext cx="1074420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zed to proceed under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s speci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version is…is that corre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rror has been made in th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(messa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d). The correct ver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reg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is transmission 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990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533520" y="1523880"/>
            <a:ext cx="11277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a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ed with your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read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explana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ay ag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explanatory (use instead of 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d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oken word for distr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162920" y="4724280"/>
          <a:ext cx="144756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724280"/>
                    <a:ext cx="144756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133720" y="4724280"/>
          <a:ext cx="137160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4724280"/>
                    <a:ext cx="13716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457200" y="1371600"/>
            <a:ext cx="1295388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day r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oken word for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ess relay sig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 on (frequenc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, or that is not correct,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do not ag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 is ended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espo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219320" y="3809880"/>
          <a:ext cx="2714400" cy="24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809880"/>
                    <a:ext cx="271440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hone667956" descr=""/>
          <p:cNvPicPr/>
          <p:nvPr/>
        </p:nvPicPr>
        <p:blipFill>
          <a:blip r:embed="rId1"/>
          <a:srcRect l="20786" t="28041" r="71125" b="21766"/>
          <a:stretch/>
        </p:blipFill>
        <p:spPr>
          <a:xfrm>
            <a:off x="7772400" y="3886200"/>
            <a:ext cx="91440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533520" y="1066680"/>
            <a:ext cx="150876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transmission is ended and I expect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from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 P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oken word for urgenc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all of the message back to 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ctly as received after I have giv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OVER” (do not use the wor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REPEAT”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received all of your la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838080" y="1143000"/>
            <a:ext cx="12191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er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received y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Number ____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ag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explanatory (do not use the wor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 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must pause for a few seconds 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utes, please wa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lo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expression to indicate t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ce has been imposed on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due to a distress situation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eronautical phrase is “ST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ING”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hone" descr=""/>
          <p:cNvPicPr/>
          <p:nvPr/>
        </p:nvPicPr>
        <p:blipFill>
          <a:blip r:embed="rId1">
            <a:grayscl/>
          </a:blip>
          <a:srcRect l="0" t="0" r="79666" b="42682"/>
          <a:stretch/>
        </p:blipFill>
        <p:spPr>
          <a:xfrm>
            <a:off x="1752480" y="3733920"/>
            <a:ext cx="1524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990720"/>
            <a:ext cx="914400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lonce feen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international expres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distress cancellation.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ronautical expression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DISTRESS TRAFFIC ENDE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lonce mayd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international expres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form and individual 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s that a distr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ation is in progress.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comes from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craft in distress.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ronautical phrase is “ST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ING MAYDA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 corr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explana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33520" y="3429000"/>
          <a:ext cx="32670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429000"/>
                    <a:ext cx="3267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295280"/>
            <a:ext cx="10896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coding, check tex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tor and send correct vers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instructions received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ood and will be complied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 tw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request: Communic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difficult, please send ea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 tw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nformation: Si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difficult, 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send each word twice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2374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8T12:26:42Z</dcterms:created>
  <dc:creator>DND</dc:creator>
  <dc:description/>
  <dc:language>en-US</dc:language>
  <cp:lastModifiedBy>dnd</cp:lastModifiedBy>
  <cp:lastPrinted>1999-02-23T15:41:38Z</cp:lastPrinted>
  <dcterms:modified xsi:type="dcterms:W3CDTF">1999-03-30T18:33:27Z</dcterms:modified>
  <cp:revision>9</cp:revision>
  <dc:subject/>
  <dc:title>PROCEDURAL WORDS &amp; PHRASES</dc:title>
</cp:coreProperties>
</file>