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F8B-CF16-4A7A-99CC-30FF2962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32A-7964-483B-8F8B-76D5B659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211-00E4-4F27-BCB3-7A1C8F7F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CCC-22CB-4696-BDAC-E8E84711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CC0-8041-448A-9819-DD6C6A8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9F4-5433-41E4-B4E6-3A7DDC4C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508-0F51-4009-B4ED-9947333C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173-83D7-4E65-9935-5C7A8B4B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999-3201-419F-9522-443BC2CA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270-D9CB-4BAF-B749-6E864E3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6A3-B318-4200-8A47-8E1FE9EC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3EA-DAC2-46A0-97AC-EEE97D5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272F-52AD-46B7-B465-B07E8523C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2-24T14:00:56Z</dcterms:modified>
  <cp:revision>7</cp:revision>
  <dc:subject/>
  <dc:title>No Slide Title</dc:title>
</cp:coreProperties>
</file>