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383-CF9F-4101-86F8-021CC0B8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992-072B-48E1-A2D3-BDBDC85E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63D-C99D-4249-8B26-0C756758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190-8DCB-404D-9BF3-5D5A555E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915-6794-4A19-9960-834EE5CB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B5E-5F91-4F5D-96DB-F7C6CC1F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F99-02E7-4144-A096-B8A4D794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85D-7C2D-4185-9F7B-69217571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F23-0AD2-43D1-A0CE-7BBC94C6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546-4EC6-40F1-AEAE-43C524AC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9D3-6DB3-4559-8C6E-7E7B2C7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CB1-F511-4828-AE78-A69FEE7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B3A7-1622-4530-B10E-E2ED035F6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imulate mental activ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rouse and maintain intere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uide thoughts and provoke thinking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valuat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30492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URPOSE OF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971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38088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AD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VERSE AND 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estions should be brief and cle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are too long or have more than one ans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wording that the cadets will underst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can be answered with a yes or no or where the answer is obvio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30492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GOOD 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questions that make the cadets thin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antagonize, create feelings of inferiority or cause other unfavorable reac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not over- ask a ques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courage group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30492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GOOD 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38088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TO ASK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K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DICATE WHICH CADET SHOULD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EN TO TH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CONFIRM THE CORREC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3-12T13:44:57Z</cp:lastPrinted>
  <dcterms:modified xsi:type="dcterms:W3CDTF">1999-03-12T13:44:57Z</dcterms:modified>
  <cp:revision>19</cp:revision>
  <dc:subject/>
  <dc:title>No Slide Title</dc:title>
</cp:coreProperties>
</file>