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20E-FC9F-42C3-9B45-6E2D0F0F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03F-B889-4F6D-967A-C6E2BC5E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CAB-BA77-40A3-9A9D-4667A44A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35E6-AF8A-46B4-877C-02AD0E91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503E-6F37-47F3-9958-ECDE8329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274-EE16-48FE-A407-9DD119A2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1E4-5BEB-45E3-B885-BFF00AFA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90C-AEF7-4255-AF36-AC144E1E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630-8548-4C69-801E-28E27D5A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5E96-E8DA-4FB3-B9FD-9BA79B72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6C65-9ECF-4D81-BD9C-885AF946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020-FF9C-4C02-BB52-F11DE9A6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E0FB-367B-4564-B963-799939D49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Parts of the Comp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838080"/>
            <a:ext cx="6467400" cy="5705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re and Maintenance of the Comp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your compass with respec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extremes of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not to drop or bang your compass - use the safety co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35360" y="235728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2336760"/>
            <a:ext cx="4210200" cy="3530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Parts of the Comp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ompass1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0104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21960" y="6613560"/>
            <a:ext cx="1021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9T14:02:26Z</dcterms:created>
  <dc:creator>Valued Customer</dc:creator>
  <dc:description/>
  <dc:language>en-US</dc:language>
  <cp:lastModifiedBy>DND</cp:lastModifiedBy>
  <cp:lastPrinted>1999-01-12T15:47:50Z</cp:lastPrinted>
  <dcterms:modified xsi:type="dcterms:W3CDTF">1999-01-12T17:04:26Z</dcterms:modified>
  <cp:revision>18</cp:revision>
  <dc:subject/>
  <dc:title>The Parts of the Compass</dc:title>
</cp:coreProperties>
</file>