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D8B2-D502-4FC0-AE6B-621D6636F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90A61-D1D0-4849-9C3E-AE848C205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51CDC-23AD-4256-8FC3-71E1E4D28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B7AAD-3BA3-4A31-99C7-E7A1C1424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29539-FA29-49B0-96CF-332291127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6A09-27AD-4940-8075-78CE3945D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29E7E-3137-40DE-860B-DAF622022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A64C5-0E30-490E-80D2-64A0EABE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913F-8EAA-4B56-A218-E4D34D8CD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1D235-1F0C-4B09-AE33-41D23380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6F86-10BC-4654-ADDA-C30F94212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B36B-413C-4727-849A-0F93994FC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C112-E4D6-4DC4-8A86-38344F598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he Carburetor</a:t>
            </a:r>
            <a:endParaRPr b="0" lang="en-US" sz="5400" spc="-1" strike="noStrike">
              <a:solidFill>
                <a:srgbClr val="000000"/>
              </a:solidFill>
              <a:latin typeface="Times New Roman"/>
            </a:endParaRPr>
          </a:p>
        </p:txBody>
      </p:sp>
      <p:sp>
        <p:nvSpPr>
          <p:cNvPr id="4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nction of the carburetor is to measure the correct quantity of gasoline, vapourize this fuel, mix it with air in the proper proportion and deliver the mixture to the cylinder.</a:t>
            </a:r>
            <a:endParaRPr b="0" lang="en-US" sz="36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45"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ixture</a:t>
            </a:r>
            <a:endParaRPr b="0" lang="en-US" sz="5400" spc="-1" strike="noStrike">
              <a:solidFill>
                <a:srgbClr val="000000"/>
              </a:solidFill>
              <a:latin typeface="Times New Roman"/>
            </a:endParaRPr>
          </a:p>
        </p:txBody>
      </p:sp>
      <p:sp>
        <p:nvSpPr>
          <p:cNvPr id="47"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bustion process in the cylinder relies on a proper mixture of fuel and air to achieve maximum efficiency.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rich mixture</a:t>
            </a:r>
            <a:r>
              <a:rPr b="0" lang="en-US" sz="3000" spc="-1" strike="noStrike">
                <a:solidFill>
                  <a:srgbClr val="000000"/>
                </a:solidFill>
                <a:latin typeface="Arial"/>
              </a:rPr>
              <a:t> refers to a high ratio of fuel per volume of air.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lean mixture</a:t>
            </a:r>
            <a:r>
              <a:rPr b="0" lang="en-US" sz="3000" spc="-1" strike="noStrike">
                <a:solidFill>
                  <a:srgbClr val="000000"/>
                </a:solidFill>
                <a:latin typeface="Arial"/>
              </a:rPr>
              <a:t> refers to a low ratio of fuel per volume of air.</a:t>
            </a:r>
            <a:endParaRPr b="0" lang="en-US" sz="30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50"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1T15:12:40Z</dcterms:created>
  <dc:creator>RC Air Cadets</dc:creator>
  <dc:description/>
  <dc:language>en-US</dc:language>
  <cp:lastModifiedBy>dnd</cp:lastModifiedBy>
  <cp:lastPrinted>1999-03-01T15:37:14Z</cp:lastPrinted>
  <dcterms:modified xsi:type="dcterms:W3CDTF">1999-03-30T13:10:14Z</dcterms:modified>
  <cp:revision>6</cp:revision>
  <dc:subject/>
  <dc:title>Fuel Systems</dc:title>
</cp:coreProperties>
</file>