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E91-05AC-490C-A75A-E59F6617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4F3-0468-4E87-9FBE-A6F24CBE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98F-AEE7-4B92-92F7-C54C703D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831-792D-4863-B0E3-7FE16262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2663-2591-4067-B5B6-3FAE384E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366-C378-49F8-88EC-95255CF9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1D0-6805-438D-A8DE-F5355C00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FA6-B289-4916-801B-3BD393D4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ADD-A136-4A90-86DC-8F88978E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2B03-4538-4E40-AD7B-4A19FD00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D7D-59D6-409C-9DCA-4BAEC1D9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FCC-EB24-4279-8C0B-630612D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57EB-3A59-4698-81F3-2C8F0066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the position of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ndicate the distance along the X axis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ndicate the distance along the Y axis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 combination of X-Y is the location of A.  (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1752480"/>
            <a:ext cx="0" cy="3810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5181480"/>
            <a:ext cx="3352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181480" y="175248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333760" y="1752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333760" y="5334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33412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240" y="495288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502920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92432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3716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562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9528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49528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814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2  3  4  5  6  7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209680"/>
            <a:ext cx="3049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8 7 6 5 4 3 2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62940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743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05360" y="20574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05720" y="251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1600200"/>
            <a:ext cx="838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15228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8380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stings and Nor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2578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7242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1911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6576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124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90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05740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86728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8288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60199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743200"/>
            <a:ext cx="53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O R T H  I  N 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828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438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971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5053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038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1055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548640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2      73       74       75       76      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289548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from North to South. They are numbered from 00 to 99 and read from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 from East to West. They are numbered from 00 to 99 and read from top to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rder of Working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143000"/>
            <a:ext cx="327636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a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way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rst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id Reference.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r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cond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. 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: In the house and up the stai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016520" cy="5288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7720" y="990720"/>
            <a:ext cx="57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Sgt Smith find tan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9810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895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8862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58672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533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172200"/>
            <a:ext cx="640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               27              28               29             30              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809880"/>
            <a:ext cx="5106960" cy="1906560"/>
          </a:xfrm>
          <a:custGeom>
            <a:avLst/>
            <a:gdLst/>
            <a:ahLst/>
            <a:rect l="l" t="t" r="r" b="b"/>
            <a:pathLst>
              <a:path w="3217" h="1201">
                <a:moveTo>
                  <a:pt x="0" y="1200"/>
                </a:moveTo>
                <a:lnTo>
                  <a:pt x="192" y="1008"/>
                </a:lnTo>
                <a:lnTo>
                  <a:pt x="480" y="912"/>
                </a:lnTo>
                <a:lnTo>
                  <a:pt x="816" y="912"/>
                </a:lnTo>
                <a:lnTo>
                  <a:pt x="1104" y="912"/>
                </a:lnTo>
                <a:lnTo>
                  <a:pt x="1248" y="816"/>
                </a:lnTo>
                <a:lnTo>
                  <a:pt x="1488" y="576"/>
                </a:lnTo>
                <a:lnTo>
                  <a:pt x="1968" y="480"/>
                </a:lnTo>
                <a:lnTo>
                  <a:pt x="1992" y="480"/>
                </a:lnTo>
                <a:lnTo>
                  <a:pt x="2448" y="192"/>
                </a:lnTo>
                <a:lnTo>
                  <a:pt x="3216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590920"/>
            <a:ext cx="1982520" cy="2287440"/>
          </a:xfrm>
          <a:custGeom>
            <a:avLst/>
            <a:gdLst/>
            <a:ahLst/>
            <a:rect l="l" t="t" r="r" b="b"/>
            <a:pathLst>
              <a:path w="1249" h="1441">
                <a:moveTo>
                  <a:pt x="1104" y="1440"/>
                </a:moveTo>
                <a:lnTo>
                  <a:pt x="1248" y="1056"/>
                </a:lnTo>
                <a:lnTo>
                  <a:pt x="1248" y="1026"/>
                </a:lnTo>
                <a:lnTo>
                  <a:pt x="1248" y="720"/>
                </a:lnTo>
                <a:lnTo>
                  <a:pt x="1104" y="528"/>
                </a:lnTo>
                <a:lnTo>
                  <a:pt x="816" y="480"/>
                </a:lnTo>
                <a:lnTo>
                  <a:pt x="240" y="38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617220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62440" y="3909960"/>
            <a:ext cx="390240" cy="98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95360" y="2058840"/>
            <a:ext cx="1119240" cy="72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128" name="jetfight" descr=""/>
          <p:cNvPicPr/>
          <p:nvPr/>
        </p:nvPicPr>
        <p:blipFill>
          <a:blip r:embed="rId4"/>
          <a:stretch/>
        </p:blipFill>
        <p:spPr>
          <a:xfrm>
            <a:off x="6095880" y="510552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jetfight" descr=""/>
          <p:cNvPicPr/>
          <p:nvPr/>
        </p:nvPicPr>
        <p:blipFill>
          <a:blip r:embed="rId5"/>
          <a:stretch/>
        </p:blipFill>
        <p:spPr>
          <a:xfrm>
            <a:off x="3809880" y="2133720"/>
            <a:ext cx="990720" cy="62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7:28:40Z</dcterms:created>
  <dc:creator>Valued Customer</dc:creator>
  <dc:description/>
  <dc:language>en-US</dc:language>
  <cp:lastModifiedBy>DND</cp:lastModifiedBy>
  <cp:lastPrinted>1999-01-12T14:43:16Z</cp:lastPrinted>
  <dcterms:modified xsi:type="dcterms:W3CDTF">1999-01-19T20:15:16Z</dcterms:modified>
  <cp:revision>15</cp:revision>
  <dc:subject/>
  <dc:title>No Slide Title</dc:title>
</cp:coreProperties>
</file>