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CC8-3E50-4F4E-AFA4-11F809AE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63C-A08E-45E5-AFE7-24A37B5E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0E6-7FEA-4254-836C-942C21A90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952-EC03-4A3D-8AA4-325F41F9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07E-3C38-4EE2-B195-44E67D80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078-6D03-4F5B-B3E8-B2B5B650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DD27-EBF0-402C-9AB9-BAC4EEC9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10D-F957-4264-B5A7-6D012DBC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5D6-23DC-4100-B4A0-FAAA4BEF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19BF-F051-4C22-A90F-04DE6CEE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A7A-C8EE-482A-922F-3789B84C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7F5-59F9-460F-B637-DDEC9445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BD4B-968B-46F5-B75B-C62116634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14400"/>
          <a:ext cx="7621560" cy="8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14400"/>
                    <a:ext cx="7621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76440" y="1905120"/>
          <a:ext cx="5876640" cy="420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440" y="1905120"/>
                    <a:ext cx="58766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1981080"/>
          <a:ext cx="5232240" cy="5029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981080"/>
                    <a:ext cx="52322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28:33Z</dcterms:modified>
  <cp:revision>10</cp:revision>
  <dc:subject/>
  <dc:title>No Slide Title</dc:title>
</cp:coreProperties>
</file>