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4DC-BFCE-444B-BA8B-E5DB817C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321-723B-4402-989B-4AC4B444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846D-FA94-4EEC-BC29-C9B1689F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D7CB-8F18-4CA0-B570-757D43489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857-C2A7-4E8A-918D-3CB19461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6C0-1A79-4257-9C63-2ADD5C7A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239-1C3B-43D0-B718-2CFD356A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A1A-8FBF-4DE4-81D4-AE15DC0A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F07-325D-4BF7-ABBC-48AF5274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769-8A6F-4652-B0C6-9A991BD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B2B-EB84-4740-875D-9987D46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2DB-C5ED-4EB7-8286-DD167E1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C166-4396-4CC6-8DBB-C2B37C0ED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3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Order Giving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33520"/>
            <a:ext cx="16002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ROS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 This type of order is     specific, concise and       defin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 To see if the cadets understand the order, it is good to have some form of  ______________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  After the order has been carried out, ___________ of the results occurs. It is the last step of the order giving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  Always keep in mind the precise reason for the order This is known as the  _______ stage of the order giving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. This type of order may or may not compel a person to perform a task (3 wor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.  __________ orders should be used for minor details locally or in a local emergenc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OW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 “John, would you please sweep the floor?” is an example of what type of ord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  The fifth step in the order giving process is to ________. This is where you spot check while the order is being carri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 To transmit instructions to another location, you would use a  __________ ord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410080"/>
            <a:ext cx="3276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  The first step in the order-giving process is to ____________ the order to be given. It is the what of the ord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.  “Jane, this floor needs sweeping” is an example of what type of order?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.  The The order must be stated in concrete terms to ensure understanding. This is known as the _________ in the order giving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104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01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3T12:01:50Z</dcterms:modified>
  <cp:revision>26</cp:revision>
  <dc:subject/>
  <dc:title>No Slide Title</dc:title>
</cp:coreProperties>
</file>