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D23-A2D7-46D9-A568-243E9029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99C-7C48-478B-80BB-B75CC07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728-7C99-40F8-93CA-57B42875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57B-BABF-45EA-83D9-A79AE760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1B6-C3D3-43C3-91FC-44B0E6C4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623-C10C-4F57-9F30-B0C5E6EA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DFAB-F2B2-4F0A-AF09-5898E340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805-168F-4869-AE40-449D361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587-A0DF-4600-B3B4-E130D370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2C3-2EED-4B9B-B177-913E739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208-9BB2-4F1D-977A-B94BB68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061C-1394-4902-92C7-7B38E39F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0D4B-8496-4DAB-B8AC-E47F354DC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81080"/>
            <a:ext cx="3962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EPING LINE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OUR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atmap" descr=""/>
          <p:cNvPicPr/>
          <p:nvPr/>
        </p:nvPicPr>
        <p:blipFill>
          <a:blip r:embed="rId1"/>
          <a:srcRect l="0" t="0" r="37339" b="35006"/>
          <a:stretch/>
        </p:blipFill>
        <p:spPr>
          <a:xfrm>
            <a:off x="5334120" y="274320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rallel" descr=""/>
          <p:cNvPicPr/>
          <p:nvPr/>
        </p:nvPicPr>
        <p:blipFill>
          <a:blip r:embed="rId1"/>
          <a:srcRect l="35295" t="5434" r="4410" b="19563"/>
          <a:stretch/>
        </p:blipFill>
        <p:spPr>
          <a:xfrm>
            <a:off x="1371600" y="99072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971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ing point or 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943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 on a compass bearing or predetermined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REEPING LINE A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reeping%20line%20II" descr=""/>
          <p:cNvPicPr/>
          <p:nvPr/>
        </p:nvPicPr>
        <p:blipFill>
          <a:blip r:embed="rId1"/>
          <a:srcRect l="2702" t="8873" r="4731" b="9678"/>
          <a:stretch/>
        </p:blipFill>
        <p:spPr>
          <a:xfrm>
            <a:off x="1371600" y="990720"/>
            <a:ext cx="601992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7840" y="20574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5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54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495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06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UTY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00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828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0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143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OU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ntour" descr=""/>
          <p:cNvPicPr/>
          <p:nvPr/>
        </p:nvPicPr>
        <p:blipFill>
          <a:blip r:embed="rId1"/>
          <a:srcRect l="1282" t="6249" r="3848" b="0"/>
          <a:stretch/>
        </p:blipFill>
        <p:spPr>
          <a:xfrm>
            <a:off x="533520" y="167652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3372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ARCH LINE 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13372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 ABR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PING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breast" descr=""/>
          <p:cNvPicPr/>
          <p:nvPr/>
        </p:nvPicPr>
        <p:blipFill>
          <a:blip r:embed="rId1"/>
          <a:srcRect l="0" t="13999" r="52009" b="64670"/>
          <a:stretch/>
        </p:blipFill>
        <p:spPr>
          <a:xfrm>
            <a:off x="4191120" y="1828800"/>
            <a:ext cx="364788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v%20formation" descr=""/>
          <p:cNvPicPr/>
          <p:nvPr/>
        </p:nvPicPr>
        <p:blipFill>
          <a:blip r:embed="rId2"/>
          <a:srcRect l="8897" t="20670" r="46996" b="51339"/>
          <a:stretch/>
        </p:blipFill>
        <p:spPr>
          <a:xfrm>
            <a:off x="4572000" y="2971800"/>
            <a:ext cx="33526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sloping" descr=""/>
          <p:cNvPicPr/>
          <p:nvPr/>
        </p:nvPicPr>
        <p:blipFill>
          <a:blip r:embed="rId3"/>
          <a:srcRect l="25943" t="19335" r="47996" b="52668"/>
          <a:stretch/>
        </p:blipFill>
        <p:spPr>
          <a:xfrm>
            <a:off x="5410080" y="464832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U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288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HISTLE BLAST - ALL PARTY MEMBERS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WHISTLE BLASTS - ALL PARTY MEMBERS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WHISTLE BLASTS - PARTY MEMBER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352680" cy="279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5:06:36Z</dcterms:created>
  <dc:creator>DND</dc:creator>
  <dc:description/>
  <dc:language>en-US</dc:language>
  <cp:lastModifiedBy>DND</cp:lastModifiedBy>
  <cp:lastPrinted>1999-01-14T12:33:46Z</cp:lastPrinted>
  <dcterms:modified xsi:type="dcterms:W3CDTF">1999-03-12T18:27:50Z</dcterms:modified>
  <cp:revision>8</cp:revision>
  <dc:subject/>
  <dc:title>TYPES OF SEARCHES</dc:title>
</cp:coreProperties>
</file>