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926-0BB1-4570-8A24-46B8331F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FEF-C9E8-471B-AB7D-2FF1EB09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821-DC08-412C-8AF3-41020DF9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E463-AAAA-4E03-95B0-ED576956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458-5073-4937-B826-C36F9887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45F-6BE8-40A4-B60F-CF7A510D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C1B-5334-4912-8C33-D79FC9F0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F20-318F-476C-A1F9-4C9EC199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AA6-217C-4869-A31B-61FCF6EC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368-FEE8-4E82-8208-3C458D1B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7D0-0B15-4F65-8B53-4A3B2F6C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6DB-E5DE-4799-B701-203B4199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5D04-9452-41D1-8212-98E4E6F22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of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find the position of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ndicate the distance along the X axis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ndicate the distance along the Y axis 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e combination of X-Y is the location of A.  (5,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1752480"/>
            <a:ext cx="0" cy="3810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5181480"/>
            <a:ext cx="3352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181480" y="175248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5333760" y="17521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333760" y="53341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533412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800240" y="495288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181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502920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924320" y="5181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3716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562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9528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9600" y="49528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18148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2  3  4  5  6  7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2209680"/>
            <a:ext cx="3049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8 7 6 5 4 3 2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62940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74320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705360" y="20574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05720" y="251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1600200"/>
            <a:ext cx="838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0200" y="15228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of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83808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stings and Nor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525780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7242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41911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365760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3124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590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05740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86728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182880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60199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743200"/>
            <a:ext cx="53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O R T H  I  N 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18288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438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2971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5053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4038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5720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1055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548640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2      73       74       75       76       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28800"/>
            <a:ext cx="289548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tin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from North to South. They are numbered from 00 to 99 and read from left to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 from East to West. They are numbered from 00 to 99 and read from top to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rder of Working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143000"/>
            <a:ext cx="327636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a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way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rst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Grid Reference. This line form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 of the grid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r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econd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GR.  This line form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 of the grid squar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3341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EMBER: In the house and up the stair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4016520" cy="5288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r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7720" y="990720"/>
            <a:ext cx="57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Sgt Smith find tank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9810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895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88620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9528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58672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5335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6172200"/>
            <a:ext cx="640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               27              28               29             30              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809880"/>
            <a:ext cx="5106960" cy="1906560"/>
          </a:xfrm>
          <a:custGeom>
            <a:avLst/>
            <a:gdLst/>
            <a:ahLst/>
            <a:rect l="l" t="t" r="r" b="b"/>
            <a:pathLst>
              <a:path w="3217" h="1201">
                <a:moveTo>
                  <a:pt x="0" y="1200"/>
                </a:moveTo>
                <a:lnTo>
                  <a:pt x="192" y="1008"/>
                </a:lnTo>
                <a:lnTo>
                  <a:pt x="480" y="912"/>
                </a:lnTo>
                <a:lnTo>
                  <a:pt x="816" y="912"/>
                </a:lnTo>
                <a:lnTo>
                  <a:pt x="1104" y="912"/>
                </a:lnTo>
                <a:lnTo>
                  <a:pt x="1248" y="816"/>
                </a:lnTo>
                <a:lnTo>
                  <a:pt x="1488" y="576"/>
                </a:lnTo>
                <a:lnTo>
                  <a:pt x="1968" y="480"/>
                </a:lnTo>
                <a:lnTo>
                  <a:pt x="1992" y="480"/>
                </a:lnTo>
                <a:lnTo>
                  <a:pt x="2448" y="192"/>
                </a:lnTo>
                <a:lnTo>
                  <a:pt x="3216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2590920"/>
            <a:ext cx="1982520" cy="2287440"/>
          </a:xfrm>
          <a:custGeom>
            <a:avLst/>
            <a:gdLst/>
            <a:ahLst/>
            <a:rect l="l" t="t" r="r" b="b"/>
            <a:pathLst>
              <a:path w="1249" h="1441">
                <a:moveTo>
                  <a:pt x="1104" y="1440"/>
                </a:moveTo>
                <a:lnTo>
                  <a:pt x="1248" y="1056"/>
                </a:lnTo>
                <a:lnTo>
                  <a:pt x="1248" y="1026"/>
                </a:lnTo>
                <a:lnTo>
                  <a:pt x="1248" y="720"/>
                </a:lnTo>
                <a:lnTo>
                  <a:pt x="1104" y="528"/>
                </a:lnTo>
                <a:lnTo>
                  <a:pt x="816" y="480"/>
                </a:lnTo>
                <a:lnTo>
                  <a:pt x="240" y="38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05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53280" y="617220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62440" y="3909960"/>
            <a:ext cx="390240" cy="981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95360" y="2058840"/>
            <a:ext cx="1119240" cy="72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095880" y="30481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128" name="jetfight" descr=""/>
          <p:cNvPicPr/>
          <p:nvPr/>
        </p:nvPicPr>
        <p:blipFill>
          <a:blip r:embed="rId4"/>
          <a:stretch/>
        </p:blipFill>
        <p:spPr>
          <a:xfrm>
            <a:off x="6095880" y="510552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jetfight" descr=""/>
          <p:cNvPicPr/>
          <p:nvPr/>
        </p:nvPicPr>
        <p:blipFill>
          <a:blip r:embed="rId5"/>
          <a:stretch/>
        </p:blipFill>
        <p:spPr>
          <a:xfrm>
            <a:off x="3809880" y="2133720"/>
            <a:ext cx="990720" cy="62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ix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6-figure grid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ay of pinpointing a fe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id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curate to with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al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-figure GR is used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ther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or 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ame feature in a grid squar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we need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giving a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5880" y="1903320"/>
            <a:ext cx="2827440" cy="267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ix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05120" y="1295280"/>
            <a:ext cx="4981680" cy="449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3520" y="1219320"/>
            <a:ext cx="274320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-figure grid reference divides a grid square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squar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Squ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5 bri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you know which one               to go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00400" y="3581280"/>
          <a:ext cx="67464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3581280"/>
                    <a:ext cx="67464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aking A 6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53528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1447920"/>
            <a:ext cx="2590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“In the house, and up the stai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971800"/>
            <a:ext cx="22860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#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eas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s nor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Figure GR for Bridge #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13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e of a R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4838760" cy="3795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1143000"/>
            <a:ext cx="2895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accurately measure    a six-figure grid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corner of your paper on the landmark, and read off the 10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: 7673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7:28:40Z</dcterms:created>
  <dc:creator>Valued Customer</dc:creator>
  <dc:description/>
  <dc:language>en-US</dc:language>
  <cp:lastModifiedBy>DND</cp:lastModifiedBy>
  <cp:lastPrinted>1999-01-12T14:43:16Z</cp:lastPrinted>
  <dcterms:modified xsi:type="dcterms:W3CDTF">1999-01-13T12:02:52Z</dcterms:modified>
  <cp:revision>14</cp:revision>
  <dc:subject/>
  <dc:title>No Slide Title</dc:title>
</cp:coreProperties>
</file>