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D11A-8382-41CD-9270-BFABA008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FDF-90CC-4862-B3B9-F32EFEA2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ED8-EA52-488C-8C84-7B6E0083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743-6C35-4791-A334-64A0A777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E75-AA24-49DC-AB7F-A89837E2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135-CC3F-4510-88AE-4304D91B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0C3-591B-49A7-A5EB-BCDB9755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58D-5041-444F-9314-6D604778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322-A02A-4B35-A497-ABB994FA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948-B994-4A5F-AEEF-CA58CC54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EF8-5B7C-4F42-8E9A-C7DC4F34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81E6-FDF8-4D62-8DDA-9A65EC41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416F-220B-4FC4-9239-8ACCED7E1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219320"/>
            <a:ext cx="87631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– Alp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– In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– Queb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– Yank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– Brav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– Juli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– Rom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- Zu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Charl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– Ki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– S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– Del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– L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– Ta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– Ech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– M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– 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– Foxtr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Nove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– V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– Go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– Osc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– Whis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Hot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– Pa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– X-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HONETIC ALPHAB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1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adio" descr=""/>
          <p:cNvPicPr/>
          <p:nvPr/>
        </p:nvPicPr>
        <p:blipFill>
          <a:blip r:embed="rId1"/>
          <a:srcRect l="0" t="0" r="62520" b="63307"/>
          <a:stretch/>
        </p:blipFill>
        <p:spPr>
          <a:xfrm>
            <a:off x="6553080" y="3048120"/>
            <a:ext cx="228312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28195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- ZEE-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- W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-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- FOW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219320"/>
            <a:ext cx="350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- F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-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- 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- 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- NIN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omsqn" descr=""/>
          <p:cNvPicPr/>
          <p:nvPr/>
        </p:nvPicPr>
        <p:blipFill>
          <a:blip r:embed="rId1"/>
          <a:srcRect l="0" t="0" r="76968" b="53138"/>
          <a:stretch/>
        </p:blipFill>
        <p:spPr>
          <a:xfrm>
            <a:off x="5238720" y="1676520"/>
            <a:ext cx="3905280" cy="341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2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4T15:32:14Z</dcterms:created>
  <dc:creator>DND</dc:creator>
  <dc:description/>
  <dc:language>en-US</dc:language>
  <cp:lastModifiedBy>dnd</cp:lastModifiedBy>
  <cp:lastPrinted>1999-01-14T15:52:08Z</cp:lastPrinted>
  <dcterms:modified xsi:type="dcterms:W3CDTF">1999-03-30T15:43:57Z</dcterms:modified>
  <cp:revision>11</cp:revision>
  <dc:subject/>
  <dc:title>PHONETIC ALPHABET</dc:title>
</cp:coreProperties>
</file>