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650-6BBB-41BE-AC31-539092F9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633-B92A-4DD0-839A-B8E2DACA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73A-3E69-4020-82CD-14C72B61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DC7-6D7D-4038-ADE4-05A6EAF9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347-E6AD-4E54-911F-A42ABB24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ADA-B604-45C5-857C-D54C9ED6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A22-F4A2-4151-A855-95ED2F9C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283-1B62-4A67-98EF-37A6B051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58B-A109-4554-8524-3A6C6CE7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C2D-226E-4800-8AAF-9B30C69D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D04-A0F7-48E7-A32C-4C7E0095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0C2-895B-4A57-9AA7-47F6DBDF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02AE-FBC2-4B59-A134-152BD841C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CIENCY LEVEL THREE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43080" y="1523880"/>
          <a:ext cx="880092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523880"/>
                    <a:ext cx="88009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THREE  SUMMER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63280" y="1447920"/>
            <a:ext cx="5496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IDER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CADET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IVAL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LETIC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ICIAN LEVEL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HO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EROENGINE/AIR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9T21:33:32Z</cp:lastPrinted>
  <dcterms:modified xsi:type="dcterms:W3CDTF">1999-03-09T21:34:46Z</dcterms:modified>
  <cp:revision>25</cp:revision>
  <dc:subject/>
  <dc:title>No Slide Title</dc:title>
</cp:coreProperties>
</file>