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6C9-9B24-4607-96A0-0DB3DEB9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55C-D282-44B3-A3BA-6B1EF02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C0E6-348C-4C1D-AE3F-A8B6CFFB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6CF-68DD-4176-92B1-8F92E40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0CB-7D49-40C6-BC37-5726DED8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F17-3124-4AB9-AC05-81B50A30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90A-8165-4D7E-B1B2-3624C6B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305-5535-4142-84D8-BE30799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ACC-DFFE-4D8D-956F-DA87494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DD7-26F6-44B7-8370-C56177D1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14B-6F28-466B-8126-C5FC92BB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2AB-52E7-4A5B-BA55-34335D2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393E-CD6A-44BD-A495-7CF3A5E7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1T14:57:27Z</dcterms:modified>
  <cp:revision>19</cp:revision>
  <dc:subject/>
  <dc:title>No Slide Title</dc:title>
</cp:coreProperties>
</file>