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437-94F4-49CD-8F4E-638C9BD0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6E6-CB98-49F1-8641-20650C0E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3574-7E4C-434C-8412-A33D451C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7EE-4F15-4FA4-8198-058D7968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498-EE58-4A0A-B3EA-1CC5CAF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95E-13A0-4F1F-B7EA-A756438D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477-4E9B-4631-997B-2561F51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C80-49D2-4176-B022-9E689A30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E0A-93F3-4794-B848-BC1DBCF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BA1-3FB1-43F8-B9DC-7EE85143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ED5-3DC1-4673-BC3F-1C19FDE2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1FE-CDB2-4318-9BF2-6730CEF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F22-ED94-4BD2-88D4-AA9E4FFF7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ESS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 FOXTROT OSCAR NOVEMBER ROMEO-FOXTROT OSCAR NOVEMBER ROMEO-FOXTROT OSCAR NOVEMBER ROMEO-FIVE ZERO MILES SOUTH OF GRAND FALLS AT ONE SEVEN TWO FIVE EASTERN-FOUR THOUSAND-CESSNA 185-ICING-WILL ATTEMPT CRASH LANDING ON ICE- 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1:50Z</dcterms:modified>
  <cp:revision>3</cp:revision>
  <dc:subject/>
  <dc:title>DISTRESS EXAMPLE </dc:title>
</cp:coreProperties>
</file>