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F35-A345-46CC-93FF-E112F47D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7D9-69C9-4E9D-B366-5B39F586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5C67-FBAB-4E16-B7AF-3CE4AE44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0AA-121F-4DCA-9297-35ECBD66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EA7-A143-4397-9A76-2F53D756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8A8-B77E-49B2-88DC-C7A103AA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B62-AA84-4A7F-821E-106A0EA7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A84-03C4-4FF3-977B-E149EB1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A62-05DE-4828-A41F-90CE309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028-16A5-4AAA-9823-A2375DE2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F15-A045-48DA-BB5F-C360089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A31-ABCD-4C29-8C8C-00B3E6C0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4A7D-7788-4C29-A49E-501BBDB5E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4480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auge2" descr=""/>
          <p:cNvPicPr/>
          <p:nvPr/>
        </p:nvPicPr>
        <p:blipFill>
          <a:blip r:embed="rId1"/>
          <a:srcRect l="4955" t="3399" r="39952" b="28377"/>
          <a:stretch/>
        </p:blipFill>
        <p:spPr>
          <a:xfrm>
            <a:off x="4925880" y="1674720"/>
            <a:ext cx="3684600" cy="343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480" y="52578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Press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525780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auge1" descr=""/>
          <p:cNvPicPr/>
          <p:nvPr/>
        </p:nvPicPr>
        <p:blipFill>
          <a:blip r:embed="rId2"/>
          <a:srcRect l="16091" t="0" r="23169" b="61528"/>
          <a:stretch/>
        </p:blipFill>
        <p:spPr>
          <a:xfrm>
            <a:off x="533520" y="1800360"/>
            <a:ext cx="3502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56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720" y="518148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linder-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auge3" descr=""/>
          <p:cNvPicPr/>
          <p:nvPr/>
        </p:nvPicPr>
        <p:blipFill>
          <a:blip r:embed="rId1"/>
          <a:srcRect l="25473" t="0" r="24110" b="61222"/>
          <a:stretch/>
        </p:blipFill>
        <p:spPr>
          <a:xfrm>
            <a:off x="654120" y="1916280"/>
            <a:ext cx="3308400" cy="3297240"/>
          </a:xfrm>
          <a:prstGeom prst="rect">
            <a:avLst/>
          </a:prstGeom>
          <a:ln w="0">
            <a:noFill/>
          </a:ln>
        </p:spPr>
      </p:pic>
      <p:pic>
        <p:nvPicPr>
          <p:cNvPr id="55" name="carbgauge" descr=""/>
          <p:cNvPicPr/>
          <p:nvPr/>
        </p:nvPicPr>
        <p:blipFill>
          <a:blip r:embed="rId2"/>
          <a:stretch/>
        </p:blipFill>
        <p:spPr>
          <a:xfrm>
            <a:off x="4981680" y="1905120"/>
            <a:ext cx="3400200" cy="3281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67800" y="518148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uretor Ai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656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5257800"/>
            <a:ext cx="28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fold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gauge5" descr=""/>
          <p:cNvPicPr/>
          <p:nvPr/>
        </p:nvPicPr>
        <p:blipFill>
          <a:blip r:embed="rId1"/>
          <a:srcRect l="0" t="4996" r="56318" b="34970"/>
          <a:stretch/>
        </p:blipFill>
        <p:spPr>
          <a:xfrm>
            <a:off x="5105520" y="1884240"/>
            <a:ext cx="3300120" cy="3245040"/>
          </a:xfrm>
          <a:prstGeom prst="rect">
            <a:avLst/>
          </a:prstGeom>
          <a:ln w="0">
            <a:noFill/>
          </a:ln>
        </p:spPr>
      </p:pic>
      <p:pic>
        <p:nvPicPr>
          <p:cNvPr id="63" name="gauge4" descr=""/>
          <p:cNvPicPr/>
          <p:nvPr/>
        </p:nvPicPr>
        <p:blipFill>
          <a:blip r:embed="rId2"/>
          <a:srcRect l="0" t="11588" r="63833" b="36771"/>
          <a:stretch/>
        </p:blipFill>
        <p:spPr>
          <a:xfrm>
            <a:off x="609480" y="1828800"/>
            <a:ext cx="3276720" cy="342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8160" y="5257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h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3-01T14:58:12Z</cp:lastPrinted>
  <dcterms:modified xsi:type="dcterms:W3CDTF">1999-03-30T13:06:49Z</dcterms:modified>
  <cp:revision>30</cp:revision>
  <dc:subject/>
  <dc:title>No Slide Title</dc:title>
</cp:coreProperties>
</file>