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0E9-E141-4CF3-8540-52666981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2F7-7431-4942-9293-63485903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FAA-C304-4171-9542-61BA79A0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F84-150E-42C3-9C6D-62FB19B2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09D-151D-44FD-A977-4B8ABB08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9E2-708D-48D0-A94A-F18B55D6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0ED-DEE5-45FE-ADEE-F035A376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C33-691B-4818-B989-B4264632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85F-C8F4-45B5-832C-909DA071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378-3099-4926-A1B8-1D1FE1EB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411-7378-4CA3-AE1F-AA795771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FD8-3EB4-4062-96D5-C515E8D1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CEBA-F153-4ABA-883E-FC7247D6A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1120" y="152280"/>
            <a:ext cx="46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Supercharg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51280" y="310824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cha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51640" y="23464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ur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2720" y="182880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ke Manif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upercharger2" descr=""/>
          <p:cNvPicPr/>
          <p:nvPr/>
        </p:nvPicPr>
        <p:blipFill>
          <a:blip r:embed="rId1"/>
          <a:srcRect l="18938" t="2888" r="21331" b="5579"/>
          <a:stretch/>
        </p:blipFill>
        <p:spPr>
          <a:xfrm>
            <a:off x="2514600" y="12193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1295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523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420880" y="3328920"/>
            <a:ext cx="1120680" cy="57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912640" y="2550240"/>
            <a:ext cx="669240" cy="3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486040" y="2057400"/>
            <a:ext cx="1066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1120" y="152280"/>
            <a:ext cx="46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urbocharg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urbo%20charger2" descr=""/>
          <p:cNvPicPr/>
          <p:nvPr/>
        </p:nvPicPr>
        <p:blipFill>
          <a:blip r:embed="rId1"/>
          <a:srcRect l="3539" t="52264" r="23169" b="16104"/>
          <a:stretch/>
        </p:blipFill>
        <p:spPr>
          <a:xfrm>
            <a:off x="457200" y="1371600"/>
            <a:ext cx="6934320" cy="473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05040" y="350532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ocha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30520" y="16765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53280" y="265104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0" y="531828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ion Manif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0040" y="5089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ur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81040" y="50896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 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95920" y="1945800"/>
            <a:ext cx="666360" cy="22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629040" y="28195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629040" y="37339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562720" y="40384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581880" y="4603320"/>
            <a:ext cx="627480" cy="47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90720" y="2666520"/>
            <a:ext cx="144756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990720" y="4876920"/>
            <a:ext cx="14475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7:38:52Z</dcterms:created>
  <dc:creator>RC Air Cadets</dc:creator>
  <dc:description/>
  <dc:language>en-US</dc:language>
  <cp:lastModifiedBy>dnd</cp:lastModifiedBy>
  <cp:lastPrinted>1999-03-02T19:07:42Z</cp:lastPrinted>
  <dcterms:modified xsi:type="dcterms:W3CDTF">1999-03-30T13:09:09Z</dcterms:modified>
  <cp:revision>19</cp:revision>
  <dc:subject/>
  <dc:title>No Slide Title</dc:title>
</cp:coreProperties>
</file>