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1891-2E53-43FD-B7CB-CE014A4B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7753-E557-4350-8F48-AABDD2A7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7DAC-A196-4210-9F0D-6B1B90DC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D9A-763F-44E6-817E-18541D6C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5CC9-AC0A-45B7-AB5E-08F1418D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A90-D2A7-486D-8E59-38A9A348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FA53-DB1F-427E-8621-89581BEF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2CD-164F-4D44-9479-6F3F2261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975E-A908-4F88-8DC0-A1553C9F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1A3-8FDC-40DF-8E81-44A9C4B1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881-3331-440B-A481-EDDAE440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3F3E-6EB3-4FAA-9AD6-804EE10C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507E-A5D5-4AE6-8E46-1961BAAC4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905120"/>
            <a:ext cx="7620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M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LL FOR VOLUNT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380880"/>
            <a:ext cx="76201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FOUR TYPES OF ORD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1447920" cy="247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761760" cy="2638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19920" y="2057400"/>
            <a:ext cx="838080" cy="2860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696080" y="3124080"/>
            <a:ext cx="76212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45720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ORDER- GIVING PROCESS</a:t>
            </a:r>
            <a:endParaRPr b="0" lang="en-US" sz="4000" spc="1" strike="noStrike">
              <a:ln w="12600">
                <a:solidFill>
                  <a:srgbClr val="000080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pa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li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fi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alu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2819160" cy="2408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77120" y="2362320"/>
            <a:ext cx="18000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43000" y="533520"/>
            <a:ext cx="6858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RITTEN ORDER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33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to transmit orders to another loca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33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when Precise figures or complex details are involve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33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when it is necessary to hold a person responsible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33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when sequence is important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ict adherence is necess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400800" y="5257800"/>
            <a:ext cx="24811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66680" y="533520"/>
            <a:ext cx="6858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ERBAL ORDER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895480" y="2361960"/>
            <a:ext cx="5943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80008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in a local emergenc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80008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for minor details locall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80008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to clarify a written order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80008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in routine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25146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18T21:32:00Z</cp:lastPrinted>
  <dcterms:modified xsi:type="dcterms:W3CDTF">1999-02-22T19:54:44Z</dcterms:modified>
  <cp:revision>27</cp:revision>
  <dc:subject/>
  <dc:title>No Slide Title</dc:title>
</cp:coreProperties>
</file>