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84A-F7C8-4B5D-BC90-5E5B9D85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ACB-CDA0-49A0-BBA1-D8F4A74F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AF0-F29E-4EFF-9A04-E72E40E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3ED-590D-4E9E-B25C-3A05595A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FB1A-7850-42A4-ADDC-B8B2C72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312-76AE-45BD-BB4E-B566C917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C39-567A-4EAE-81A8-0CFAAF6F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859-4045-4892-B344-C4E4DACA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9D1-A4CF-4291-A34C-DC041A8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F42-7333-4A09-A0E7-63AA39C6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7CC-D33F-48EE-9C5C-2694075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11D-9D5E-4480-8F57-4723DB3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13F-42D4-428F-A669-3D00FD4D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1522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9360" y="15228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Prope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rop" descr=""/>
          <p:cNvPicPr/>
          <p:nvPr/>
        </p:nvPicPr>
        <p:blipFill>
          <a:blip r:embed="rId1"/>
          <a:srcRect l="0" t="0" r="2656" b="0"/>
          <a:stretch/>
        </p:blipFill>
        <p:spPr>
          <a:xfrm>
            <a:off x="152280" y="2268360"/>
            <a:ext cx="8839440" cy="253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6668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2520" y="22860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18120" y="2286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5800" y="2286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4440" y="23464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66688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638320" y="266688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87120" y="2696040"/>
            <a:ext cx="542160" cy="70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0760" y="76320"/>
            <a:ext cx="50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peller 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tch" descr=""/>
          <p:cNvPicPr/>
          <p:nvPr/>
        </p:nvPicPr>
        <p:blipFill>
          <a:blip r:embed="rId1"/>
          <a:srcRect l="4337" t="7213" r="0" b="7213"/>
          <a:stretch/>
        </p:blipFill>
        <p:spPr>
          <a:xfrm>
            <a:off x="2357280" y="1117440"/>
            <a:ext cx="5091120" cy="5359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03680" y="341784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5200" y="166536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 OF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1174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D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forward distance traveled by the propeller in one revolution.  It is defined by the blade 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large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urs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small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PROPELL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able-Pitch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Speed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3:18:58Z</dcterms:created>
  <dc:creator>RC Air Cadets</dc:creator>
  <dc:description/>
  <dc:language>en-US</dc:language>
  <cp:lastModifiedBy>dnd</cp:lastModifiedBy>
  <cp:lastPrinted>1999-03-26T19:50:36Z</cp:lastPrinted>
  <dcterms:modified xsi:type="dcterms:W3CDTF">1999-03-30T13:05:48Z</dcterms:modified>
  <cp:revision>8</cp:revision>
  <dc:subject/>
  <dc:title>No Slide Title</dc:title>
</cp:coreProperties>
</file>