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5E44-54B8-47CB-80BA-8EEE85C0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7685-A47F-4532-A9A6-448ED577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D1A6-415F-4A6C-8D1A-16CB592B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2DDD-8111-47E9-9546-544E1A5B6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BEDD-4381-4586-BA01-6B9B085A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FE7A-1569-4D37-A173-88C34697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B401-6877-48E9-9F56-D64E35F8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5C31-B0AC-49AA-8FCB-40537938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8E2E-DB93-44FF-8917-F8EC6E3D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EC98-8725-4A4A-BCA2-4FC1894D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5D4F-F81F-48D6-B79C-9485D292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4B1C-FAE4-4506-A428-CB8CCB8E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C3CD-6597-4C91-9963-EF9B84D0F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295280"/>
            <a:ext cx="4648320" cy="41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CROS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2.     THE LESSON MUST PROVIDE MENTAL AND/OR PHYSICAL___________________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5.    _____________ MUST BE ALLOTTED FOR CADETS TO PRACTI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6.     WHAT MUST AN INSTRUCTOR B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7.     LESSONS MUST PROVIDE THE TRAINEE WITH A SENSE OF ___________________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9.    LESSONS MUST START OUT AT THE LEVEL OF TRAINEE _____________________________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12.   ASKING QUESTIONS OR PERFORMING A PRACTICAL EXERCISE IS AN EXAMPLE OF WHAT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14.     YOU SHOULD DO THIS AT THE BEGINNING OF EACH LESS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78360" y="1295280"/>
            <a:ext cx="4265640" cy="49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OW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1.     THE LETTERS THAT REPRESENT THE SIX PRINCIPLES OF INSTRU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3.     THIS CAN BE USED TO STIMULATE CURIOSIT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4.     THIS MUST BE CREATED AND MAINTAINED BY THE INSTRUCTOR.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8.     REPEATING THINGS OVER AND OVER IS AN EXAMPLE OF___________________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10.    CADETS WHO ARE DOING WELL NEED______________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11.   USE TEACHING __________TO APPEAL TO AS MANY OF THE FIVE SENSES AS POSSI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13.    WHEN TEACHING THEORY, DIVIDE MATERIAL INTO LOGICAL PARTS AND PROCEED IN ___________________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91120" y="6400800"/>
            <a:ext cx="914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267080" y="5486400"/>
          <a:ext cx="533520" cy="12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5486400"/>
                    <a:ext cx="53352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76320" y="76320"/>
            <a:ext cx="5715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 409.02 Level Th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x A - Crossword Puzz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762120"/>
            <a:ext cx="5181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RINCIPLES OF 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772400" y="1981080"/>
            <a:ext cx="53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772400" y="2286000"/>
            <a:ext cx="53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0"/>
            <a:ext cx="5715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 409.02 Level Th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x A - Crossword Puzz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914400"/>
            <a:ext cx="5181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RINCIPLES OF 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495680" y="4876920"/>
          <a:ext cx="533520" cy="17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4876920"/>
                    <a:ext cx="533520" cy="17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733920" y="2286000"/>
          <a:ext cx="826920" cy="11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286000"/>
                    <a:ext cx="82692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04920" y="5334120"/>
          <a:ext cx="444240" cy="135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5334120"/>
                    <a:ext cx="444240" cy="13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7772400" y="1752480"/>
          <a:ext cx="838080" cy="243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72400" y="1752480"/>
                    <a:ext cx="83808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0" y="3429000"/>
            <a:ext cx="396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4382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21337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7432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30481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36576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36576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3828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36576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36576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91320" y="33526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588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00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33526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1028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4876920"/>
            <a:ext cx="30456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3200" y="45720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4876920"/>
            <a:ext cx="30456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4876920"/>
            <a:ext cx="30456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351960" y="45720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351960" y="54864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35196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45720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4876920"/>
            <a:ext cx="30456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18288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18288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18288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76920" y="18288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21337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24382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30481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27432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39625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42670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4320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4876920"/>
            <a:ext cx="30456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81480" y="15238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81480" y="24382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81480" y="21337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27432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81480" y="30481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8148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39625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0080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00800" y="45720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0080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1028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00800" y="54864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2960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534520" y="51814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51814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0080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51814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1520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1028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8148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8640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0120" y="51814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2468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21337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2133720"/>
            <a:ext cx="30456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21337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60958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3880" y="45720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54864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57913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60958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28800" y="60958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33720" y="60958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60958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60958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45720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54864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15200" y="60958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15200" y="57913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21337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315200" y="45720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8148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60958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5720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45720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8148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15238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4876920"/>
            <a:ext cx="30456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1-27T20:23:42Z</cp:lastPrinted>
  <dcterms:modified xsi:type="dcterms:W3CDTF">1999-01-27T20:57:08Z</dcterms:modified>
  <cp:revision>22</cp:revision>
  <dc:subject/>
  <dc:title>No Slide Title</dc:title>
</cp:coreProperties>
</file>