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BB53-692E-42DB-960D-FA51874C8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E5BE-8A5D-4628-8B6B-294B96AE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C4E3-3CBC-4F1A-90FC-FE204EDD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6E50-0378-43E7-8245-1DFA3D1A7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E040-4CF4-441B-96D3-81E8DF76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E2DB-6C57-4757-848B-A8280CF6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D9EE-D248-47AB-AA13-49711378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2F59-5749-4A0F-B4E6-3F7BB049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5D14-A45E-4B30-A180-9E5C02F4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75DB-9423-4094-B9F7-C76D777A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EFB0-AD97-4E7B-AD33-34AF24AC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CDC0-42AC-49A2-B0B0-9245D08F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EFD6-228D-4D06-B83B-52E678957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LLING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OUT THE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ede the command with the cautionary “CALLING OUT THE TIM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-&gt; Right Tu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ING OUT THE TIME, RIGHT TUR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quad wil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first movement: “ON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se: “TWO, THRE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he movement: “ON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934320" y="3276720"/>
          <a:ext cx="1590480" cy="30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3276720"/>
                    <a:ext cx="159048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2.0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CHANICAL AIDS TO DRI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U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RON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E STI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2.0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4T17:30:50Z</dcterms:created>
  <dc:creator>DND</dc:creator>
  <dc:description/>
  <dc:language>en-US</dc:language>
  <cp:lastModifiedBy>DND</cp:lastModifiedBy>
  <cp:lastPrinted>1999-02-09T17:25:56Z</cp:lastPrinted>
  <dcterms:modified xsi:type="dcterms:W3CDTF">1999-03-25T18:01:32Z</dcterms:modified>
  <cp:revision>4</cp:revision>
  <dc:subject/>
  <dc:title>CALLING OUT THE TIME</dc:title>
</cp:coreProperties>
</file>