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0E9-BF72-4ABD-8A8C-6D2B7A30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D89-F7F8-4A3E-84CE-C6DE9F09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E39-1DBA-4DD8-98A0-25D0C686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FF5-AB1D-4823-8302-3680D233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320-D73F-4159-A882-4E9ECD4A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8EF-B487-4574-A822-92085E76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FF1-F7C0-4CF5-B564-BB811868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691-5D1F-4301-B4F7-42C1FBAA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3E8-3D89-4823-8207-2A348AC0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D2A-5092-4DAB-8FA0-A86C2A0D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642-DA35-4256-8C43-9994BDD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5DA-612E-45C0-B15F-5C15657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9395-F587-4FE1-9EF1-2C4D3BAA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 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NTO TOWER THIS IS CESSNA ONE EIGHT FIVE –FOXTROT ALPHA DELTA TANGO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ATIONS THIS IS TORONTO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station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SNA FOXTROT NOVEMBER INDIA INDIA, PIPER FOXTROT X-RAY QUEBEC QUEBEC, PIPER GOLF LIMA LIMA DELTA THIS IS TORONTO T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781760" y="3886200"/>
          <a:ext cx="136224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1760" y="3886200"/>
                    <a:ext cx="136224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NG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762480" y="1295280"/>
            <a:ext cx="1074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sign of the station called (not more than thre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,once if radio conditions are 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 “THIS I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sign of your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n which you 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m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itation to reply (“OVER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5695920" y="213372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NERAL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SHOULD BE MADE TO ALL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AME PROCEDURE AS A SINGLE 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943600" y="3962520"/>
          <a:ext cx="271476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962520"/>
                    <a:ext cx="27147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TRANSMITTED IN CONVIENAN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 “THIS 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REPLY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572080" y="3429000"/>
          <a:ext cx="357192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3429000"/>
                    <a:ext cx="35719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PL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WII GIVE ONE OF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REPL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495680" y="2743200"/>
          <a:ext cx="28101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28101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9:07:02Z</dcterms:created>
  <dc:creator>DND</dc:creator>
  <dc:description/>
  <dc:language>en-US</dc:language>
  <cp:lastModifiedBy>dnd</cp:lastModifiedBy>
  <cp:lastPrinted>1999-02-19T18:58:18Z</cp:lastPrinted>
  <dcterms:modified xsi:type="dcterms:W3CDTF">1999-03-30T18:35:05Z</dcterms:modified>
  <cp:revision>13</cp:revision>
  <dc:subject/>
  <dc:title>SINGLE STATION CALL</dc:title>
</cp:coreProperties>
</file>