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00A3-1609-4842-BC55-69A7331C7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1BD2-0E39-4643-ABE8-D92D204D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3481-D943-4F14-9945-726640000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1C0E-13A3-4B44-9002-FAF1FF0A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941A-EE9A-4F2D-95FA-E84A988D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8D9B-AD4A-4162-8110-FEDCFB5C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C7D2-9670-4A3D-A45F-5E81358F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56E6-5C2A-4124-A92A-6162FF37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E22B-FE8E-4B31-8C38-57845862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1EE0-6AC5-4234-AD4A-AA0C3281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5C1B-C6C2-439A-A819-C7471EF2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B697-31A4-4F8C-8A2D-EC54C529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2A55-FA1B-41F8-BB41-58C46DA01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680" y="6545160"/>
            <a:ext cx="1308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1981080"/>
            <a:ext cx="44960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hysical fitness should be a part of everyone’s daily routine.  You will feel healthier and your self-confidence will improv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1779480"/>
            <a:ext cx="1904760" cy="1594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223040" y="4013280"/>
            <a:ext cx="1311480" cy="2028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20840" y="4049640"/>
            <a:ext cx="1865160" cy="1785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203960" y="1830240"/>
            <a:ext cx="1559160" cy="1370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41640" y="654516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80" y="6545160"/>
            <a:ext cx="1308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1905120"/>
            <a:ext cx="5715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WARM-U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ACTIV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COOL-DOW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1817640"/>
            <a:ext cx="2133720" cy="1552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705720" y="1770120"/>
            <a:ext cx="1371600" cy="1601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010280" y="3962520"/>
            <a:ext cx="1470240" cy="2131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733920" y="5105520"/>
            <a:ext cx="1520640" cy="826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65280" y="3868560"/>
            <a:ext cx="1392120" cy="2152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1600200"/>
            <a:ext cx="81532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aises Fitness Stand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Motivates Cad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reates Inter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onfirms Ability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repares Cadets for Advanced Cour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943600" y="1952640"/>
            <a:ext cx="2424240" cy="3122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8680" y="6545160"/>
            <a:ext cx="1308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229600" y="6553080"/>
            <a:ext cx="668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441640" y="654516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80" y="6545160"/>
            <a:ext cx="1308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271680" cy="4605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495680" y="1447920"/>
            <a:ext cx="5105520" cy="42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ENDURANCE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PARTIAL CURL- 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PUSH 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TANDING LONG JU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50 m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HUTTLE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8-12-14T23:33:42Z</cp:lastPrinted>
  <dcterms:modified xsi:type="dcterms:W3CDTF">1999-03-29T19:48:27Z</dcterms:modified>
  <cp:revision>24</cp:revision>
  <dc:subject/>
  <dc:title>No Slide Title</dc:title>
</cp:coreProperties>
</file>