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15F8-5595-427B-B7AA-6E396BD9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15AA-5A6D-46BA-B6FA-52DFC447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652F-EE07-4A40-AB16-46EB4A02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BA0-EF85-4DC0-946E-089B096B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80B-FAAA-4882-8713-C0C3DE73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680F-1306-4850-B4EE-A396D9C6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673-B60F-48C9-856D-83B7C38F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84F1-8533-4E3F-BF3E-FE1CCF40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BC2-6DFA-462E-A98E-665BEE9F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DA30-487F-4DA4-AF16-3F5089F0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982C-6BAB-4D94-B876-B20A7CE5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83CE-572E-48E6-BB6E-52DC7EDE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19FF-1439-4483-839E-4D72BCC5F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1136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Definition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Canadian Forces definition of leadership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art of influencing human behavior to accomplish a mission in the manner desired by the lead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438280" cy="200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715000" y="4191120"/>
            <a:ext cx="1527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3040" y="6572160"/>
            <a:ext cx="873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400" y="657216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8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26560" y="657216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The Principles of Lead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ad by setting a good exampl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now your cadets and look after their welfar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velop the qualities of leadership in your cadet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ke sound and timely decision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in your cadets to work as a tea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1-11T14:08:40Z</dcterms:modified>
  <cp:revision>13</cp:revision>
  <dc:subject/>
  <dc:title>No Slide Title</dc:title>
</cp:coreProperties>
</file>