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44EB-E820-4205-8DDF-9EF908F6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D288-DE7B-4D5F-9D38-A0C5FCED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69D-4313-49A3-BCDD-672E9288C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EFE8-2BD0-4D0B-8934-D43DF293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37C8-E171-4761-9AAF-525E0996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B573-4AC0-4917-8DC0-5AFF3042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70F-B998-4E57-83C9-39D68C139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A82B-5AC8-474A-B95F-B86A31EC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9C50-B910-4124-BA43-DEC02859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CF1C-8945-422A-96F6-7A30B524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69C-FBF9-4F0E-AB65-10FF5DE4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504C-CA27-4735-BE60-8399259D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2838-D6D4-46F2-B6BD-F91B48AFC6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r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r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force that opposes the forward motion of an aircra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wo main types of drag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asite dr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uced dr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site drag is further broken into two type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 dra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kin fri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Parasite Dr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asite drag is the drag produced by those parts of the aircraft that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o no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contribute to the production of lift.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rm drag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fers to the drag created by the form or shape of a body as it resists motion through the air.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kin fric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refers to the tendency of air flowing over a body to cling to its surfac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Induced Dra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ced drag is the drag produced by those parts of the aircraft tha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 a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production of lif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the result of the wing’s work and therefore a part of lift and can never be eliminated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drag2" descr=""/>
          <p:cNvPicPr/>
          <p:nvPr/>
        </p:nvPicPr>
        <p:blipFill>
          <a:blip r:embed="rId1"/>
          <a:stretch/>
        </p:blipFill>
        <p:spPr>
          <a:xfrm>
            <a:off x="946080" y="1339920"/>
            <a:ext cx="7740720" cy="4178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806400" y="1965240"/>
            <a:ext cx="216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G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UCED 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05160" y="4952880"/>
            <a:ext cx="1752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M 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91120" y="167652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SELAGE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SKIN 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2360" y="152280"/>
            <a:ext cx="35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ypes of Dra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54:28Z</dcterms:created>
  <dc:creator>RC Air Cadets</dc:creator>
  <dc:description/>
  <dc:language>en-US</dc:language>
  <cp:lastModifiedBy>dnd</cp:lastModifiedBy>
  <cp:lastPrinted>1999-02-23T15:00:22Z</cp:lastPrinted>
  <dcterms:modified xsi:type="dcterms:W3CDTF">1999-03-24T19:53:32Z</dcterms:modified>
  <cp:revision>3</cp:revision>
  <dc:subject/>
  <dc:title>No Slide Title</dc:title>
</cp:coreProperties>
</file>