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98B6-C5F1-4F59-AFCC-B956E997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F77D-61EA-4B10-851D-4CA81791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346-3C76-42BF-AD38-F37436EBD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BF7D-E6D1-4344-BDBA-BECC5BAC1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E08-AA5C-4355-9DD1-463F8E1B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E9DE-3E4B-4ED9-A8A0-03D28A32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791-CAC7-421A-83E8-CBDE3F7E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1B83-2544-4C10-AB45-5FB5B9B6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B540-CC8E-44B7-AF97-3E5633D2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8ED4-A38B-46B5-8FB1-C4E9ABEA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6EB8-387A-4CF1-AA3E-A14EED4A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ABA0-E5D8-471B-9BC6-D3C44F60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8DF7A-3624-4387-B2B1-DA249607B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80880" y="914400"/>
            <a:ext cx="11125080" cy="172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– Alph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 – Ind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– Queb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– Yank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– Brav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– Juli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 – Rom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Z - Zu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– Charli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 – Ki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 – S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– Del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 – Li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 – Tan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– Ech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 – Mik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 – Uni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– Foxtr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Novemb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 – Vi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– Gol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 – Osc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– Whis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– Hot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 – Pap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 – X-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HONETIC ALPHAB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-720" y="66135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radio" descr=""/>
          <p:cNvPicPr/>
          <p:nvPr/>
        </p:nvPicPr>
        <p:blipFill>
          <a:blip r:embed="rId1"/>
          <a:srcRect l="0" t="0" r="62520" b="63307"/>
          <a:stretch/>
        </p:blipFill>
        <p:spPr>
          <a:xfrm>
            <a:off x="6248520" y="2514600"/>
            <a:ext cx="228276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NUMB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219320"/>
            <a:ext cx="2819520" cy="499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0 - ZEE-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- W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 -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-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- FOW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720" y="66135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6720" y="1219320"/>
            <a:ext cx="3504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- F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 - 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 - 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 - A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 - NIN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comsqn" descr=""/>
          <p:cNvPicPr/>
          <p:nvPr/>
        </p:nvPicPr>
        <p:blipFill>
          <a:blip r:embed="rId1"/>
          <a:srcRect l="0" t="0" r="76968" b="53138"/>
          <a:stretch/>
        </p:blipFill>
        <p:spPr>
          <a:xfrm>
            <a:off x="5238720" y="1676520"/>
            <a:ext cx="3905280" cy="34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4T15:32:14Z</dcterms:created>
  <dc:creator>DND</dc:creator>
  <dc:description/>
  <dc:language>en-US</dc:language>
  <cp:lastModifiedBy>DND</cp:lastModifiedBy>
  <cp:lastPrinted>1999-01-14T15:52:08Z</cp:lastPrinted>
  <dcterms:modified xsi:type="dcterms:W3CDTF">1999-01-29T19:55:20Z</dcterms:modified>
  <cp:revision>6</cp:revision>
  <dc:subject/>
  <dc:title>PHONETIC ALPHABET</dc:title>
</cp:coreProperties>
</file>