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BEE5-260E-49DC-A508-1FA9604AD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A4F3-4088-4549-A208-7301CB59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DF4-856A-4FF7-B987-0673D0A4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D86A-8516-43B6-AD39-4E4351C2C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814E-F5A5-4938-B295-58C21043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0090-083A-4FE9-A681-87DEB8ADB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582-E906-460F-B4A8-E10EBAF0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657B-5689-4DE0-8348-4357E77D1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BEB-5D21-47CC-9C87-FE054CBF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DF7-9D8A-429A-9481-670C011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E4E-A842-435F-B70E-312653D2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EC1-68CC-4B8A-90D7-343B7747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3AAF-25C3-4B29-A170-A3B1CDBB8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560" y="15228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nal Combustion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29559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27360" y="127944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k Pl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057760" y="37940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81160" y="173664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85000" y="173664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4428360" y="3689640"/>
            <a:ext cx="1125360" cy="1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37960" y="350532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ng R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4504680" y="5365800"/>
            <a:ext cx="11250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3920" y="516564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anksha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92360" y="152280"/>
            <a:ext cx="387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dial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radial" descr=""/>
          <p:cNvPicPr/>
          <p:nvPr/>
        </p:nvPicPr>
        <p:blipFill>
          <a:blip r:embed="rId1"/>
          <a:stretch/>
        </p:blipFill>
        <p:spPr>
          <a:xfrm>
            <a:off x="1981080" y="1285920"/>
            <a:ext cx="5419800" cy="5114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431720" y="152280"/>
            <a:ext cx="595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orizontally Oppos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horizontal" descr=""/>
          <p:cNvPicPr/>
          <p:nvPr/>
        </p:nvPicPr>
        <p:blipFill>
          <a:blip r:embed="rId1"/>
          <a:stretch/>
        </p:blipFill>
        <p:spPr>
          <a:xfrm>
            <a:off x="2009880" y="1701720"/>
            <a:ext cx="512280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72200" y="152280"/>
            <a:ext cx="201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-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nline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58914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3808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parts of the internal combustion engine in the correct sp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428360" y="3689640"/>
            <a:ext cx="1125360" cy="12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560" bIns="-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504680" y="5365800"/>
            <a:ext cx="1125000" cy="12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152388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5880" y="21337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38098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563868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1523880" y="4191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1523520" y="3276720"/>
            <a:ext cx="129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371600" y="2362320"/>
            <a:ext cx="12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40840" y="38088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29400" y="762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2:59:42Z</dcterms:created>
  <dc:creator>RC Air Cadets</dc:creator>
  <dc:description/>
  <dc:language>en-US</dc:language>
  <cp:lastModifiedBy>dnd</cp:lastModifiedBy>
  <cp:lastPrinted>1999-02-25T13:36:32Z</cp:lastPrinted>
  <dcterms:modified xsi:type="dcterms:W3CDTF">1999-03-24T20:21:37Z</dcterms:modified>
  <cp:revision>10</cp:revision>
  <dc:subject/>
  <dc:title>No Slide Title</dc:title>
</cp:coreProperties>
</file>