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1FFA-80A0-43EF-9BB4-BE25A162E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868-71CA-4348-A2B5-EB37A9398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571C-B457-44DE-BB36-35EEDBEAE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36DA-941C-430D-9BB2-636851B8A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DEA-7EE3-4390-81EB-27D1C82A2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F07-91EA-4A90-9EAC-AF054623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EDA-EE06-43B2-BAF7-3FD86EC3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0C92-C0FA-45B1-9C10-CB5D213C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A1D-3A0D-4E0D-985E-E9708735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D0EA-5D96-432E-B2D8-4917124CF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B50-1D31-4BEA-9D5D-496E4B73B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3DEB-5B17-4E9B-A729-E1A38A32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59272-332C-402D-964F-EB8D2861D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Effect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4800600" cy="73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35:04Z</dcterms:created>
  <dc:creator>DND</dc:creator>
  <dc:description/>
  <dc:language>en-US</dc:language>
  <cp:lastModifiedBy>DND</cp:lastModifiedBy>
  <cp:lastPrinted>1998-12-18T13:39:01Z</cp:lastPrinted>
  <dcterms:modified xsi:type="dcterms:W3CDTF">1998-12-18T13:40:08Z</dcterms:modified>
  <cp:revision>1</cp:revision>
  <dc:subject/>
  <dc:title>No Slide Title</dc:title>
</cp:coreProperties>
</file>