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AADC-043D-4280-98F5-94D894C4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BD9A-29AF-4BE3-A57F-FDECBB27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D81F-5162-4492-B9D7-AFB08A7F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87DE-96DD-45E9-BC18-D2EEE3A16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51D9-FDE8-4504-91BE-4F9CC74D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CB6-2A0F-4A32-BF2A-625C0546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2F2F-87D7-4BF7-B5CB-B1EEACA2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93EB-E2AF-4B31-89B0-224010B3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E33E-5682-49B1-9D7B-D9D2C979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0CC7-0887-4FDE-A4BF-AC5F5819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8E0-2B1A-4877-89CE-242D9AF0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97A-0EDB-4AB5-9F58-F6613218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8A2D-3838-4705-8F13-471D635903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0320" y="15228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ontrol Surf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ntrols2" descr=""/>
          <p:cNvPicPr/>
          <p:nvPr/>
        </p:nvPicPr>
        <p:blipFill>
          <a:blip r:embed="rId1"/>
          <a:stretch/>
        </p:blipFill>
        <p:spPr>
          <a:xfrm>
            <a:off x="380880" y="1442880"/>
            <a:ext cx="8123400" cy="4653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78200" y="36576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10600" y="37180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7320" y="15080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6040" y="1523880"/>
            <a:ext cx="127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7924680" y="4876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9320" y="376200"/>
            <a:ext cx="38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Ailer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ai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6843600" cy="4707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876920" y="4419720"/>
            <a:ext cx="266688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96320" y="452520"/>
            <a:ext cx="356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Rud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38680" y="6172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udder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615000" cy="4577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4648320"/>
            <a:ext cx="2133360" cy="1600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673360" y="452520"/>
            <a:ext cx="383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Eleva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07732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67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ele" descr=""/>
          <p:cNvPicPr/>
          <p:nvPr/>
        </p:nvPicPr>
        <p:blipFill>
          <a:blip r:embed="rId1"/>
          <a:stretch/>
        </p:blipFill>
        <p:spPr>
          <a:xfrm>
            <a:off x="1066680" y="1905120"/>
            <a:ext cx="7513920" cy="4676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876920" y="4648320"/>
            <a:ext cx="3657600" cy="167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3:05:07Z</dcterms:modified>
  <cp:revision>10</cp:revision>
  <dc:subject/>
  <dc:title>No Slide Title</dc:title>
</cp:coreProperties>
</file>