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0EED-A675-4A3D-AB8B-B18423A4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6315-216E-4C3B-B17A-EB1F8068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869-57E0-46F9-A1FA-BD1340323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F6EA-EA9A-4811-9191-96297C305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DF6-D083-4608-BE80-69C4674BD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DDA7-2C4E-49B0-88EB-59CDF315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B8FF-BD83-478D-9A69-A23F591E3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8B1-F737-4F9B-8645-1AFE7DA39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EFB4-35A7-44F9-9117-A3F514F9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D90-6EBD-48A7-95DB-5B56002E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E5A0-9D5B-4906-B781-E1DD6BF9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F872-8D36-49C5-9BCC-80AD7226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6C35-3692-4501-A9EF-05A08B181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76520"/>
          <a:ext cx="553392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553392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5410080" y="838080"/>
          <a:ext cx="7088400" cy="8114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838080"/>
                    <a:ext cx="7088400" cy="8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103400" y="1600200"/>
          <a:ext cx="5754600" cy="6629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3400" y="1600200"/>
                    <a:ext cx="57546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334120" y="838080"/>
          <a:ext cx="7468920" cy="85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838080"/>
                    <a:ext cx="74689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990720" y="1752480"/>
          <a:ext cx="5562360" cy="525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752480"/>
                    <a:ext cx="55623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990720" y="1600200"/>
          <a:ext cx="5234040" cy="63244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1600200"/>
                    <a:ext cx="523404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14:51Z</dcterms:modified>
  <cp:revision>7</cp:revision>
  <dc:subject/>
  <dc:title>No Slide Title</dc:title>
</cp:coreProperties>
</file>