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2289-FF20-4DBF-BA4C-EF7258AB4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CA2F-C0BD-4927-A814-C992205C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DEED-1D79-46C4-996C-80E0E82CC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1BD3-47A5-4F3F-AFE6-DE8739D8D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0F898-96F4-4C45-943D-093B6991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5B96-F0C2-4027-8A22-F65CFACE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BEC6-CD94-4B9B-8A8E-E32784D9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A5FA-1ADE-45D3-9A02-B46A6EE0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9810-75AF-45AF-9D19-2E9765BC5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EEEA-2483-4DB3-9DE0-B3E533FA3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8971-4FC0-4E07-A781-AED9E1DB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0445-26D1-40DB-8894-64115445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0734-F4F3-4A4B-95B5-B90F9879C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EAN-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mean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6960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AN-TO CONSTRU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leantoo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8229600" cy="49528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height2" descr=""/>
          <p:cNvPicPr/>
          <p:nvPr/>
        </p:nvPicPr>
        <p:blipFill>
          <a:blip r:embed="rId1"/>
          <a:stretch/>
        </p:blipFill>
        <p:spPr>
          <a:xfrm>
            <a:off x="3657600" y="1143000"/>
            <a:ext cx="2260440" cy="53434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LENGTH OF RIDGE PO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830600" y="1523880"/>
            <a:ext cx="11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200040" y="1752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SPRUCE BOUGH COV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TREES" descr="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380880" y="213372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441640" y="6545160"/>
            <a:ext cx="6696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HP # 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9400" y="6545160"/>
            <a:ext cx="1181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vel Two 419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6553080"/>
            <a:ext cx="899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FALLEN TREE SHEL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newtree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72198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06T14:41:36Z</dcterms:created>
  <dc:creator>DND</dc:creator>
  <dc:description/>
  <dc:language>en-US</dc:language>
  <cp:lastModifiedBy>DND</cp:lastModifiedBy>
  <cp:lastPrinted>1999-03-01T14:46:34Z</cp:lastPrinted>
  <dcterms:modified xsi:type="dcterms:W3CDTF">1999-03-01T18:43:16Z</dcterms:modified>
  <cp:revision>11</cp:revision>
  <dc:subject/>
  <dc:title>SPRUCE BOUGH COVERING</dc:title>
</cp:coreProperties>
</file>