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094-15FF-4B2A-B3A2-180AF4928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1CC0-2490-41CC-A663-85FD51BB0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78A7-EC85-4AA7-AF76-7DF355684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5943-FFA2-481E-B286-49C9C73A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B28F-15C9-499A-B466-F0E9938C5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3998-7696-4BFC-8A0D-BF21038D1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E10C-26B1-4E4C-AEFA-28F4EDF0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B9EC-0B7E-4DC0-9409-D5DD90E93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04D6-CABB-4A70-BCD2-0F48F96E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194C-FBC7-4A81-8F93-E3BCCAEDC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E80-632B-40FB-AD00-E0C76B7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ADA2-C797-47B2-A917-D8B77C73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C5FC-0C7B-40FF-895A-01122E589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438280"/>
            <a:ext cx="6096240" cy="77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ake a shower or ba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every other da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ash dirty clothes once a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Trim finger and toe nail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regular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66680" y="762120"/>
            <a:ext cx="468648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4608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aettenschweiler"/>
              </a:rPr>
              <a:t>  </a:t>
            </a:r>
            <a:r>
              <a:rPr b="1" lang="en-US" sz="7200" spc="-1" strike="noStrike" u="sng">
                <a:solidFill>
                  <a:srgbClr val="000000"/>
                </a:solidFill>
                <a:uFillTx/>
                <a:latin typeface="Haettenschweiler"/>
              </a:rPr>
              <a:t>GOOD HYGIEN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32763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Haettenschweiler"/>
              </a:rPr>
              <a:t>rules to……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438280"/>
            <a:ext cx="6096240" cy="63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Use foot powder after eac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ath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Brush and floss your teeth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after each mea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Haettenschweiler"/>
              </a:rPr>
              <a:t>Shave if requi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240" y="8737560"/>
            <a:ext cx="674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760" y="872640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5880" y="8737560"/>
            <a:ext cx="704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" y="8763120"/>
            <a:ext cx="1362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hree 406.01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cfg5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640080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5T18:06:34Z</cp:lastPrinted>
  <dcterms:modified xsi:type="dcterms:W3CDTF">1999-03-11T15:57:41Z</dcterms:modified>
  <cp:revision>10</cp:revision>
  <dc:subject/>
  <dc:title>No Slide Title</dc:title>
</cp:coreProperties>
</file>