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61D8-3831-48B8-A57B-A358BF8FA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0705-2F99-401D-BD35-515176B7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CD7D-EBD7-4317-9289-0F5E22EF2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3316-AA50-40EB-AAAA-DB69BC7DD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DD44-5E01-4E28-AF11-5A613278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E033-FEB5-474A-AB46-D4D1580B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E1EA-0A69-4D8C-B59E-4B9836EA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7DA4-BFBB-4E9A-BE05-A6704068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C1E6-F042-4161-B74C-25956454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2296-A571-413A-B172-8A9E1686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DD8B-261B-4CEF-A105-9792C7AC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D59-2A9F-49D8-8CC8-2961AAE7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7EA6-C297-4608-8E1D-8BA8E2C3E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200" y="6572160"/>
            <a:ext cx="1271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Principles of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municate your ideas and thought clearl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ep your cadets informed of all even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ake good personal initiativ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 your strengths and weaknesses;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eat your cadets as you would like to be tre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11T14:02:20Z</dcterms:created>
  <dc:creator>dnd</dc:creator>
  <dc:description/>
  <dc:language>en-US</dc:language>
  <cp:lastModifiedBy>dnd</cp:lastModifiedBy>
  <dcterms:modified xsi:type="dcterms:W3CDTF">1999-01-11T14:08:21Z</dcterms:modified>
  <cp:revision>2</cp:revision>
  <dc:subject/>
  <dc:title>The Principles of Leadership</dc:title>
</cp:coreProperties>
</file>