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92202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16E-AEF3-44D5-9472-32AAE8BC2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866-4C90-43A3-85C7-BAF80D805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2A81-E981-439A-97FD-5204E7661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D7A66-B324-4362-9404-F89EFD44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9CA8-4C29-4D3D-853B-ED17E16D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4511-C9AA-40E8-B49C-4C8EAE11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424E-5452-460B-BF96-383CBDF8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447B-9266-4091-B100-6A5FEBE7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D335-F58A-42B5-B43A-FE478A53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1638-4C0F-4D65-B1A2-F4A8A1F1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BF04-D138-4415-9724-2037081A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9D49-E162-42CA-AFED-FA1F5278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01BD5-8EC9-4AD2-97F8-17D00B688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e1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400800" cy="868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Valued Customer</dc:creator>
  <dc:description/>
  <dc:language>en-US</dc:language>
  <cp:lastModifiedBy>dnd</cp:lastModifiedBy>
  <cp:lastPrinted>1998-12-18T00:28:34Z</cp:lastPrinted>
  <dcterms:modified xsi:type="dcterms:W3CDTF">1999-03-23T15:24:37Z</dcterms:modified>
  <cp:revision>21</cp:revision>
  <dc:subject/>
  <dc:title>No Slide Title</dc:title>
</cp:coreProperties>
</file>