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D1EA-3810-4F28-BAF0-5D85B652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87E-8FE6-455F-9E93-03515D18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A5E6-24A1-405C-A6C3-57DEEB14B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D182-B215-44AD-8CA6-B26336B8D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8256-1E59-457B-B5CA-332ED231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7D9-ECE6-4F29-ACEE-AA9A62D9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3033-78D6-411C-A29C-E56908BB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01F5-BA2E-4C7D-AF47-34636ADA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AC11-56E4-406E-B576-F3DF2D54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CA35-71A4-4DFC-9246-1488A662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664A-9E21-4944-B4D2-56522DD0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30C4-03A8-456C-B57E-E92AA4C5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6160-4738-4F49-8E6F-F97EDC718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228600"/>
          <a:ext cx="876312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76312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04920" y="1981080"/>
            <a:ext cx="23619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EATING WE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200400" y="2743200"/>
            <a:ext cx="27432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BEING ACT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43600" y="2438280"/>
            <a:ext cx="32004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Britannic Bold"/>
              </a:rPr>
              <a:t>FEELING   GOOD ABOUT YOURSEL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3352680"/>
            <a:ext cx="2959200" cy="318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4114800"/>
            <a:ext cx="2806920" cy="242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58000" y="5029200"/>
            <a:ext cx="3186000" cy="151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3657600"/>
          <a:ext cx="2362320" cy="25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236232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76720" y="4114800"/>
          <a:ext cx="2514600" cy="2209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76720" y="4114800"/>
                    <a:ext cx="251460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6705720" y="4952880"/>
          <a:ext cx="1676160" cy="1447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05720" y="4952880"/>
                    <a:ext cx="167616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671480" y="228600"/>
          <a:ext cx="6086520" cy="205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71480" y="228600"/>
                    <a:ext cx="60865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75240" y="6545160"/>
            <a:ext cx="1605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406.01a Level Th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24280" y="6583320"/>
            <a:ext cx="4267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andout #1 - Maintaining a Safe and Healthy Lifest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11T15:57:02Z</cp:lastPrinted>
  <dcterms:modified xsi:type="dcterms:W3CDTF">1999-03-11T15:57:04Z</dcterms:modified>
  <cp:revision>21</cp:revision>
  <dc:subject/>
  <dc:title>No Slide Title</dc:title>
</cp:coreProperties>
</file>