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580F-3E60-4631-814F-89BDA49D4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BAAE-FEFD-4954-9C74-8E7DD68A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A859-E797-4081-B895-22A479860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F52E-9C4B-456C-9C58-5B6715889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965F-A602-4141-8DBF-8A93BEE64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9F52-2ECF-4171-A03D-0E344763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7A1C-7825-4DFB-B903-FCBB3746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C4A1-69DE-4172-B606-A7C136635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A8FD-8F64-4663-A476-05AA6D1AA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D1F1-7C8F-400B-9D46-A71DAA54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0083-5858-4BE8-8CEB-91D65246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46A4-B116-4E21-BA91-6484BBEE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63CE2-49BD-4EA0-AC6C-FEC01195AD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iizen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6095880" cy="78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2-18T13:58:12Z</dcterms:created>
  <dc:creator>dnd</dc:creator>
  <dc:description/>
  <dc:language>en-US</dc:language>
  <cp:lastModifiedBy>dnd</cp:lastModifiedBy>
  <cp:lastPrinted>1998-12-18T14:03:14Z</cp:lastPrinted>
  <dcterms:modified xsi:type="dcterms:W3CDTF">1999-01-04T18:05:20Z</dcterms:modified>
  <cp:revision>2</cp:revision>
  <dc:subject/>
  <dc:title>No Slide Title</dc:title>
</cp:coreProperties>
</file>