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DF6A-AC22-4BF8-8FAA-EB13DDA4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771E-9D64-4548-BA48-6F6F2628C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E4D1-8673-4D22-8DD7-20CB4DDE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63A3-6D83-47F4-8F17-70E59BD63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1DA-33F5-406B-AA02-0DBE4835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BB67-9833-4FD0-8978-EC69909C6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69E7-BFC5-4B2C-91F5-6AA9B6C52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F49-E96E-4503-9F91-FD0798EAE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0A42-5F6A-441F-88A8-3A44EC563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30E-2C6E-4260-851B-E975F6493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FC3D-8E68-4D4A-9E1A-83936B24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A537-2DC6-41D5-B672-23DCC9D5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D4AC-BC7B-458A-8021-6104D9477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04920" y="16002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utocracy - Ira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ligarch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- Guatemal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emocracy - Can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1880" y="6553080"/>
            <a:ext cx="6858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6600" y="6545160"/>
            <a:ext cx="11937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Level Two 404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715000" y="4724280"/>
            <a:ext cx="2362320" cy="1200240"/>
          </a:xfrm>
          <a:prstGeom prst="rect">
            <a:avLst/>
          </a:prstGeom>
          <a:ln w="0">
            <a:noFill/>
          </a:ln>
        </p:spPr>
      </p:pic>
      <p:pic>
        <p:nvPicPr>
          <p:cNvPr id="46" name="iraq" descr=""/>
          <p:cNvPicPr/>
          <p:nvPr/>
        </p:nvPicPr>
        <p:blipFill>
          <a:blip r:embed="rId2"/>
          <a:stretch/>
        </p:blipFill>
        <p:spPr>
          <a:xfrm>
            <a:off x="3352680" y="2209680"/>
            <a:ext cx="2286000" cy="1254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1066680" y="22860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Forms of Governm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pic>
        <p:nvPicPr>
          <p:cNvPr id="48" name="Guatemala" descr=""/>
          <p:cNvPicPr/>
          <p:nvPr/>
        </p:nvPicPr>
        <p:blipFill>
          <a:blip r:embed="rId3"/>
          <a:stretch/>
        </p:blipFill>
        <p:spPr>
          <a:xfrm>
            <a:off x="1066680" y="4648320"/>
            <a:ext cx="221004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4T18:08:03Z</dcterms:created>
  <dc:creator>dnd</dc:creator>
  <dc:description/>
  <dc:language>en-US</dc:language>
  <cp:lastModifiedBy>dnd</cp:lastModifiedBy>
  <cp:lastPrinted>1999-03-05T12:12:33Z</cp:lastPrinted>
  <dcterms:modified xsi:type="dcterms:W3CDTF">1999-03-05T12:12:36Z</dcterms:modified>
  <cp:revision>6</cp:revision>
  <dc:subject/>
  <dc:title>Forms of Government</dc:title>
</cp:coreProperties>
</file>