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F7A1-ECC8-4BA9-86C5-BB21B4251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7276-19AE-429B-9D72-510FDDA0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829D-8028-4566-BD0D-6E97C7C4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477A-2DE7-487C-94BC-5D9FEE25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4123-F16F-40C0-AC38-FFE18A30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DC5-4A5D-4ECA-89EE-B8429D6C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D1B5-CAA6-482B-9721-B20985E30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AB46-4246-47D5-B3F7-DF8AA10E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3A71-C28F-446F-8845-6D4F5537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EC4E-DD6C-47DC-A223-3C4C15EA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3C8A-395A-4085-B0B5-73E2DA4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75BD-3912-4704-ADA0-8BA8D214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0518-17E9-4539-A55D-620990545E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286000"/>
            <a:ext cx="7543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e whispering each of the following clear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uthing each word separately. Have some other person listen to you from more than 25 feet away. Say your name, your age, your home squadron. Read a sentence from a book. Perform this drill at least 3 full times. Keep slowing down your pace, making sure you use your jaw, lips and tongue on every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3 - Voice Exercises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3:00:09Z</dcterms:modified>
  <cp:revision>5</cp:revision>
  <dc:subject/>
  <dc:title>FACTORS THAT AFFECT THE HUMAN VOICE </dc:title>
</cp:coreProperties>
</file>