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97E1-812E-4C2C-8DE7-08597C77C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F1A4-CF2E-4F24-BA90-101B2F8C4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3BA-BC72-4DA8-8584-53B472B67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1238-D61E-4C22-B073-A85617D32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BA14-86E0-4FB7-948E-2C966150A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560-8BE8-4B9A-80B3-F3639B73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C2DB-1E4E-4FEA-B8BB-D1E6833E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BD4B-90A2-471C-8809-89A7388A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BD2E-998F-4351-83C2-E940D959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7429-8A91-4672-9AC9-DFC412E5D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7976-3544-43D3-9856-BD6860603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F26B-E63A-4576-A3EC-84049708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F533-7491-4BD1-BB77-89B74EF014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6426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RMY CADET JUNIOR NCM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1381320" cy="1019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752480" y="3200400"/>
            <a:ext cx="140040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733400" y="4724280"/>
            <a:ext cx="1543320" cy="1295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505320" y="1752480"/>
            <a:ext cx="2130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3429000"/>
            <a:ext cx="33685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rp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489480" y="4906800"/>
            <a:ext cx="42829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aster Corpor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MY CADET SENIOR NCM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990720"/>
            <a:ext cx="1447920" cy="1209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124080" y="1143000"/>
            <a:ext cx="2868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rge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676520" y="228600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124080" y="2666880"/>
            <a:ext cx="486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5334120"/>
            <a:ext cx="5029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ief 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1523880" y="487692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124080" y="3733920"/>
            <a:ext cx="5715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aster Warrant Offic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0880" y="5029200"/>
            <a:ext cx="1381320" cy="10191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80880" y="3657600"/>
            <a:ext cx="140040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352680" y="2438280"/>
            <a:ext cx="1543320" cy="12956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" y="990720"/>
            <a:ext cx="1447920" cy="1209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3505320" y="99072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457200" y="2362320"/>
            <a:ext cx="1371600" cy="1066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3352680" y="4038480"/>
            <a:ext cx="1447920" cy="16002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286000" y="51814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38098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251460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0" y="121932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181480" y="137160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181480" y="26668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181480" y="4495680"/>
            <a:ext cx="53352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1295280"/>
            <a:ext cx="304812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Master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Priv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Serge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Chief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Master Corp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Warrant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 Corpor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62520" y="5791320"/>
            <a:ext cx="48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ch letter with correct rank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MY CADET RANK MATCHING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6095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71600" y="6400800"/>
            <a:ext cx="1752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04T22:22:14Z</cp:lastPrinted>
  <dcterms:modified xsi:type="dcterms:W3CDTF">1999-02-16T22:33:16Z</dcterms:modified>
  <cp:revision>21</cp:revision>
  <dc:subject/>
  <dc:title>No Slide Title</dc:title>
</cp:coreProperties>
</file>