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DFD1-ACC0-4E50-8270-D39A3A9E2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2A85-CEDC-4C89-B1AD-B8397F14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CECB-8A8D-4415-9BEE-23A596754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8438-F5A9-4334-8109-032489B9C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8E5-4231-4940-A010-98EA9042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332D-2A8D-4EFF-BE76-8397744D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9F98-9B20-4EA8-B324-2CF101A4C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2BD2-97B1-4742-A6B2-653A0012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7A9B-FB47-42F4-8DCC-D0C9130A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DE7-5989-4C01-82F0-F0250DE1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C61E-B3C5-4D84-8BF3-5ED74182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108-839A-4281-961C-28FFB9B1B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8BD6-9DCD-43D2-A1D6-49F1679FB4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oilet" descr=""/>
          <p:cNvPicPr/>
          <p:nvPr/>
        </p:nvPicPr>
        <p:blipFill>
          <a:blip r:embed="rId1"/>
          <a:srcRect l="24341" t="27920" r="55050" b="47195"/>
          <a:stretch/>
        </p:blipFill>
        <p:spPr>
          <a:xfrm>
            <a:off x="6172200" y="4251240"/>
            <a:ext cx="2193840" cy="2079720"/>
          </a:xfrm>
          <a:prstGeom prst="rect">
            <a:avLst/>
          </a:prstGeom>
          <a:ln w="0">
            <a:noFill/>
          </a:ln>
        </p:spPr>
      </p:pic>
      <p:pic>
        <p:nvPicPr>
          <p:cNvPr id="42" name="seal" descr=""/>
          <p:cNvPicPr/>
          <p:nvPr/>
        </p:nvPicPr>
        <p:blipFill>
          <a:blip r:embed="rId2"/>
          <a:srcRect l="22675" t="21179" r="56619" b="54150"/>
          <a:stretch/>
        </p:blipFill>
        <p:spPr>
          <a:xfrm>
            <a:off x="6400800" y="2133720"/>
            <a:ext cx="2138400" cy="1912680"/>
          </a:xfrm>
          <a:prstGeom prst="rect">
            <a:avLst/>
          </a:prstGeom>
          <a:ln w="0">
            <a:noFill/>
          </a:ln>
        </p:spPr>
      </p:pic>
      <p:pic>
        <p:nvPicPr>
          <p:cNvPr id="43" name="fan" descr=""/>
          <p:cNvPicPr/>
          <p:nvPr/>
        </p:nvPicPr>
        <p:blipFill>
          <a:blip r:embed="rId3"/>
          <a:srcRect l="18175" t="14389" r="59924" b="56549"/>
          <a:stretch/>
        </p:blipFill>
        <p:spPr>
          <a:xfrm>
            <a:off x="457200" y="1154160"/>
            <a:ext cx="2203560" cy="2198520"/>
          </a:xfrm>
          <a:prstGeom prst="rect">
            <a:avLst/>
          </a:prstGeom>
          <a:ln w="0">
            <a:noFill/>
          </a:ln>
        </p:spPr>
      </p:pic>
      <p:pic>
        <p:nvPicPr>
          <p:cNvPr id="44" name="yield" descr=""/>
          <p:cNvPicPr/>
          <p:nvPr/>
        </p:nvPicPr>
        <p:blipFill>
          <a:blip r:embed="rId4"/>
          <a:srcRect l="21173" t="11793" r="58724" b="59948"/>
          <a:stretch/>
        </p:blipFill>
        <p:spPr>
          <a:xfrm>
            <a:off x="685800" y="3429000"/>
            <a:ext cx="1600200" cy="1689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30960" y="152280"/>
            <a:ext cx="558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he Functions of O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24440" y="1566720"/>
            <a:ext cx="236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Coo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800" y="2787480"/>
            <a:ext cx="234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Sea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440" y="4006800"/>
            <a:ext cx="30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  Lubric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5160" y="5302080"/>
            <a:ext cx="25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.  Flush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152280"/>
            <a:ext cx="358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ame the fou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nctions of oi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16160" y="17208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16160" y="301608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16160" y="4235400"/>
            <a:ext cx="304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10400" y="5516640"/>
            <a:ext cx="31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20440" y="55080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450120" y="2454120"/>
            <a:ext cx="208440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12:56:01Z</dcterms:created>
  <dc:creator>RC Air Cadets</dc:creator>
  <dc:description/>
  <dc:language>en-US</dc:language>
  <cp:lastModifiedBy>dnd</cp:lastModifiedBy>
  <cp:lastPrinted>1999-02-26T17:18:48Z</cp:lastPrinted>
  <dcterms:modified xsi:type="dcterms:W3CDTF">1999-03-29T15:18:52Z</dcterms:modified>
  <cp:revision>11</cp:revision>
  <dc:subject/>
  <dc:title>No Slide Title</dc:title>
</cp:coreProperties>
</file>