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D4B5-4AD9-4BF5-B490-5D6C860B1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D09-CA3C-4DFC-9B2D-FDC71B5F4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E651-4289-4726-AA59-50EA15F6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646B-5D13-465A-88D3-FBFE586C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0762-7247-4E8F-901D-0B9A1A67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CA6-68DD-4382-A0B8-FB80096EB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A34C-495B-476A-AFB8-77CE64B6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82EF-1A79-4C48-B3FA-6DB1DEB2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4F25-6E7E-4187-AE3B-0DFAF133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A758-C857-4F5E-9A3C-710410B5D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59B-E157-4A0A-813F-A1F908DA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66FA-D133-4B78-B472-103CCF87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EFA63-BF50-4275-9F51-2DCDF6171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267080" y="838080"/>
          <a:ext cx="7012080" cy="800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838080"/>
                    <a:ext cx="701208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90720" y="1828800"/>
          <a:ext cx="5529240" cy="57913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1828800"/>
                    <a:ext cx="552924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1523880" y="1828800"/>
          <a:ext cx="4319640" cy="6781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23880" y="1828800"/>
                    <a:ext cx="4319640" cy="67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7T00:18:58Z</dcterms:created>
  <dc:creator>dnd</dc:creator>
  <dc:description/>
  <dc:language>en-US</dc:language>
  <cp:lastModifiedBy>Jamie Richards</cp:lastModifiedBy>
  <cp:lastPrinted>1999-01-07T00:25:20Z</cp:lastPrinted>
  <dcterms:modified xsi:type="dcterms:W3CDTF">1999-04-23T18:51:32Z</dcterms:modified>
  <cp:revision>5</cp:revision>
  <dc:subject/>
  <dc:title>No Slide Title</dc:title>
</cp:coreProperties>
</file>