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FE67-8FCB-4848-9812-57DF569B2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D8C3-2878-4CBD-9DB6-E547BCA5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0489-7E85-4B85-A656-CDF42D714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59E-C2FE-423A-8E90-B3438B75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135C-44E2-49EF-9468-11151C1A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B90E-96F7-4751-881F-3EF81630E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F968-62EA-447F-854F-F714ACF2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787A-97B3-4B9D-943E-8FEF60D2E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D93-10C8-4D59-B772-630C1C2B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3826-C109-4549-914B-5F80B5CE0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A788-8AA5-4BED-9ACA-9CA7B0A0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F47-99B2-48AA-A213-070D09A0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26364-45DC-44D3-A42C-E61A721D60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FICIENCY LEVEL TWO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43080" y="1523880"/>
          <a:ext cx="880092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3080" y="1523880"/>
                    <a:ext cx="880092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6553080"/>
            <a:ext cx="8991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441640" y="6545160"/>
            <a:ext cx="669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03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80880"/>
            <a:ext cx="8229600" cy="581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VEL TWO  SUMMER COUR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62120" y="1143000"/>
          <a:ext cx="11753640" cy="693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143000"/>
                    <a:ext cx="11753640" cy="69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9-01-28T21:30:18Z</cp:lastPrinted>
  <dcterms:modified xsi:type="dcterms:W3CDTF">1999-01-28T21:35:57Z</dcterms:modified>
  <cp:revision>24</cp:revision>
  <dc:subject/>
  <dc:title>No Slide Title</dc:title>
</cp:coreProperties>
</file>