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0D26-2A59-4A52-AB1A-AFCC22E35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D8D9-EF08-44D3-9DD4-A9388CAE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AD7-60EE-4432-9E8D-5FC1D0E0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0DB-58CE-4E3D-A8AB-BB7AE3C16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384A-6861-4866-8D9F-2D95EBB7A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F37C-C110-43AA-AC56-84614A1D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DF22-F394-49ED-8C5D-FB07F2DC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71D8-7527-4F67-9AB3-A9C744EF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630A-D117-4E2A-AB33-D4212A907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3CC9-8F2C-4D55-833A-7B76D3A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4A6D-E50B-4256-9C3D-15663851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3CF5-2E3A-4DC4-A7B3-2CB6F62D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32E5B-AB65-4561-A9BD-00B0F03E5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PON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166760" y="1752480"/>
          <a:ext cx="6807240" cy="328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6760" y="1752480"/>
                    <a:ext cx="6807240" cy="32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3440" y="6545160"/>
            <a:ext cx="634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CADET LEAGU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240" y="1133640"/>
            <a:ext cx="240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tion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3124080"/>
            <a:ext cx="284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nci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0360" y="5130720"/>
            <a:ext cx="19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cal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946600" y="1184400"/>
            <a:ext cx="541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5 member national board of direc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 member national executive committ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visory committee of past presid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ional office run by executive dir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2280" y="3165480"/>
            <a:ext cx="50450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provincial committe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bers are chairman of sponsor                 committees and other appointe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ervises squadrons under their jurisdi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966400" y="5181480"/>
            <a:ext cx="344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ide financial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ruit Offi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range training fac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4434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84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S OF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29528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5880" y="2286000"/>
            <a:ext cx="26672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5880" y="36576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4038480"/>
            <a:ext cx="266724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5880" y="464832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295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2096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590920"/>
            <a:ext cx="266688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3581280"/>
            <a:ext cx="266688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137160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8440" y="2286000"/>
            <a:ext cx="134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ID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8280" y="2614680"/>
            <a:ext cx="218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ATIONAL LEAG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68080" y="291924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ADQUAR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40384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AIR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4876920"/>
            <a:ext cx="266688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360" y="3632040"/>
            <a:ext cx="284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OVINCIAL 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93960" y="487692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PON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3124080"/>
            <a:ext cx="2666880" cy="3812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07120" y="312408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RECTOR OF CAD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8" idx="2"/>
            <a:endCxn id="69" idx="0"/>
          </p:cNvCxnSpPr>
          <p:nvPr/>
        </p:nvCxnSpPr>
        <p:spPr>
          <a:xfrm flipV="1" rot="10800000">
            <a:off x="1561320" y="3288960"/>
            <a:ext cx="1080" cy="2800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1" name=""/>
          <p:cNvCxnSpPr>
            <a:stCxn id="75" idx="0"/>
            <a:endCxn id="74" idx="2"/>
          </p:cNvCxnSpPr>
          <p:nvPr/>
        </p:nvCxnSpPr>
        <p:spPr>
          <a:xfrm flipV="1">
            <a:off x="1561680" y="443160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2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66" idx="2"/>
            <a:endCxn id="66" idx="2"/>
          </p:cNvCxnSpPr>
          <p:nvPr/>
        </p:nvCxnSpPr>
        <p:spPr>
          <a:xfrm>
            <a:off x="1561680" y="1765080"/>
            <a:ext cx="108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66" idx="2"/>
            <a:endCxn id="67" idx="0"/>
          </p:cNvCxnSpPr>
          <p:nvPr/>
        </p:nvCxnSpPr>
        <p:spPr>
          <a:xfrm>
            <a:off x="1561680" y="1765080"/>
            <a:ext cx="1080" cy="43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2975760" y="563868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IR CADET SQUADR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ING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971800" y="563868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1447920"/>
            <a:ext cx="2686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INISTER OF 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9120" y="2362320"/>
            <a:ext cx="2651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HIEF OF THE DEF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AF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23160" y="3657600"/>
            <a:ext cx="278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AL CF 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07160" y="4038480"/>
            <a:ext cx="158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A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099120" y="4648320"/>
            <a:ext cx="27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GION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3280" y="5029200"/>
            <a:ext cx="247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EA CADET OFFIC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5880" y="5029200"/>
            <a:ext cx="2667240" cy="380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5943600"/>
            <a:ext cx="2666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/>
          <p:nvPr/>
        </p:nvCxnSpPr>
        <p:spPr>
          <a:xfrm>
            <a:off x="2895120" y="2895120"/>
            <a:ext cx="508680" cy="3819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6" name=""/>
          <p:cNvCxnSpPr>
            <a:stCxn id="74" idx="3"/>
            <a:endCxn id="64" idx="1"/>
          </p:cNvCxnSpPr>
          <p:nvPr/>
        </p:nvCxnSpPr>
        <p:spPr>
          <a:xfrm>
            <a:off x="2908080" y="4228920"/>
            <a:ext cx="31755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7" name=""/>
          <p:cNvCxnSpPr>
            <a:stCxn id="75" idx="2"/>
            <a:endCxn id="86" idx="1"/>
          </p:cNvCxnSpPr>
          <p:nvPr/>
        </p:nvCxnSpPr>
        <p:spPr>
          <a:xfrm flipH="1" rot="16200000">
            <a:off x="1999080" y="4831920"/>
            <a:ext cx="521640" cy="13978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98" name=""/>
          <p:cNvCxnSpPr/>
          <p:nvPr/>
        </p:nvCxnSpPr>
        <p:spPr>
          <a:xfrm flipV="1">
            <a:off x="2895480" y="1523160"/>
            <a:ext cx="3175920" cy="80100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99" name=""/>
          <p:cNvCxnSpPr/>
          <p:nvPr/>
        </p:nvCxnSpPr>
        <p:spPr>
          <a:xfrm rot="10800000">
            <a:off x="2894760" y="2437560"/>
            <a:ext cx="3201120" cy="138960"/>
          </a:xfrm>
          <a:prstGeom prst="bentConnector3">
            <a:avLst>
              <a:gd name="adj1" fmla="val 49994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0" name=""/>
          <p:cNvCxnSpPr>
            <a:stCxn id="65" idx="0"/>
            <a:endCxn id="64" idx="2"/>
          </p:cNvCxnSpPr>
          <p:nvPr/>
        </p:nvCxnSpPr>
        <p:spPr>
          <a:xfrm flipV="1">
            <a:off x="7429320" y="4431960"/>
            <a:ext cx="1080" cy="2037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75" idx="3"/>
            <a:endCxn id="93" idx="1"/>
          </p:cNvCxnSpPr>
          <p:nvPr/>
        </p:nvCxnSpPr>
        <p:spPr>
          <a:xfrm>
            <a:off x="2908080" y="5067000"/>
            <a:ext cx="3175560" cy="15300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02" name=""/>
          <p:cNvCxnSpPr/>
          <p:nvPr/>
        </p:nvCxnSpPr>
        <p:spPr>
          <a:xfrm rot="5400000">
            <a:off x="5765040" y="3911400"/>
            <a:ext cx="204120" cy="320112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62" idx="0"/>
            <a:endCxn id="61" idx="2"/>
          </p:cNvCxnSpPr>
          <p:nvPr/>
        </p:nvCxnSpPr>
        <p:spPr>
          <a:xfrm flipV="1">
            <a:off x="7429320" y="1993680"/>
            <a:ext cx="1080" cy="280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04" name=""/>
          <p:cNvCxnSpPr/>
          <p:nvPr/>
        </p:nvCxnSpPr>
        <p:spPr>
          <a:xfrm>
            <a:off x="7467480" y="2971440"/>
            <a:ext cx="576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sp>
        <p:nvSpPr>
          <p:cNvPr id="105" name=""/>
          <p:cNvSpPr/>
          <p:nvPr/>
        </p:nvSpPr>
        <p:spPr>
          <a:xfrm>
            <a:off x="6095880" y="594360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5638680"/>
            <a:ext cx="26672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554880" y="5638680"/>
            <a:ext cx="17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B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39320" y="5929200"/>
            <a:ext cx="191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FFLIATED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86" idx="3"/>
            <a:endCxn id="106" idx="1"/>
          </p:cNvCxnSpPr>
          <p:nvPr/>
        </p:nvCxnSpPr>
        <p:spPr>
          <a:xfrm>
            <a:off x="5651280" y="5790960"/>
            <a:ext cx="432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</a:ln>
        </p:spPr>
      </p:cxnSp>
      <p:cxnSp>
        <p:nvCxnSpPr>
          <p:cNvPr id="110" name=""/>
          <p:cNvCxnSpPr>
            <a:stCxn id="94" idx="3"/>
            <a:endCxn id="105" idx="1"/>
          </p:cNvCxnSpPr>
          <p:nvPr/>
        </p:nvCxnSpPr>
        <p:spPr>
          <a:xfrm>
            <a:off x="5651280" y="6095520"/>
            <a:ext cx="432360" cy="1080"/>
          </a:xfrm>
          <a:prstGeom prst="straightConnector1">
            <a:avLst/>
          </a:prstGeom>
          <a:ln w="38160">
            <a:solidFill>
              <a:srgbClr val="000000"/>
            </a:solidFill>
            <a:prstDash val="sysDot"/>
            <a:miter/>
            <a:headEnd len="sm" type="triangle" w="sm"/>
            <a:tailEnd len="sm" type="triangle" w="sm"/>
          </a:ln>
        </p:spPr>
      </p:cxnSp>
      <p:cxnSp>
        <p:nvCxnSpPr>
          <p:cNvPr id="111" name=""/>
          <p:cNvCxnSpPr/>
          <p:nvPr/>
        </p:nvCxnSpPr>
        <p:spPr>
          <a:xfrm rot="5400000">
            <a:off x="6580080" y="2486520"/>
            <a:ext cx="359640" cy="1329480"/>
          </a:xfrm>
          <a:prstGeom prst="bentConnector2">
            <a:avLst/>
          </a:prstGeom>
          <a:ln w="255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3-08T19:11:42Z</cp:lastPrinted>
  <dcterms:modified xsi:type="dcterms:W3CDTF">1999-03-08T19:14:11Z</dcterms:modified>
  <cp:revision>28</cp:revision>
  <dc:subject/>
  <dc:title>No Slide Title</dc:title>
</cp:coreProperties>
</file>