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B65-393A-4AC4-9BD5-DFAC3EB87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CF2-DA90-400C-B18E-E946FF564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6C94-686B-4A2C-8631-C61558DF1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A7E6-D038-45A0-82A1-015D24AD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1CE-7BA2-431E-9412-9094EE38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6E57-1657-4130-BB90-E666D9C5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2298-7EC0-4E5B-A1E8-CA0086B1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69DA-A1B3-4F93-ADD2-11EBF31E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6FFF-417F-488B-92A4-7D4BB193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3622-D576-40BF-A910-19EAE03E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39DA-D711-445B-999A-53F161BE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6E1-FD1F-4C1C-9494-870491F7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E8DB-B06E-4A2A-B595-FBAA8A613A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595520" y="2001960"/>
          <a:ext cx="6086520" cy="40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01960"/>
                    <a:ext cx="6086520" cy="40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0" y="3276720"/>
          <a:ext cx="3048120" cy="2913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276720"/>
                    <a:ext cx="30481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6248520" y="3276720"/>
          <a:ext cx="2819160" cy="2895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48520" y="3276720"/>
                    <a:ext cx="28191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04920" y="0"/>
          <a:ext cx="853416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0"/>
                    <a:ext cx="8534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685800" y="2514600"/>
            <a:ext cx="7924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595520" y="2077920"/>
          <a:ext cx="6086520" cy="4054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95520" y="2077920"/>
                    <a:ext cx="6086520" cy="40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0" y="3505320"/>
          <a:ext cx="3703680" cy="2666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3505320"/>
                    <a:ext cx="3703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640480" y="3505320"/>
          <a:ext cx="3503520" cy="259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640480" y="3505320"/>
                    <a:ext cx="3503520" cy="25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0880" y="0"/>
          <a:ext cx="830592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30592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429000" y="1676520"/>
            <a:ext cx="281952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Physical St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ough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Dr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Quick Dec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loof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Geni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Human Qu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18080" y="6572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Lead3a" descr=""/>
          <p:cNvPicPr/>
          <p:nvPr/>
        </p:nvPicPr>
        <p:blipFill>
          <a:blip r:embed="rId3"/>
          <a:stretch/>
        </p:blipFill>
        <p:spPr>
          <a:xfrm>
            <a:off x="228600" y="2133720"/>
            <a:ext cx="3429000" cy="3467160"/>
          </a:xfrm>
          <a:prstGeom prst="rect">
            <a:avLst/>
          </a:prstGeom>
          <a:ln w="0">
            <a:noFill/>
          </a:ln>
        </p:spPr>
      </p:pic>
      <p:pic>
        <p:nvPicPr>
          <p:cNvPr id="72" name="Lead3b" descr=""/>
          <p:cNvPicPr/>
          <p:nvPr/>
        </p:nvPicPr>
        <p:blipFill>
          <a:blip r:embed="rId4"/>
          <a:stretch/>
        </p:blipFill>
        <p:spPr>
          <a:xfrm>
            <a:off x="6172200" y="2286000"/>
            <a:ext cx="259092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30T18:14:12Z</cp:lastPrinted>
  <dcterms:modified xsi:type="dcterms:W3CDTF">1999-01-11T20:25:39Z</dcterms:modified>
  <cp:revision>8</cp:revision>
  <dc:subject/>
  <dc:title>QUALITIES OF A LEADER</dc:title>
</cp:coreProperties>
</file>