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574-E277-42AC-83FD-52AD7F2F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224-7B99-4DA3-8E7E-63531F31D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1AF3-88AC-4D76-A1F4-24C203FD9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2F34-C76B-4551-A557-157621957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BC3C-2B38-4376-9DEE-0C6F37E9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05A-85ED-4AA2-A381-232662B8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CCCF-D94B-4285-AF97-5839F4F7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0E3D-3D1B-40D2-8955-AB52BF92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10C-2D1B-4B9D-BE80-2CCB99FC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2F84-7AE8-4B69-9567-DC1ADFA6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B618-AD5A-47D2-8AEC-81989173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E9FC-97F3-49F3-9050-B61D3399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29E05-E1E1-418D-9410-B708BC72D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066680"/>
            <a:ext cx="1517400" cy="1365480"/>
          </a:xfrm>
          <a:prstGeom prst="triangle">
            <a:avLst>
              <a:gd name="adj" fmla="val 4999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2819520"/>
            <a:ext cx="1289160" cy="1288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4648320"/>
            <a:ext cx="1295280" cy="129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152280"/>
            <a:ext cx="78483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FIRE EXTINGUISHE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5600" y="1249200"/>
            <a:ext cx="574452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Ordinary Combusti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per, wood, drapes, and upholst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2590920"/>
            <a:ext cx="61722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Flammable Liqui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uel oil, gasoline, paint, grease, solvent and other flammable liqu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33720" y="4572000"/>
            <a:ext cx="67039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Electrical Equip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ring, overheated fuse boxes, conductors, and other electrical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28600" y="0"/>
            <a:ext cx="876312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 u="sng">
                <a:solidFill>
                  <a:srgbClr val="000000"/>
                </a:solidFill>
                <a:uFillTx/>
                <a:latin typeface="Haettenschweiler"/>
              </a:rPr>
              <a:t>HOW FIRE EXTINGUISHERS WOR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6040" y="1166760"/>
            <a:ext cx="6963120" cy="4770360"/>
          </a:xfrm>
          <a:prstGeom prst="rect">
            <a:avLst/>
          </a:prstGeom>
          <a:noFill/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l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ll the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m the extinguisher nozzle at the b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ez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queeze or press the 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ee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from side to side at the bas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38880" y="914400"/>
            <a:ext cx="1905120" cy="55609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00440" y="1050840"/>
            <a:ext cx="370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377120" y="249876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77120" y="39466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77120" y="524196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3520" y="1371600"/>
            <a:ext cx="5181480" cy="41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PANIC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 Close all windows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unused doo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 Follow the fire escap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an and get o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.  Move to the muster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rea and wait for the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re depart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304920"/>
            <a:ext cx="8915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0"/>
            <a:ext cx="86868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RESPONDING TO THE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219320"/>
            <a:ext cx="9142560" cy="68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1.   Shout “ FIRE, FIRE, FIRE” and pull the alarm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2.  Phone the 911 Emergency Service or  local Fire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Department and state the exact location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Haettenschweiler"/>
              </a:rPr>
              <a:t>fi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280" y="0"/>
            <a:ext cx="8839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Haettenschweiler"/>
              </a:rPr>
              <a:t>THE PERSON DISCOVERING A FIRE MUS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00400" y="4419720"/>
            <a:ext cx="3200400" cy="194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960" y="6545160"/>
            <a:ext cx="13690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4:39:01Z</cp:lastPrinted>
  <dcterms:modified xsi:type="dcterms:W3CDTF">1999-03-11T15:58:32Z</dcterms:modified>
  <cp:revision>19</cp:revision>
  <dc:subject/>
  <dc:title>No Slide Title</dc:title>
</cp:coreProperties>
</file>