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E77B-8B66-473A-843D-A5801A749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3A38-9D6F-4BE4-A9D6-EE0B32B9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8FB1-D3FC-45D8-945D-50E0AA66B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ED34-BF70-4115-B60D-0EFD6061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BFE-2235-4466-A6B0-784FE865A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E0065-1A8D-4B87-AC5D-D5702B0E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FEE2-F9AD-4A55-A9E7-1F679EDE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BDE5-2E3F-4AB5-ACE8-5A231E48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7D7-8766-4F1F-A75B-F86A817E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399-8780-4EDF-BDB6-9E861429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D272-0009-4D29-9E30-B391DB66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3AD7-E7B2-45CB-8F9F-A2785F07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55B9D-06EA-4715-94AB-82E59511F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2819520" cy="3353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12952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Select and limit the subject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Determine the purposes of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Analyze the audience and the occasio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Gather dat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utline the material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Organize and develop the speech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lan visual aid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Practice alou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5720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8 STEPS IN PREPARING A SPEE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TERMINING YOUR PURP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eneral 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xpected Respo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enterta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ea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infor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ersua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reement-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352680" y="2438280"/>
            <a:ext cx="1857600" cy="39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speaker" descr=""/>
          <p:cNvPicPr/>
          <p:nvPr/>
        </p:nvPicPr>
        <p:blipFill>
          <a:blip r:embed="rId1"/>
          <a:srcRect l="0" t="0" r="38855" b="0"/>
          <a:stretch/>
        </p:blipFill>
        <p:spPr>
          <a:xfrm>
            <a:off x="5105520" y="1905120"/>
            <a:ext cx="3717720" cy="4572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ORGANIZATION OF A SPEEC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BO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sonal reference or gr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terest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the place or occa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o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ought provoking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YS TO CAPTURE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amatized fa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musing s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incere expressions of plea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ference to special interests of the audi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400680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33:48Z</dcterms:created>
  <dc:creator>DND</dc:creator>
  <dc:description/>
  <dc:language>en-US</dc:language>
  <cp:lastModifiedBy>DND</cp:lastModifiedBy>
  <cp:lastPrinted>1999-01-07T12:33:12Z</cp:lastPrinted>
  <dcterms:modified xsi:type="dcterms:W3CDTF">1999-01-07T12:35:24Z</dcterms:modified>
  <cp:revision>5</cp:revision>
  <dc:subject/>
  <dc:title> -Select and limit the subject  -Determine the purposes of the speech  -Analyze the audience and the occasion  -Gather data  -Outline the material  -Organize and develop the speech  -Plan visual aids  -Practice aloud</dc:title>
</cp:coreProperties>
</file>