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BEA-8C35-42C2-9413-6C528FF8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CF5C-41F6-454D-9487-062873350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EDAF-BD61-4FA3-B992-F460FD071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B1A9-0346-45EB-BF3B-DB52773B3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57D9-F000-4086-B91B-9D159A8D7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A756-AEC3-40A8-8098-6B545FB20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3250-4E0D-40DC-80C1-3B00851C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704D-E0DC-400C-92A2-8B2DDF374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4BCE-4C94-475E-8AF8-10273003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4C6A-CAF4-4039-89D8-6098B98B2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B00-A8B7-4A09-B7BB-54D34C56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8631-177B-4A2B-BF99-3FC5E680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9D18-F01A-47FC-9C80-0D5AA90FA0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410080" y="838080"/>
          <a:ext cx="7317000" cy="83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838080"/>
                    <a:ext cx="7317000" cy="8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14400" y="1752480"/>
          <a:ext cx="5646600" cy="5562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1752480"/>
                    <a:ext cx="564660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838080" y="2286000"/>
          <a:ext cx="5400720" cy="46972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2286000"/>
                    <a:ext cx="5400720" cy="46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23T14:23:26Z</dcterms:created>
  <dc:creator>Jamie Richards</dc:creator>
  <dc:description/>
  <dc:language>en-US</dc:language>
  <cp:lastModifiedBy>Jamie Richards</cp:lastModifiedBy>
  <dcterms:modified xsi:type="dcterms:W3CDTF">1999-04-23T18:07:52Z</dcterms:modified>
  <cp:revision>6</cp:revision>
  <dc:subject/>
  <dc:title>No Slide Title</dc:title>
</cp:coreProperties>
</file>