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5011-50BF-4F39-A37F-EE97444F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7709-8FC2-4689-AABC-6355891DD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8A17-5A5C-4CB2-8FE0-26697272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61B-977F-479E-8D4A-40DCA35B6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59E8-F5A2-4F73-93A2-0EC19BAC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BB54-6DCA-427C-B2B6-B0A75156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DBA-8C70-4C5E-9DBE-41816C98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6AF-5EB4-4798-A635-532DD62F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9C5E-419A-4D98-9072-E44F58B7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DD1-C911-466B-A353-661CA76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BB92-F21B-4594-B6F1-E61B9338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6A5-B265-4350-A4BF-8E9FB00F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D5C25-EF9B-49F0-B7E7-7DA8D4F7DD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Drill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5399280" cy="673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20:56Z</dcterms:created>
  <dc:creator>DND</dc:creator>
  <dc:description/>
  <dc:language>en-US</dc:language>
  <cp:lastModifiedBy>DND</cp:lastModifiedBy>
  <cp:lastPrinted>1999-01-07T20:06:04Z</cp:lastPrinted>
  <dcterms:modified xsi:type="dcterms:W3CDTF">1999-01-07T20:06:08Z</dcterms:modified>
  <cp:revision>2</cp:revision>
  <dc:subject/>
  <dc:title>No Slide Title</dc:title>
</cp:coreProperties>
</file>