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A40-9558-4AD3-A5DA-ECB3E5A72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1D89-EE50-4082-9622-F63DCE83F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A144-5FC8-41C8-A9F8-43E1E4261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AA7E-71CE-4B4F-B843-0F7C1B43F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7BF0-C0DB-46A4-9871-19E7ED04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5DB1-EE8F-4277-86B9-D4CC1E0E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E5F-EDFB-4529-AB5E-91537E2F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A0DF-03B6-4923-8553-2FE2D6FBA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9AC1-E65E-4E03-9DAE-05C12247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BCCD-CB1E-4015-AD10-E5DD8CBB7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F450-B539-49DB-A9F9-EF154B20B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AD8-6816-4EA8-AD9E-A9F963BB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CBD73-6C44-4993-A512-EB7212216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72880"/>
            <a:ext cx="58658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Three Levels of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0400" y="2254320"/>
            <a:ext cx="5810400" cy="420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1.  Municip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2.  Provinci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3.  Feder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172040" y="6019920"/>
            <a:ext cx="2685960" cy="2685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533520" y="272880"/>
            <a:ext cx="5865840" cy="21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The Branches of the Federal Gover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0400" y="2254320"/>
            <a:ext cx="5810400" cy="37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1.  Execu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2.  Legislativ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mic Sans MS"/>
              </a:rPr>
              <a:t>3. Judici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280" y="8763120"/>
            <a:ext cx="655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2880" y="876312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19920" y="876312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House" descr=""/>
          <p:cNvPicPr/>
          <p:nvPr/>
        </p:nvPicPr>
        <p:blipFill>
          <a:blip r:embed="rId1"/>
          <a:stretch/>
        </p:blipFill>
        <p:spPr>
          <a:xfrm>
            <a:off x="1752480" y="6400800"/>
            <a:ext cx="3505320" cy="2255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505320" y="6477120"/>
            <a:ext cx="152280" cy="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7-03-18T15:08:14Z</cp:lastPrinted>
  <dcterms:modified xsi:type="dcterms:W3CDTF">1999-01-05T15:18:47Z</dcterms:modified>
  <cp:revision>6</cp:revision>
  <dc:subject/>
  <dc:title>No Slide Title</dc:title>
</cp:coreProperties>
</file>