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F6BC-6243-4DC1-8E76-230DC9BF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792-D6D7-4A45-9AB6-7D0B61E9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53F1-16DC-4E8A-918F-19EF3059F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C7F8-ADA1-44E6-9A45-4889AB12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1F44-1C7B-460D-B630-D0E85AD04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D996-9DF2-45B2-B3EF-8C87F149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EE09-C787-4CCA-A373-2917347C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54CB-9006-43FB-B5A3-EFEB9E60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2FEB-A00E-4950-B6FF-84B2D3F0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8833-1047-46B2-BA54-26AB43FA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B393-18A2-4FBB-96D1-9816D942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0C5C-361D-49AE-BF34-CAB514614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56D9-D333-4C02-85ED-FE2A23A74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CTORS THAT AFFECT THE HUMAN VOIC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speaker" descr=""/>
          <p:cNvPicPr/>
          <p:nvPr/>
        </p:nvPicPr>
        <p:blipFill>
          <a:blip r:embed="rId1"/>
          <a:srcRect l="0" t="0" r="35094" b="0"/>
          <a:stretch/>
        </p:blipFill>
        <p:spPr>
          <a:xfrm>
            <a:off x="4648320" y="1752480"/>
            <a:ext cx="394632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HAT THE CHARACTERISTICS OF THE HUMAN VOICE HELP YOU TO 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EXPRESS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 BREA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ROL VOICE SP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553080" y="2286000"/>
            <a:ext cx="19051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THER H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COLORFU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ENTHUSIAS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E YOURSEL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CORD YOUR VO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0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95680" y="2438280"/>
            <a:ext cx="426744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3:55:40Z</dcterms:created>
  <dc:creator>DND</dc:creator>
  <dc:description/>
  <dc:language>en-US</dc:language>
  <cp:lastModifiedBy>dnd</cp:lastModifiedBy>
  <cp:lastPrinted>1999-01-07T15:26:00Z</cp:lastPrinted>
  <dcterms:modified xsi:type="dcterms:W3CDTF">1999-03-23T20:07:44Z</dcterms:modified>
  <cp:revision>4</cp:revision>
  <dc:subject/>
  <dc:title>FACTORS THAT AFFECT THE HUMAN VOICE </dc:title>
</cp:coreProperties>
</file>