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B4D9-FFDF-425A-B1AC-BE82D5786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B046-467E-45A6-862A-4220808C5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1539-3A68-4629-80D9-99C6351BE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EF44-DBCD-4847-93EB-AEA9BE5FD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70BA-A9D9-4A0E-8BBE-F4DBCD3F7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612F-BF6A-4D29-A32D-3C84D05B7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F3FB-837B-41A3-868E-A27CD207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8683-7B2D-498C-A2CF-9DD2C609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DB73-F7A9-4210-B223-F9B463B36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2A1F-2435-4BD6-AAB0-61A8EAF7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5AC5-BBB8-4CB1-917E-93377F752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499A-2DB5-4ED0-8CA2-9460A8E2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3ECC0-37F3-42F5-BA8B-D0749B3CC7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03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838080"/>
            <a:ext cx="8229600" cy="981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TWO QUALIFIED CAD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MMER TRAINING COUR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7920" y="2133720"/>
            <a:ext cx="529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 TO LEADER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0800" y="2819520"/>
            <a:ext cx="63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HYSICAL &amp; RECREATIONAL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989360" y="3429000"/>
            <a:ext cx="34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IRCREW SURVI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5040" y="4114800"/>
            <a:ext cx="114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441640" y="654516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03.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EMS TO TAKE TO CAM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1320840"/>
            <a:ext cx="29221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te unifor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we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Sho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im s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we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ce cl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ort sock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back p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vilian t-shi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572000" y="1320840"/>
            <a:ext cx="4419720" cy="43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ephone calling c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nding mon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cessary medication (take prescrip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 hygiene i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riting suppl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oks/magaz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oe polish/kiwi clo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ra pair eyeglasses if wo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08T22:38:12Z</cp:lastPrinted>
  <dcterms:modified xsi:type="dcterms:W3CDTF">1999-03-08T22:40:09Z</dcterms:modified>
  <cp:revision>26</cp:revision>
  <dc:subject/>
  <dc:title>No Slide Title</dc:title>
</cp:coreProperties>
</file>