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A219-8EA9-4C46-8DE7-2D3BDDE4A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248B-9675-4E57-B456-70BFB5DB8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5D62-E1D4-4490-A96D-ABB5E7A82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BF06-5AAE-4950-8B87-151621016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F895-6D7F-403A-B202-49F2DD551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36B4-6F56-4BD4-BBF2-BFE6DC0F0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5DB4-4B33-4A33-BB2A-057BA19D6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356D-8132-493F-9877-39C1C993B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D727-61C0-47FF-A8B6-F602DEE61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5207-5C35-409C-9C6C-E211C4393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3EE5-9533-4542-8153-3B053B65A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B88E-9DBA-42A6-A798-3506A0B2B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7DCC4-64FF-4459-A674-D7CE28D6B6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FOOTWE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5105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alking: Running sho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iking: Hiking boo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kl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inforced to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p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952880" y="2057400"/>
            <a:ext cx="3810240" cy="38671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940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19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THINGS TO BE AWARE OF WHEN HI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86000"/>
            <a:ext cx="4952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ace Yoursel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rink Frequentl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alking uphi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alking Downhi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648320" y="2254320"/>
            <a:ext cx="3809880" cy="35668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940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19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WALKING UPHI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uphill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828800" y="1295280"/>
            <a:ext cx="5329080" cy="51292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408280" y="1600200"/>
            <a:ext cx="27500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rten the length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stride w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ing uphill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eping the s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hythm. Lea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ward, pl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feet flat 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rou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40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19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WALKING DOWNHI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downhill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828800" y="1523880"/>
            <a:ext cx="5029200" cy="46976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940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19.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1828800"/>
            <a:ext cx="2646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wal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wnhill, open y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ide and le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 slightly. D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try to go fas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cending 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 hard on y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nees, especiall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carry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backpa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06T19:16:44Z</dcterms:created>
  <dc:creator>DND</dc:creator>
  <dc:description/>
  <dc:language>en-US</dc:language>
  <cp:lastModifiedBy>DND</cp:lastModifiedBy>
  <cp:lastPrinted>1999-03-01T19:48:14Z</cp:lastPrinted>
  <dcterms:modified xsi:type="dcterms:W3CDTF">1999-03-01T19:52:45Z</dcterms:modified>
  <cp:revision>3</cp:revision>
  <dc:subject/>
  <dc:title>FOOTWEAR</dc:title>
</cp:coreProperties>
</file>