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4E0F-7D8A-4CAD-8239-15A0F8868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7A61-50AF-41CA-8482-D3F66728E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C609-9B7E-4527-8795-6367735D1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41F7-A762-49E1-90AD-3A590DC62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8475-513D-443C-84CE-F8362A8A2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7593-1B88-4907-8E42-DED6A6A7D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5646-E161-4F4F-AA2B-6D9535063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E68D-C333-40C3-869E-E092254F1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2C95-56B9-4060-AE6D-DFD573359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19A0-0C46-4E2B-956B-3B8FF537B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6405-835C-4FA5-AE98-7E0FB73E0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9992-5599-43BB-934E-339434432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F1F38-F1DC-4F7C-874F-FCEC50E5BF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rnoulli’s Principle states that the total energy in a system remains consta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fluid system has energy in the form of speed and press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speed increases, pressure decreases and if speed decreases, pressure increas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3560" y="6551640"/>
            <a:ext cx="117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14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070720" y="152280"/>
            <a:ext cx="508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Bernoulli’s Princi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Bern" descr=""/>
          <p:cNvPicPr/>
          <p:nvPr/>
        </p:nvPicPr>
        <p:blipFill>
          <a:blip r:embed="rId1"/>
          <a:stretch/>
        </p:blipFill>
        <p:spPr>
          <a:xfrm>
            <a:off x="3733920" y="4800600"/>
            <a:ext cx="1654200" cy="17146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34120" y="4952880"/>
            <a:ext cx="1295280" cy="655920"/>
          </a:xfrm>
          <a:prstGeom prst="wedgeRoundRectCallout">
            <a:avLst>
              <a:gd name="adj1" fmla="val -86763"/>
              <a:gd name="adj2" fmla="val 72277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he total energy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n a system remai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nstant . . 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airfoil5" descr=""/>
          <p:cNvPicPr/>
          <p:nvPr/>
        </p:nvPicPr>
        <p:blipFill>
          <a:blip r:embed="rId1"/>
          <a:stretch/>
        </p:blipFill>
        <p:spPr>
          <a:xfrm>
            <a:off x="662040" y="2700360"/>
            <a:ext cx="7818480" cy="17953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058480" y="316080"/>
            <a:ext cx="4871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An Airfoil S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3560" y="6551640"/>
            <a:ext cx="117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14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airfoil4" descr=""/>
          <p:cNvPicPr/>
          <p:nvPr/>
        </p:nvPicPr>
        <p:blipFill>
          <a:blip r:embed="rId1"/>
          <a:stretch/>
        </p:blipFill>
        <p:spPr>
          <a:xfrm>
            <a:off x="290520" y="2274840"/>
            <a:ext cx="8853480" cy="30592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657600" y="5105520"/>
            <a:ext cx="304920" cy="609480"/>
          </a:xfrm>
          <a:prstGeom prst="upArrow">
            <a:avLst>
              <a:gd name="adj1" fmla="val 50000"/>
              <a:gd name="adj2" fmla="val 4997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10757400">
            <a:off x="3656880" y="1981080"/>
            <a:ext cx="304920" cy="60984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590920" y="5715000"/>
            <a:ext cx="270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GH PRESS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590920" y="1523880"/>
            <a:ext cx="270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W PRESS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533320" y="152280"/>
            <a:ext cx="378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Lift Produ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3560" y="6551640"/>
            <a:ext cx="117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14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making" descr=""/>
          <p:cNvPicPr/>
          <p:nvPr/>
        </p:nvPicPr>
        <p:blipFill>
          <a:blip r:embed="rId1"/>
          <a:stretch/>
        </p:blipFill>
        <p:spPr>
          <a:xfrm>
            <a:off x="2303640" y="838080"/>
            <a:ext cx="4536720" cy="56260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929320" y="152280"/>
            <a:ext cx="285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Making Lif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3560" y="6551640"/>
            <a:ext cx="117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14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47728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23T14:18:56Z</dcterms:created>
  <dc:creator>RC Air Cadets</dc:creator>
  <dc:description/>
  <dc:language>en-US</dc:language>
  <cp:lastModifiedBy>dnd</cp:lastModifiedBy>
  <cp:lastPrinted>1999-02-23T20:02:30Z</cp:lastPrinted>
  <dcterms:modified xsi:type="dcterms:W3CDTF">1999-03-24T13:03:27Z</dcterms:modified>
  <cp:revision>8</cp:revision>
  <dc:subject/>
  <dc:title>Bernoulli’s Principle</dc:title>
</cp:coreProperties>
</file>