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FC73-2787-4CF2-AA6E-0CDFFBC3C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0674-7505-4404-8C35-1AC6C8E2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5F40-5575-4959-B18E-4BCBE9E2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7B0-42F4-447D-8791-C638D38E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AFF9B-4123-4284-864A-52540240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76C-0C58-4D5F-AA53-AC74A245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7DBC-1FC0-4F48-94EC-E9B5FB3C7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41F-EF0F-4C5A-A887-9034204A7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CC25-EAC4-4F89-8E14-843CE8AB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A753-B525-47B4-8509-3066E70C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9A92-A370-4864-AFBD-52C7A44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41AC-116C-47C6-96A9-63C88357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90DC-49E0-4673-B943-393DF8173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ston2" descr=""/>
          <p:cNvPicPr/>
          <p:nvPr/>
        </p:nvPicPr>
        <p:blipFill>
          <a:blip r:embed="rId1"/>
          <a:stretch/>
        </p:blipFill>
        <p:spPr>
          <a:xfrm>
            <a:off x="2041560" y="990720"/>
            <a:ext cx="4816440" cy="5790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152280"/>
            <a:ext cx="76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ternal Combustion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8840" y="2955960"/>
            <a:ext cx="88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s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3002040" y="3031200"/>
            <a:ext cx="1119240" cy="109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4471560" y="2336760"/>
            <a:ext cx="1231200" cy="368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177000" y="3996360"/>
            <a:ext cx="580320" cy="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240" bIns="-39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27360" y="1279440"/>
            <a:ext cx="155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ark Plu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057760" y="379404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lin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775480" y="2651040"/>
            <a:ext cx="154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81160" y="1736640"/>
            <a:ext cx="944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ak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85000" y="1736640"/>
            <a:ext cx="110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95056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5166720" y="2146680"/>
            <a:ext cx="725040" cy="16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240" bIns="-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jet" descr=""/>
          <p:cNvPicPr/>
          <p:nvPr/>
        </p:nvPicPr>
        <p:blipFill>
          <a:blip r:embed="rId1"/>
          <a:stretch/>
        </p:blipFill>
        <p:spPr>
          <a:xfrm>
            <a:off x="966960" y="1771560"/>
            <a:ext cx="6805440" cy="3333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934000" y="152280"/>
            <a:ext cx="300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Jet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88920" y="190512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29960" y="1905120"/>
            <a:ext cx="265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712120" y="1905120"/>
            <a:ext cx="25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68400" y="48610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6200" y="487692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Bur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05120" y="2286000"/>
            <a:ext cx="99036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1983960" y="3654360"/>
            <a:ext cx="524880" cy="122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962520" y="2286000"/>
            <a:ext cx="76176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668400" y="4281120"/>
            <a:ext cx="784800" cy="60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105520" y="2286000"/>
            <a:ext cx="121896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turbo" descr=""/>
          <p:cNvPicPr/>
          <p:nvPr/>
        </p:nvPicPr>
        <p:blipFill>
          <a:blip r:embed="rId1"/>
          <a:stretch/>
        </p:blipFill>
        <p:spPr>
          <a:xfrm>
            <a:off x="593640" y="1969920"/>
            <a:ext cx="7255080" cy="344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42280" y="173160"/>
            <a:ext cx="502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urboprop Eng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15200" y="167652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34880" y="51055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ar 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45680" y="5105520"/>
            <a:ext cx="10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182880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ha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114440" y="1676520"/>
            <a:ext cx="16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u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18120" y="1828800"/>
            <a:ext cx="157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5760" y="5029200"/>
            <a:ext cx="1640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ress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rb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440400" y="502920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Inta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5867280" y="4495680"/>
            <a:ext cx="106704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723920" y="3885840"/>
            <a:ext cx="762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3505320" y="3809520"/>
            <a:ext cx="685800" cy="129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2362320"/>
            <a:ext cx="0" cy="99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981080" y="3962160"/>
            <a:ext cx="38124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22096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4647960" y="2362320"/>
            <a:ext cx="7596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472000" y="2227320"/>
            <a:ext cx="713880" cy="947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urbo%20prop" descr=""/>
          <p:cNvPicPr/>
          <p:nvPr/>
        </p:nvPicPr>
        <p:blipFill>
          <a:blip r:embed="rId1"/>
          <a:srcRect l="6304" t="8770" r="0" b="6918"/>
          <a:stretch/>
        </p:blipFill>
        <p:spPr>
          <a:xfrm>
            <a:off x="266760" y="1370160"/>
            <a:ext cx="2705040" cy="1155600"/>
          </a:xfrm>
          <a:prstGeom prst="rect">
            <a:avLst/>
          </a:prstGeom>
          <a:ln w="0">
            <a:noFill/>
          </a:ln>
        </p:spPr>
      </p:pic>
      <p:pic>
        <p:nvPicPr>
          <p:cNvPr id="94" name="jet" descr=""/>
          <p:cNvPicPr/>
          <p:nvPr/>
        </p:nvPicPr>
        <p:blipFill>
          <a:blip r:embed="rId2"/>
          <a:srcRect l="4032" t="12346" r="0" b="4666"/>
          <a:stretch/>
        </p:blipFill>
        <p:spPr>
          <a:xfrm>
            <a:off x="227160" y="5153040"/>
            <a:ext cx="2943000" cy="1247760"/>
          </a:xfrm>
          <a:prstGeom prst="rect">
            <a:avLst/>
          </a:prstGeom>
          <a:ln w="0">
            <a:noFill/>
          </a:ln>
        </p:spPr>
      </p:pic>
      <p:pic>
        <p:nvPicPr>
          <p:cNvPr id="95" name="piston2" descr=""/>
          <p:cNvPicPr/>
          <p:nvPr/>
        </p:nvPicPr>
        <p:blipFill>
          <a:blip r:embed="rId3"/>
          <a:srcRect l="13141" t="6653" r="15232" b="3167"/>
          <a:stretch/>
        </p:blipFill>
        <p:spPr>
          <a:xfrm>
            <a:off x="685800" y="2657520"/>
            <a:ext cx="1719360" cy="2600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2560" y="365040"/>
            <a:ext cx="4835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y each engine typ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8040" y="441360"/>
            <a:ext cx="319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6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31920" y="175248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47760" y="365760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47760" y="5562720"/>
            <a:ext cx="273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5T12:59:42Z</dcterms:created>
  <dc:creator>RC Air Cadets</dc:creator>
  <dc:description/>
  <dc:language>en-US</dc:language>
  <cp:lastModifiedBy>dnd</cp:lastModifiedBy>
  <cp:lastPrinted>1999-02-25T13:36:32Z</cp:lastPrinted>
  <dcterms:modified xsi:type="dcterms:W3CDTF">1999-03-24T20:22:57Z</dcterms:modified>
  <cp:revision>7</cp:revision>
  <dc:subject/>
  <dc:title>No Slide Title</dc:title>
</cp:coreProperties>
</file>