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81B1-EE5E-47F0-BC0A-ED1008D75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F73D-4BD4-42F4-A383-6B747348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150C-73A9-4604-BDAB-1DE2D2394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CE89-717D-428E-BB74-FDA447592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9048-473A-4C31-BEDD-163819A5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4590-4C87-4C20-9E27-A84866E71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8EC5-9D5E-45F8-A906-F209B2C3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9D71-3D01-4B09-B758-F6D74936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C134-38F6-435C-886D-FF6488C68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4BCD-6419-4FDA-86FC-2F7E1B3B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22AC-19E4-44FF-902E-E9ACAD2B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7550-710E-472F-B90A-0013B1AF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52B12-1BA8-4D3D-A7A1-7205ECA314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4120" y="990720"/>
          <a:ext cx="8002440" cy="91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990720"/>
                    <a:ext cx="8002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1447920" y="2057400"/>
          <a:ext cx="5105160" cy="5803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2057400"/>
                    <a:ext cx="5105160" cy="58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376280" y="2133720"/>
          <a:ext cx="4783320" cy="60958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6280" y="2133720"/>
                    <a:ext cx="478332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3T14:23:26Z</dcterms:created>
  <dc:creator>Jamie Richards</dc:creator>
  <dc:description/>
  <dc:language>en-US</dc:language>
  <cp:lastModifiedBy>Jamie Richards</cp:lastModifiedBy>
  <dcterms:modified xsi:type="dcterms:W3CDTF">1999-04-23T18:25:14Z</dcterms:modified>
  <cp:revision>11</cp:revision>
  <dc:subject/>
  <dc:title>No Slide Title</dc:title>
</cp:coreProperties>
</file>