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4985-6679-4B91-9D8A-C092C76A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7B01-2F44-4D8E-9771-A5947B03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FECE-7D33-4CD0-A43D-1E73FA35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75C-9C12-4030-AC22-9FF21368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743E-1191-4C34-968A-BA301519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D3E6-1D43-4DC2-B1A6-ED0160DB2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4BF-9835-4B31-BD03-D4F575A8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F5A0-5C13-4291-8390-62133498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F8B7-E906-425D-ADF5-C893F0AE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182-275E-4027-AFA3-7A8FA457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B2BD-0F50-487D-81A1-324385FB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EFA8-C17F-4450-B8FC-46C89EFB2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DA52-D512-4892-9566-1F56C3CD4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ead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6091200" cy="838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08T13:16:59Z</dcterms:modified>
  <cp:revision>5</cp:revision>
  <dc:subject/>
  <dc:title>No Slide Title</dc:title>
</cp:coreProperties>
</file>