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80E9-ABBC-4F75-A8FB-15135BEE3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F892-C1BB-46E7-9B73-8A15FFEB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33DC-2375-458D-A3C9-E7C64D04F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3737-EC01-4034-8E0B-9156CBC6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21C9-84D0-4FD9-BC75-734BA1764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FB20-9CAC-4531-B206-95C25234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7087-29F3-437A-B7E2-3E55AB4B8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1D5C-EF91-460F-B454-66908082D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5C26-E4A2-4919-ABBD-18D946D4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4E9-039E-4315-9DB1-91C25B52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D81F-3942-4D51-9463-D6C1C1057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ECA8-C5F6-4475-A0F2-7F283D73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6B2E-9F6F-48B2-AC5F-BAD03B8202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RABBIT SN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Rabbit" descr=""/>
          <p:cNvPicPr/>
          <p:nvPr/>
        </p:nvPicPr>
        <p:blipFill>
          <a:blip r:embed="rId1"/>
          <a:srcRect l="0" t="0" r="0" b="24075"/>
          <a:stretch/>
        </p:blipFill>
        <p:spPr>
          <a:xfrm>
            <a:off x="0" y="152388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QUIRREL SN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squirrel" descr=""/>
          <p:cNvPicPr/>
          <p:nvPr/>
        </p:nvPicPr>
        <p:blipFill>
          <a:blip r:embed="rId1"/>
          <a:stretch/>
        </p:blipFill>
        <p:spPr>
          <a:xfrm>
            <a:off x="838080" y="1371600"/>
            <a:ext cx="7543800" cy="50292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8:15:56Z</dcterms:created>
  <dc:creator>DND</dc:creator>
  <dc:description/>
  <dc:language>en-US</dc:language>
  <cp:lastModifiedBy>DND</cp:lastModifiedBy>
  <dcterms:modified xsi:type="dcterms:W3CDTF">1999-03-01T13:12:24Z</dcterms:modified>
  <cp:revision>2</cp:revision>
  <dc:subject/>
  <dc:title>RABBIT SNARE</dc:title>
</cp:coreProperties>
</file>