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0A21-8A52-443B-BB49-8D5B815FA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8CA6-0E97-43B7-81FD-1AC4A0C4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189F-089F-44AE-9D0D-9351E1B65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2F21-3EE0-413C-85E3-B78FA2306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66BD-AEDB-4E49-8315-E6D55B51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ED90-ACD5-4B34-AFD0-AD2FA6DC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9AE3-B900-4146-91C9-D8474FF41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ECE-9396-4048-BD67-0C3125F0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0AD3-55EA-4A4B-BF7F-A0DC198E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8D6-B3DD-496C-A7CF-E4DA69BD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62B-A04B-47F8-A71E-A6BE9E8F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ADD-30E2-415F-ABF9-83FA94AA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9E6A-C0BC-4AFC-97E1-2AB17CB75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92520" y="4541760"/>
            <a:ext cx="26136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8400"/>
            <a:ext cx="510552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2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B - Crossword Puzzle Answer Key  - Qualities of a Lead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895480" y="5334120"/>
          <a:ext cx="6858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5334120"/>
                    <a:ext cx="6858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380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24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66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666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666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6668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666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56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276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956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410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2666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767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767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76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2767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438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43800" y="38862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43800" y="35812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43800" y="41911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43800" y="44956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44956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41911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91120" y="48006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51055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911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91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05520" y="11430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05520" y="14479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17524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19920" y="6019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19920" y="6324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19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543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43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543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238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934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848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80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66688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812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57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911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838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43800" y="1752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19920" y="6324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199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05520" y="533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54380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718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0574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4380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54380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294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4380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8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4380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76720" y="2666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438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1055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1120" y="5410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6019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66688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19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666880" y="2362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668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99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199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05520" y="838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05520" y="1143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43800" y="5105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191120" y="5715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8487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623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3276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5248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8862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862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752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668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32767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56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91120" y="5105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66880" y="4495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1911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191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105520" y="4800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0060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244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581280" y="4800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91120" y="3886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66880" y="3886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66880" y="4191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76720" y="3581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4495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43800" y="2971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43800" y="3581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2666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800" y="2057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1752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76720" y="20574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6720" y="2362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100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019920" y="1447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1447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9T14:54:13Z</cp:lastPrinted>
  <dcterms:modified xsi:type="dcterms:W3CDTF">1999-02-22T20:21:17Z</dcterms:modified>
  <cp:revision>19</cp:revision>
  <dc:subject/>
  <dc:title>No Slide Title</dc:title>
</cp:coreProperties>
</file>