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44FC-7B39-4AEA-9338-0FEBE1F9B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F13B-D199-40C4-91DA-1CCC31A46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5C3A-0688-40D8-B624-F5B7E730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0826-A859-4C01-B57A-FC872119E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9998-BEFA-4817-8E6A-4CD0D1E8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95F7-C3CF-4882-BEAC-7AA2975A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DB14-5E29-4745-9DEE-3847CBDA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AE00-75F2-46C9-A255-E1851B65A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B71A-8643-4950-8B5E-611138797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7368-507A-4833-9635-04C73466F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12CA-3C24-4F60-A7F5-CF078656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7F93-62BF-461B-9A3F-99F8C2B4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18C9-85E5-4840-BA1D-9022A7455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5320" y="90360"/>
            <a:ext cx="495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Four Forc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4forces" descr=""/>
          <p:cNvPicPr/>
          <p:nvPr/>
        </p:nvPicPr>
        <p:blipFill>
          <a:blip r:embed="rId1"/>
          <a:srcRect l="0" t="13911" r="0" b="17778"/>
          <a:stretch/>
        </p:blipFill>
        <p:spPr>
          <a:xfrm>
            <a:off x="685800" y="1752480"/>
            <a:ext cx="8023320" cy="40388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51160" y="3565440"/>
            <a:ext cx="121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U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720" y="348948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15280" y="556272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354480" y="150804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32200" y="277920"/>
            <a:ext cx="50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ll in each of the four fo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e correct sp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59640" y="6551640"/>
            <a:ext cx="66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3560" y="6551640"/>
            <a:ext cx="117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4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4forces" descr=""/>
          <p:cNvPicPr/>
          <p:nvPr/>
        </p:nvPicPr>
        <p:blipFill>
          <a:blip r:embed="rId1"/>
          <a:srcRect l="0" t="13911" r="0" b="17778"/>
          <a:stretch/>
        </p:blipFill>
        <p:spPr>
          <a:xfrm>
            <a:off x="685800" y="1752480"/>
            <a:ext cx="8023320" cy="4038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865600" y="55627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94200" y="14479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42120" y="35053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3400" y="35053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785200" y="380880"/>
            <a:ext cx="31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2T20:22:02Z</dcterms:created>
  <dc:creator>RC Air Cadets</dc:creator>
  <dc:description/>
  <dc:language>en-US</dc:language>
  <cp:lastModifiedBy>dnd</cp:lastModifiedBy>
  <cp:lastPrinted>1999-01-21T13:57:20Z</cp:lastPrinted>
  <dcterms:modified xsi:type="dcterms:W3CDTF">1999-03-24T13:02:01Z</dcterms:modified>
  <cp:revision>10</cp:revision>
  <dc:subject/>
  <dc:title>No Slide Title</dc:title>
</cp:coreProperties>
</file>