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AFF6-AFC1-4019-9045-92F48201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7338-681E-4377-8F7B-5AC33C66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26E0-9851-4635-8E6B-75096F0FA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A2D8-2F34-4511-A797-92298324F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F9BD-843B-4D74-BE76-1A791D5D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2F0C-6A8A-4FAC-880B-2C82DEAC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3C7-D9EE-4200-8438-E128753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B19E-DD72-427F-9F33-FFF8AA126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9091-9A97-4D69-AA5F-F037470F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FD0F-C53A-4B97-A45D-D5C57660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94FD-ED47-49CB-8E1D-412BD566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ADAB-A785-4CFD-BE74-10A6222A6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9778-E5FD-437A-BA74-F7CD96A000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DET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05520" y="5638680"/>
            <a:ext cx="1334880" cy="300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6858000"/>
            <a:ext cx="67788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754380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122724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62520" y="2666880"/>
            <a:ext cx="8794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25100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86000" y="4495680"/>
            <a:ext cx="2209680" cy="211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609480"/>
            <a:ext cx="434340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ycl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838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Three R's</a:t>
            </a:r>
            <a:endParaRPr b="1" i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3581280" cy="35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740412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81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34340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38680" y="7402680"/>
            <a:ext cx="10670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22T14:18:13Z</dcterms:modified>
  <cp:revision>9</cp:revision>
  <dc:subject/>
  <dc:title>No Slide Title</dc:title>
</cp:coreProperties>
</file>