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D4B5-5B9E-4860-95D9-77D8E8159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57EBE-1F9E-42D5-A44D-8180D8E2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5F32-0E97-4396-AFB8-784EA996A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81CC-2B77-4B98-883B-29128E3D9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8E90-7550-4677-9869-3226A891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1573-AAB6-4163-A3A0-8C4403EE4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C0C4-0636-4483-B890-1A436ADE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EE00-3CE8-4392-B52A-F2C49C74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0594-EA88-4D5E-8A11-A25833FB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DA9D-ED2A-4FBA-AEF2-C6562809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0216-7A68-4CD4-86C6-AF690C05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17EF-2DA7-4E1A-95D2-49BB8763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86B19-D0F8-454A-994B-EF22492B7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XERCISE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762120" y="1600200"/>
            <a:ext cx="9906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 deep breath before reading each of the following sentences. Then read the entire sentence out loud before taking another brea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Now let it work! Mischief, thou art afoot! Take thou what course thou wil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et your speech be with grace, seasoned salt, that ye may know how ye ought to answer every ma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 Mohammedan moon rides at midnight in the mounta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s of ancient Arab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008840" y="6613560"/>
            <a:ext cx="2133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ndout # 2 - Voice Exercises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3:55:40Z</dcterms:created>
  <dc:creator>DND</dc:creator>
  <dc:description/>
  <dc:language>en-US</dc:language>
  <cp:lastModifiedBy>dnd</cp:lastModifiedBy>
  <cp:lastPrinted>1999-01-07T15:26:00Z</cp:lastPrinted>
  <dcterms:modified xsi:type="dcterms:W3CDTF">1999-03-24T12:59:21Z</dcterms:modified>
  <cp:revision>5</cp:revision>
  <dc:subject/>
  <dc:title>FACTORS THAT AFFECT THE HUMAN VOICE </dc:title>
</cp:coreProperties>
</file>