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1253-BFCC-4521-B9CF-4BC550090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B163-AF53-4DEE-A60F-208434908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620B-7B15-43FB-80E5-210A95AF8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CA81-6860-4FD0-A4D9-A5FC060BC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7B61-5A9F-469F-945F-FD6FE8A4E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4A72-6940-4F63-AB7B-04D321965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531C-0F05-4A4D-BEDE-2BAD9FAE9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E81E-7C54-4BF8-95A9-1645D6A5E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88B3-6996-4B3A-85BC-2C1D2E51D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DA1D-68FD-44DD-BF94-3E91AFFE0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E324-6954-4A0C-8572-5F6C64D9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7B2F-6278-4696-B72F-E6E4D837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B943C-2FE5-4EA2-8231-EB4964E481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68400"/>
            <a:ext cx="4114800" cy="4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 408.02 Level Tw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nex  B - Crossword Puzzle - Qualities of a Leader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7543800" y="304920"/>
          <a:ext cx="66348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3800" y="304920"/>
                    <a:ext cx="66348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3962520" y="5181480"/>
          <a:ext cx="685800" cy="129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62520" y="5181480"/>
                    <a:ext cx="68580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1600200" y="16002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200" y="19051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22096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00200" y="2514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00200" y="28195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00200" y="31240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3429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00200" y="3733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09680" y="3429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05120" y="34290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14600" y="3429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19520" y="34290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3429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3429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31240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28195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2514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22096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9051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6002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1295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40384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29000" y="4648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3434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3733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24080" y="4648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819520" y="46483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14600" y="4648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733920" y="12952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1295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038480" y="1295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648320" y="12952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952880" y="1295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257800" y="1295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562720" y="12952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733920" y="46483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43400" y="4648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038480" y="4648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46483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952880" y="4648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257800" y="4648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562720" y="46483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867280" y="4648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77120" y="46483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4648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781680" y="4648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086600" y="4648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391520" y="46483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305920" y="46483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038480" y="25146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038480" y="22096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038480" y="28195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038480" y="19051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38480" y="16002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038480" y="31240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38480" y="3429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867280" y="1295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05920" y="40384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72200" y="1295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781680" y="1295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1295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05920" y="12952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305920" y="3733920"/>
            <a:ext cx="30456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05920" y="3429000"/>
            <a:ext cx="30456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05920" y="4038480"/>
            <a:ext cx="304560" cy="60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305920" y="34290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05920" y="4343400"/>
            <a:ext cx="30456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05920" y="46483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38480" y="990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38480" y="685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05920" y="31240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05920" y="49528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52880" y="4648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952880" y="4343400"/>
            <a:ext cx="30492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952880" y="4038480"/>
            <a:ext cx="304920" cy="60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52880" y="4648320"/>
            <a:ext cx="30492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952880" y="40384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952880" y="4952880"/>
            <a:ext cx="304920" cy="60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952880" y="5257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952880" y="3733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952880" y="5562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867280" y="1295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867280" y="990720"/>
            <a:ext cx="30492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67280" y="685800"/>
            <a:ext cx="30492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1295280"/>
            <a:ext cx="304920" cy="60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867280" y="685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867280" y="1600200"/>
            <a:ext cx="30492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867280" y="19051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22096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477120" y="12952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781680" y="40384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781680" y="5257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781680" y="49528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81680" y="55627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781680" y="4648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781680" y="43434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81680" y="5867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81680" y="61722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781680" y="3733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781680" y="3429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305920" y="22096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305920" y="16002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305920" y="28195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305920" y="25146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305920" y="31240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305920" y="22096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305920" y="19051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305920" y="342900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305920" y="37339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05920" y="12952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305920" y="4648320"/>
            <a:ext cx="30456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001000" y="4648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96080" y="4648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610480" y="4648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600200" y="3429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429000" y="12952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14600" y="46483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867280" y="38088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05920" y="1295280"/>
            <a:ext cx="3045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038480" y="6858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781680" y="3429000"/>
            <a:ext cx="3049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952880" y="3733920"/>
            <a:ext cx="304920" cy="304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320" y="685800"/>
            <a:ext cx="1523880" cy="17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ACROSS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.  Firmness of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urpos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6.  Ability to disregar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ear, and act with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raver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7.  When a leader i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rally accountabl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or their actions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(3 wd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6320" y="2514600"/>
            <a:ext cx="1920600" cy="34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DOWN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1. Take time to show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thers  how thing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e don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2. To decide on a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ssue quickly 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ffectivel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3. A strong interest,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dmiration or grea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agernes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4. The state of  being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ue and faithful,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voted to the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rganizati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. Being reliabl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8. Fair and just in character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nd behavior, free of dece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nd untruthfulnes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9. Feeling of self-reliance or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ertaint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7-01-29T14:15:23Z</cp:lastPrinted>
  <dcterms:modified xsi:type="dcterms:W3CDTF">1999-02-19T14:51:49Z</dcterms:modified>
  <cp:revision>15</cp:revision>
  <dc:subject/>
  <dc:title>No Slide Title</dc:title>
</cp:coreProperties>
</file>