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ED8D-D545-4283-B339-89950FC3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EDFA-1B89-4E89-8833-DA81DAB7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47A-EB98-4456-9EC3-5F9A70365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E5AB-2207-4EA0-AAF2-CEAD3A587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8D7B-CB3C-4C4A-937A-35CA66942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72A-4C1F-4364-A13D-8C8428DE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CD89-94F9-4ED5-A11D-FCD4FCABB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5B41-C78E-4947-A6A0-A686ECB7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E9AE-A3AA-4E30-96E9-442AECF0C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4330-E459-4A1C-8D88-90370A67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7F6E-CA37-4C76-A5D9-BB58C459B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0995-FAA5-4E14-901F-E385567B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E112A-06AA-4F37-8A13-4BA4D3179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9120" y="374976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87840" y="39751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0800" y="43164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E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49120" y="169560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6840" y="1920960"/>
            <a:ext cx="1872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dern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40520" y="2263680"/>
            <a:ext cx="1285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F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98840" y="325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59920" y="550800"/>
            <a:ext cx="1546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Early Time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87720" y="89388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98840" y="5032440"/>
            <a:ext cx="213840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991320" y="5087880"/>
            <a:ext cx="1283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ost War,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37560" y="542916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5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79080" y="577224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D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664320" y="169560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403040" y="174960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2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403040" y="2092320"/>
            <a:ext cx="7992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1930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151400" y="2433600"/>
            <a:ext cx="1302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B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664320" y="3749760"/>
            <a:ext cx="2136960" cy="1112760"/>
          </a:xfrm>
          <a:prstGeom prst="rect">
            <a:avLst/>
          </a:prstGeom>
          <a:solidFill>
            <a:srgbClr val="99cc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881400" y="3803760"/>
            <a:ext cx="18403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World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87280" y="4146480"/>
            <a:ext cx="6177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War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142760" y="4487760"/>
            <a:ext cx="13190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Series C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1276200" y="839520"/>
            <a:ext cx="180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1276200" y="83988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76200" y="2808360"/>
            <a:ext cx="180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775640" y="2808360"/>
            <a:ext cx="1440" cy="9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37240" y="83988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75640" y="839880"/>
            <a:ext cx="1440" cy="855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75640" y="4862520"/>
            <a:ext cx="144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637240" y="5632560"/>
            <a:ext cx="21384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76200" y="4862520"/>
            <a:ext cx="1800" cy="770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76200" y="5632560"/>
            <a:ext cx="22226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87520" y="2808360"/>
            <a:ext cx="4222800" cy="91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553120" y="2882880"/>
            <a:ext cx="4010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VIATION TRIVIA GAM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2880" y="3290760"/>
            <a:ext cx="2291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GAME BOA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13T18:23:50Z</cp:lastPrinted>
  <dcterms:modified xsi:type="dcterms:W3CDTF">1999-01-13T18:24:14Z</dcterms:modified>
  <cp:revision>23</cp:revision>
  <dc:subject/>
  <dc:title>No Slide Title</dc:title>
</cp:coreProperties>
</file>