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49C-9076-403A-8EA3-BBFF367F9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1325-8863-471C-B3EC-1F0E2FEE7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DBCF-5573-44B6-B5A0-60525C3E5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87A1-A26E-493D-93FE-1E93182B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44D-6212-46E6-ADAA-8B0119AF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AAED-AC2D-4BBB-9371-E6C1BC692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9968-AF4D-4C67-AF8E-2A63EA3B8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9DC-85B9-4577-85FB-95E8C827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BD5C-D043-4A1D-8879-4D9BE8A0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83EE-EA7F-42F7-8D37-461854FD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85C-4765-4D21-851A-A10A03D4F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9742-2FC6-4019-8C9F-587BD2DF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760E-7C5F-4E7F-9050-43F7E183A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sensible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5867280" cy="845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4:00:36Z</dcterms:created>
  <dc:creator>dnd</dc:creator>
  <dc:description/>
  <dc:language>en-US</dc:language>
  <cp:lastModifiedBy>dnd</cp:lastModifiedBy>
  <cp:lastPrinted>1998-12-18T14:02:55Z</cp:lastPrinted>
  <dcterms:modified xsi:type="dcterms:W3CDTF">1998-12-18T14:05:25Z</dcterms:modified>
  <cp:revision>2</cp:revision>
  <dc:subject/>
  <dc:title>No Slide Title</dc:title>
</cp:coreProperties>
</file>