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332D-6124-43FC-A783-4C5BB17B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9595-E8EE-4CFA-B53E-F5081835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60A-446B-4468-B02E-27A81AC37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3371-23E2-44A9-A51B-C120D0CFE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E996-8E03-45CA-BB4A-63503648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606C-C257-47F4-B66E-2D4036D0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FA09-9BE6-4782-8F26-9C368AFC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952-B6FF-4EFD-A86E-359E5766F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108B-13B8-4DA1-AFA2-F96094CB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07A-C976-433E-821B-50C1664E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A29A-9E2B-4A71-AE0E-3FE0C920F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4833-DEAC-4985-8A7D-F098F3D8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9F68-CED4-4535-84AA-BB1E9A3E6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34120" y="914400"/>
          <a:ext cx="7621560" cy="87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914400"/>
                    <a:ext cx="762156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76440" y="1905120"/>
          <a:ext cx="5876640" cy="420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6440" y="1905120"/>
                    <a:ext cx="5876640" cy="42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416" descr=""/>
          <p:cNvPicPr/>
          <p:nvPr/>
        </p:nvPicPr>
        <p:blipFill>
          <a:blip r:embed="rId5"/>
          <a:srcRect l="1936" t="0" r="0" b="0"/>
          <a:stretch/>
        </p:blipFill>
        <p:spPr>
          <a:xfrm>
            <a:off x="1168560" y="2057400"/>
            <a:ext cx="474336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9:16Z</dcterms:modified>
  <cp:revision>9</cp:revision>
  <dc:subject/>
  <dc:title>No Slide Title</dc:title>
</cp:coreProperties>
</file>