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8F14-9173-49C1-811D-493142F0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E145-4B59-4D41-AAB3-075C1106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D20B-247E-463E-9C96-2F4EE012C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FF98-CC18-48AE-BA1B-2EAC3BF2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0007-F2D7-4997-9E4B-56F5F485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5135-D484-48CE-A983-7001C657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92FF-7AAA-4468-B2F3-CC1308656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D20-2C1D-4A8D-865E-950080F78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8DEA-E1C5-4442-BE3C-FE63B8FA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AAD0-810A-4685-A0EE-CCAE5AD3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79C0-1EF5-4638-B993-02F71161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A8BE-5292-4D68-860B-35B7E1D2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C73D-055C-4F84-9BAE-391F058E4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92120" y="152280"/>
            <a:ext cx="432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Axes Mov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xes" descr=""/>
          <p:cNvPicPr/>
          <p:nvPr/>
        </p:nvPicPr>
        <p:blipFill>
          <a:blip r:embed="rId1"/>
          <a:stretch/>
        </p:blipFill>
        <p:spPr>
          <a:xfrm>
            <a:off x="920880" y="1295280"/>
            <a:ext cx="7300800" cy="4064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338640" y="4937040"/>
            <a:ext cx="145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438280"/>
            <a:ext cx="136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86440" y="2209680"/>
            <a:ext cx="210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NGITUD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115160" y="243828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440" y="411480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O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239600" y="4495680"/>
            <a:ext cx="13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I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bel the following axes and the movements about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04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axes" descr=""/>
          <p:cNvPicPr/>
          <p:nvPr/>
        </p:nvPicPr>
        <p:blipFill>
          <a:blip r:embed="rId1"/>
          <a:stretch/>
        </p:blipFill>
        <p:spPr>
          <a:xfrm>
            <a:off x="920880" y="1295280"/>
            <a:ext cx="7300800" cy="4064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48769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533412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49568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743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666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91120" y="22096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25146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7680" y="457200"/>
            <a:ext cx="107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172200" y="83808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7:33:05Z</cp:lastPrinted>
  <dcterms:modified xsi:type="dcterms:W3CDTF">1999-03-24T19:55:11Z</dcterms:modified>
  <cp:revision>7</cp:revision>
  <dc:subject/>
  <dc:title>No Slide Title</dc:title>
</cp:coreProperties>
</file>