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BB17-64EF-40C7-A523-EAB3CED18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700-FDC8-4016-BD6F-470B9511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6E78-9C39-4D9E-A5C4-6E290FC46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D276-A0E0-4CBA-8D22-72469CBFF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590-D67C-4D89-BD56-FC34AC390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1950-73B6-477F-BE05-3E736483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F9C-1F5F-4671-B15C-2C890797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BB1F-1B9C-4AC5-A6A5-23DBA03F7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BCEA-8376-4484-9B7B-4824B43E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E859-B4C1-43C8-8AE4-968A2F70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67C-7D3A-4E89-8985-4079BBC83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C61-76B2-4830-96DD-D935393D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19B-4D76-4029-ABFA-9E0AECB0A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Tahoma"/>
              </a:rPr>
              <a:t>LEADERS MUST HAVE CONFIDENCE I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peri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ssoci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ub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se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09480" y="1752480"/>
            <a:ext cx="2713320" cy="4003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705720" y="2362320"/>
            <a:ext cx="1571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19T19:22:45Z</dcterms:modified>
  <cp:revision>16</cp:revision>
  <dc:subject/>
  <dc:title>No Slide Title</dc:title>
</cp:coreProperties>
</file>