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A2DA-A339-4985-A67F-5A69FDB58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898-AC23-4AED-A626-886DB402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EA93-1EC7-4274-A8E3-FBFCEAA40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625-1237-4D25-922B-2366C739B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BD85-FD35-4E9A-9151-89BCCBA3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0385-73F6-4D22-A3D6-6A492DA83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FFE9-FC07-4218-95BF-539A0686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23E-E7E2-4427-8F75-6D5157F19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4D01-AE37-4143-A77C-59A1FBF8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90ED-D43F-40A8-8597-E4443A9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368E-DBE6-493C-B6FF-B91179AD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CF0-06D3-41A0-977A-88623D06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D183-13A0-4BE3-BAD8-C4B2E5A5F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95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0000"/>
                </a:solidFill>
                <a:uFillTx/>
                <a:latin typeface="Tahoma"/>
              </a:rPr>
              <a:t>Officer/NCO Relation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447920" y="1600200"/>
          <a:ext cx="7696080" cy="467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00200"/>
                    <a:ext cx="7696080" cy="467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4840" y="65721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2T18:51:27Z</dcterms:created>
  <dc:creator>dnd</dc:creator>
  <dc:description/>
  <dc:language>en-US</dc:language>
  <cp:lastModifiedBy>dnd</cp:lastModifiedBy>
  <cp:lastPrinted>1999-01-12T20:36:40Z</cp:lastPrinted>
  <dcterms:modified xsi:type="dcterms:W3CDTF">1999-01-12T20:42:59Z</dcterms:modified>
  <cp:revision>5</cp:revision>
  <dc:subject/>
  <dc:title>No Slide Title</dc:title>
</cp:coreProperties>
</file>