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DEEF-AFD0-4846-B9A5-4E84553D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5628-E924-4BB1-A48C-E4EFFEB4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01B7-6077-43D3-9F22-180D98B1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62A9-46A6-4FD7-94E3-10CE1724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01E-C4B0-41D6-B41D-AB3DAA51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C563-8778-494F-8BEB-D8957BE5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E3C-E9BF-40BE-B7A8-424E3F58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1BD2-8DE5-4832-98A3-E96556E6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879-A45B-4826-9E4E-4AA51512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8D24-19EC-4456-BD75-EE9DF5B4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2AF2-4F4C-41F7-9359-A017FDDC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F428-89E2-4B82-A452-3E7BB798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D78E-097E-4193-9EC5-E23AEFCAB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peaker" descr=""/>
          <p:cNvPicPr/>
          <p:nvPr/>
        </p:nvPicPr>
        <p:blipFill>
          <a:blip r:embed="rId1"/>
          <a:srcRect l="0" t="0" r="39844" b="0"/>
          <a:stretch/>
        </p:blipFill>
        <p:spPr>
          <a:xfrm>
            <a:off x="5181480" y="1600200"/>
            <a:ext cx="3657600" cy="457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DEVELOPING CONFI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86000"/>
            <a:ext cx="464832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PREPARED TO SPEAK ANY TIME ANY PLACE ON SUBJECTS THAT YOU K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DITION YOURSELF BY INTELLEGENT PRACTISE TO ORGANIZE YOUR THOUGHTS QUICKLY AND EFFECTIV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0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UR GUIDELINES FOR IMPROMPTU SPEEC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362320"/>
            <a:ext cx="59436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RASP FIRS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OOSE A 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TE INTRODUCTION, MAIN          IDEAS AND 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E REASONING AND IMMAG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868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One 410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743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17:48:36Z</dcterms:created>
  <dc:creator>DND</dc:creator>
  <dc:description/>
  <dc:language>en-US</dc:language>
  <cp:lastModifiedBy>DND</cp:lastModifiedBy>
  <dcterms:modified xsi:type="dcterms:W3CDTF">1999-03-08T14:26:02Z</dcterms:modified>
  <cp:revision>2</cp:revision>
  <dc:subject/>
  <dc:title>DEVELOPING CONFIDENCE</dc:title>
</cp:coreProperties>
</file>