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0B37-186D-4886-9CBB-3603FCDF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4B9-C2AF-4387-B3CE-23336482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F92A-44A1-41D7-AF6E-29B3C7885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D72B-3B83-4C4D-A89E-548FEDA01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F36D-FFC5-4CA2-960A-A464C65A4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EC9-35D1-4440-88D9-AAA46B38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C322-25FF-4CDE-B14D-9B9611370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228-D01C-40D0-9DCC-6D171ECA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600-8D2C-4F0A-A2A7-E335FC537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B9A-7EF0-4CBB-8F0F-C8E9057DA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6DDC-7467-4703-8616-081E7421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ACF-D491-4F59-9B87-66B80E19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10B7B-3004-4C14-99BB-6FFE9E383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1981080"/>
            <a:ext cx="4496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hysical fitness should be a part of everyone’s daily routine.  You will feel healthier and your self-confidence will improve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4920" y="1779480"/>
            <a:ext cx="1904760" cy="1594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23040" y="4013280"/>
            <a:ext cx="1311480" cy="2028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20840" y="4049640"/>
            <a:ext cx="186516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203960" y="1830240"/>
            <a:ext cx="1559160" cy="1370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0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1905120"/>
            <a:ext cx="5715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WARM-UP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ACTIVIT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Impact"/>
              </a:rPr>
              <a:t>COOL-DOW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1817640"/>
            <a:ext cx="2133720" cy="15526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705720" y="1770120"/>
            <a:ext cx="1371600" cy="1601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010280" y="3962520"/>
            <a:ext cx="1470240" cy="2131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733920" y="5105520"/>
            <a:ext cx="1520640" cy="826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65280" y="3868560"/>
            <a:ext cx="1392120" cy="2152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PRO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1600200"/>
            <a:ext cx="81532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aises Fitness Standar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Motivates Cad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reates Inter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onfirms Ability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repares Cadets for Advanced Cours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943600" y="1952640"/>
            <a:ext cx="2424240" cy="31226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0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229600" y="6553080"/>
            <a:ext cx="66816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00" y="6545160"/>
            <a:ext cx="1216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 405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FITNESS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3271680" cy="4605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495680" y="1447920"/>
            <a:ext cx="5105520" cy="42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ENDURANC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ARTIAL CURL-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PUSH U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TANDING LONG JU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50 m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HUTTLE R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4T23:33:42Z</cp:lastPrinted>
  <dcterms:modified xsi:type="dcterms:W3CDTF">1999-01-07T00:39:44Z</dcterms:modified>
  <cp:revision>23</cp:revision>
  <dc:subject/>
  <dc:title>No Slide Title</dc:title>
</cp:coreProperties>
</file>