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6C5-C7E0-4F62-9223-8BD567F8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FF7-6F17-411E-A6B3-8DE9B003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3B9-FC0D-46B6-AEE2-44720CE2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E2B-0012-4E59-B774-A8518B4E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A02-EC62-4CB6-BD63-0E181F53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D38-5AF1-40D3-92C5-83167CC5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9D42-0301-4221-849D-E785999E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0E8-D8F0-42A8-823F-F5A7A7B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E23-1E48-429A-8229-DF50FD5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4B4-6E41-4BAD-9227-50FAC5E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F9A-0869-40B0-9063-36B88D7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8AB-BC34-4EC5-888B-600C1AA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EF9-4AFA-4927-9301-323F6B86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940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24:51Z</dcterms:modified>
  <cp:revision>19</cp:revision>
  <dc:subject/>
  <dc:title>No Slide Title</dc:title>
</cp:coreProperties>
</file>