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A61-3BBF-4CB0-8871-D112C6F6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AD6-8A69-4727-BDBE-E090F22D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06D-D2B6-4FE3-A8D8-FB27DEA2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31C-ED89-4C01-9B4D-59B26842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B26-77C6-471F-80CC-9C1CB61A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F6B-AF4E-4274-96E8-F354520B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1D4-869E-4A97-8C4C-62970DDA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F48-7E02-4BBC-A197-C6F7EC76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0EE-D987-4BD2-A5DE-E95F5E00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AE3-6707-464B-8DE1-6B88C47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546-F582-4312-BDF9-F7279F4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B74-EF09-4251-AA5E-F0490198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16D-B155-4BA6-8574-8B6127A55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EVEN ENEMIES OF SURV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EDOM &amp; LONL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676520"/>
            <a:ext cx="716292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ear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541008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2:30:52Z</dcterms:created>
  <dc:creator>DND</dc:creator>
  <dc:description/>
  <dc:language>en-US</dc:language>
  <cp:lastModifiedBy>DND</cp:lastModifiedBy>
  <cp:lastPrinted>1998-12-18T15:16:00Z</cp:lastPrinted>
  <dcterms:modified xsi:type="dcterms:W3CDTF">1999-01-04T17:52:40Z</dcterms:modified>
  <cp:revision>4</cp:revision>
  <dc:subject/>
  <dc:title>SEVEN ENEMIES OF SURVIVAL</dc:title>
</cp:coreProperties>
</file>