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768-D2C9-44E3-86AF-BE57ED08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3CB-DDA5-40B6-A487-0FD406F4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19D-DC11-4080-8983-6A50E651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DBF-A283-417F-8F29-BD59D904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756-2D86-4088-B02C-866086FF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A58-7D55-4DA6-9E27-146A7051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E7E-CF58-4CE2-9A78-F49AB5D0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19C-AEAD-4881-8328-8EF0AFEA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C25-4418-46E0-A3DE-C0014B7E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21B-89F6-4EC2-A223-61FFE65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360-9237-406C-BAB4-0C2ED12A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21B-0154-45D0-9AC6-D7CF0053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084F-F22F-49E1-AAA6-2BA7548AF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76520"/>
          <a:ext cx="553392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55339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410080" y="838080"/>
          <a:ext cx="7088400" cy="81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38080"/>
                    <a:ext cx="70884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03400" y="1600200"/>
          <a:ext cx="5754600" cy="6629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3400" y="1600200"/>
                    <a:ext cx="575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9:11Z</dcterms:modified>
  <cp:revision>6</cp:revision>
  <dc:subject/>
  <dc:title>No Slide Title</dc:title>
</cp:coreProperties>
</file>