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988D-AC6F-4185-B8AC-7F1F68128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D8A8-5D75-460C-8CA5-CE721385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43AB-C8D3-49AB-BBCE-87AF938F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C4A5-4BFA-4906-898E-01EC5409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6822-FBBB-4FAE-8399-3224D343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4221-B4F4-42FC-AEBF-E8DD8C83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4C3F-ADB8-40D5-9BA9-1511ADB0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C566-FB64-4868-90AC-737AF767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C620-8A3F-4552-8EB7-F43E239B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B83E-D59C-49FB-AE98-E01AA4FC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EF2A-2C04-4788-9BEF-3EA806C5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C60F-81AB-41F8-B86F-839F1975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FD8D-555D-427A-B48A-68E5EB956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240" y="2422440"/>
            <a:ext cx="3246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uthorized in 199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73240" y="3184560"/>
            <a:ext cx="419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Provided by DND on lo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48480" y="4022640"/>
            <a:ext cx="445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ll parts should be mark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your n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38040" y="1279440"/>
            <a:ext cx="469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Follows the military tra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wearing a uni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5400">
            <a:off x="2127600" y="228240"/>
            <a:ext cx="501156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Your</a:t>
            </a: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Unifor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680" y="6461280"/>
            <a:ext cx="1251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7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41640" y="646128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UNI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235728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441640" y="646128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80" y="6461280"/>
            <a:ext cx="1251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7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38280"/>
            <a:ext cx="74674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wing gu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uch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unter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s in pocke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ok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ting on the stree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king arm in ar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s of aff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533520"/>
            <a:ext cx="7467480" cy="1291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PORT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VER DO WHILE IN UNI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010280" cy="5181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66680" y="457200"/>
            <a:ext cx="7239240" cy="6426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PER BOOT LAC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80" y="6461280"/>
            <a:ext cx="1251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7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41640" y="646128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1-11T22:45:30Z</cp:lastPrinted>
  <dcterms:modified xsi:type="dcterms:W3CDTF">1999-03-17T19:41:40Z</dcterms:modified>
  <cp:revision>22</cp:revision>
  <dc:subject/>
  <dc:title>No Slide Title</dc:title>
</cp:coreProperties>
</file>