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906-DE70-406B-9362-211B753D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B4D-C39C-4B8B-BB61-FE68A00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F5E-283F-40A6-B246-EDD648EF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57F-E6EC-4403-B5AC-3192DB46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F3C-E3B6-4F7D-B085-14B91F93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4CB-A0F3-4162-8B30-E5937278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B5A-B376-4D36-B99D-66622774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FC7-B215-4604-9CF6-DF976A9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BB8-A8E1-4B3E-8F23-D82C5558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F43-2D4A-4668-A948-E49D319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357-8DB5-4585-8AB7-498EBD6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B93-C5E2-4528-83A5-9AE2B3CD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8450-4FAF-44A0-84A3-C08BEDDDE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SE1" descr=""/>
          <p:cNvPicPr/>
          <p:nvPr/>
        </p:nvPicPr>
        <p:blipFill>
          <a:blip r:embed="rId1"/>
          <a:srcRect l="5588" t="0" r="5025" b="15300"/>
          <a:stretch/>
        </p:blipFill>
        <p:spPr>
          <a:xfrm>
            <a:off x="990720" y="220968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6200" y="378000"/>
            <a:ext cx="533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uss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RUS2" descr=""/>
          <p:cNvPicPr/>
          <p:nvPr/>
        </p:nvPicPr>
        <p:blipFill>
          <a:blip r:embed="rId1"/>
          <a:srcRect l="6252" t="0" r="2754" b="20489"/>
          <a:stretch/>
        </p:blipFill>
        <p:spPr>
          <a:xfrm>
            <a:off x="609480" y="1981080"/>
            <a:ext cx="7925040" cy="390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720" y="378000"/>
            <a:ext cx="69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nocoque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4:58:10Z</dcterms:created>
  <dc:creator>RC Air Cadets</dc:creator>
  <dc:description/>
  <dc:language>en-US</dc:language>
  <cp:lastModifiedBy>dnd</cp:lastModifiedBy>
  <dcterms:modified xsi:type="dcterms:W3CDTF">1999-03-22T15:38:32Z</dcterms:modified>
  <cp:revision>3</cp:revision>
  <dc:subject/>
  <dc:title>No Slide Title</dc:title>
</cp:coreProperties>
</file>