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8EE2-4828-497A-988B-90775949B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35A5-916B-4B3E-BD71-49A60A0B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0C61-88A7-4A45-BBD0-67D86EAB5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99A1-3634-4D2B-83E5-BADE24C6A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7019-6429-4F09-8B0C-0C3A0D89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8214-3079-4737-B350-A68B0E91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7C8E-50DF-42BE-B5CF-25FD4A6D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5848-D202-4BAE-BDE1-A4CEB1DB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C66A-4A4F-43A0-BDFA-EB4D9DA8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8DC8-AAA5-4937-86E9-B3300C74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B861-3356-4E39-A499-5517B603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7D2C-B729-4F76-A46E-D5A402FF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A198-A47B-416D-A557-9AB3B3A6C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267080" y="838080"/>
          <a:ext cx="7012080" cy="800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838080"/>
                    <a:ext cx="701208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990720" y="1828800"/>
          <a:ext cx="5529240" cy="5791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828800"/>
                    <a:ext cx="552924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523880" y="1828800"/>
          <a:ext cx="4319640" cy="67816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1828800"/>
                    <a:ext cx="4319640" cy="67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00:18:58Z</dcterms:created>
  <dc:creator>dnd</dc:creator>
  <dc:description/>
  <dc:language>en-US</dc:language>
  <cp:lastModifiedBy>Jamie Richards</cp:lastModifiedBy>
  <cp:lastPrinted>1999-01-07T00:25:20Z</cp:lastPrinted>
  <dcterms:modified xsi:type="dcterms:W3CDTF">1999-04-23T18:51:32Z</dcterms:modified>
  <cp:revision>5</cp:revision>
  <dc:subject/>
  <dc:title>No Slide Title</dc:title>
</cp:coreProperties>
</file>