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7E0A-0B25-4895-9316-83960273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6B2-4F8E-46BC-9ECA-6E3CDC81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1EA-9DB0-4770-8350-7FD37C9A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EF5-AA99-4D61-AAF2-02556A57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37B8-08B0-48CB-85F9-F778D26C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0405-C7C6-4743-B6A0-2A8A3F4A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EB4-F943-4B00-902D-ACD2B0CA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F85-D3ED-4034-B9B2-E28E2697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4F6-2EC7-4FBF-830B-AEB816BA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EC7-1873-4129-83BE-D2A633A6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DE4C-819C-42F8-9143-BBBFBFC2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E0B-4114-43FF-8009-3F8A9F7B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EBF9-650D-4643-A167-5FFE6FB04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unway2" descr=""/>
          <p:cNvPicPr/>
          <p:nvPr/>
        </p:nvPicPr>
        <p:blipFill>
          <a:blip r:embed="rId1"/>
          <a:srcRect l="11856" t="-63" r="8157" b="0"/>
          <a:stretch/>
        </p:blipFill>
        <p:spPr>
          <a:xfrm>
            <a:off x="0" y="228600"/>
            <a:ext cx="2971800" cy="2278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49600" y="303120"/>
            <a:ext cx="50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eronautical Fac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3040" y="3048120"/>
            <a:ext cx="805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erodr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to any area of land or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ated for the arrival, departure, moveme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ing of aircraft and includes all buildings, instal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quipment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3680" y="4892760"/>
            <a:ext cx="81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licensed aerodrome, meaning it has met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port safety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971800" y="228600"/>
          <a:ext cx="10503000" cy="183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28600"/>
                    <a:ext cx="1050300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3840" y="609480"/>
            <a:ext cx="88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Main Components of an Aerodr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pron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72600" cy="4622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80960" y="604800"/>
            <a:ext cx="65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indsock and Wind 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ock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699240" cy="4576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57800" y="4572000"/>
            <a:ext cx="2362320" cy="1371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317840" y="1219320"/>
            <a:ext cx="4158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It is used by aircraft to move betwe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pron and the runw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It is used for passengers arriving and departi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well as baggage and cargo handl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t is where primary flight instruction is giv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It is used to indicate the wind dir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approximate wind spe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t ensures the safe and efficient m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aircraft at an aerodro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It is the area on which aircraft land and take-of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 It is a licensed aerodrome, meeting 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fety requiremen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 It is used for the storage, prot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maintenance of aircraf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 It is used for the loading and unlo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passengers and carg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05120"/>
            <a:ext cx="1924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Run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ontrol T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Taxi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Ap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Han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 Winds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Ter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2860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raw a line from the aerodr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nent to the statement whi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 describes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04280" y="43020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8:55:52Z</dcterms:created>
  <dc:creator>RC Air Cadets</dc:creator>
  <dc:description/>
  <dc:language>en-US</dc:language>
  <cp:lastModifiedBy>dnd</cp:lastModifiedBy>
  <cp:lastPrinted>1999-01-08T14:58:11Z</cp:lastPrinted>
  <dcterms:modified xsi:type="dcterms:W3CDTF">1999-03-22T14:37:13Z</dcterms:modified>
  <cp:revision>9</cp:revision>
  <dc:subject/>
  <dc:title>No Slide Title</dc:title>
</cp:coreProperties>
</file>