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465-876F-4742-B400-76475974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EA0-9491-4307-9F02-EAB6E282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AAE-5FDC-4F2B-91F2-A328E84D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60F-645C-41EF-A1F5-FD937E6A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3FA-DC9E-4A2B-890B-3BB7A60F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E96-CAA8-4879-B166-990F17EC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297-4880-49F7-8A47-8B0492DF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51C-10C9-46C7-90EA-F3545046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B1A-1DA4-41AB-8A07-C5C733BA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BB2-16B6-47B4-832C-A8837575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0C2-F05B-453B-869A-808F6C7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A80-500E-4F66-8147-1FE5943F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D077-A33D-47AC-A78B-BB84CFB06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24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15328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26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2640" y="2438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14300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294920" y="2590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44756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856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2438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8600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437920" y="2590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4286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28640" y="2438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2900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580920" y="2590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73356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43828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95680" y="2438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95320" y="2438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9568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6483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0024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811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18112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438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581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4572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143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HREE RANKS OF A SQU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6324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5328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14264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426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3000" y="1905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94920" y="2057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44756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8564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856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86000" y="1905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7920" y="2057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59056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1905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2864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4286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29000" y="1905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580920" y="2057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73356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190512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95680" y="1905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953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495680" y="1905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48320" y="20574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8002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4038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81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19051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MA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6094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ION OF THE RIGHT MAR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895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819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819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28564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5640" y="1752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28600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379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59056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65724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57240" y="1752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65760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8095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96216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1051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05520" y="1752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10552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2574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410080" y="2057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175248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4767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477120" y="1752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47712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6290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781680" y="2057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78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771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ILE OF CAD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2895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1600200"/>
            <a:ext cx="9144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8098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5410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2895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2819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2819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28564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285640" y="1752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28600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4379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59056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23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65724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657240" y="1752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65760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8095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6216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1752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1051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41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105520" y="1752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10552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2574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10080" y="2057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175248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4767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477120" y="1752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47712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62904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781680" y="2057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4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100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771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16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RANKS WITH A BLANK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3962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98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48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RANKS WITH A BLANK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552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3733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5520" y="3733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77120" y="3733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2856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146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285640" y="2133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28600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43792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59056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6572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657240" y="2133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65760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80952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96216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0552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10516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412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05520" y="21337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10552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25744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410080" y="2438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7120" y="213372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47676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0572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477120" y="21337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47712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62904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781680" y="2438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ALS BETWEEN CAD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3372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372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37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769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4852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48520" y="3505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485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33360" y="2514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623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1337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13372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285640" y="2666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438280" y="2819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62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38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4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5268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352680" y="2514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352320" y="25146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35268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505320" y="2666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657240" y="2819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76920" y="2514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876560" y="2514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055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8769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87692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028840" y="2666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181480" y="2819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48520" y="2514600"/>
            <a:ext cx="457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248160" y="2514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771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248520" y="2514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24852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400440" y="2666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553080" y="2819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5268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576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769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528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814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4572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3244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771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5308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294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1523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80988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487692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220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4343400" y="198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Drill1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73392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8148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3733920" y="3504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4495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ace in Quick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339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8006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5:23:34Z</dcterms:created>
  <dc:creator>DND</dc:creator>
  <dc:description/>
  <dc:language>en-US</dc:language>
  <cp:lastModifiedBy>dnd</cp:lastModifiedBy>
  <cp:lastPrinted>1999-01-22T12:24:12Z</cp:lastPrinted>
  <dcterms:modified xsi:type="dcterms:W3CDTF">1999-03-24T18:33:39Z</dcterms:modified>
  <cp:revision>13</cp:revision>
  <dc:subject/>
  <dc:title>No Slide Title</dc:title>
</cp:coreProperties>
</file>