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113E-BC39-4DC0-B213-84B1E33DC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D002-AB5E-4DB6-8D9E-B8C1E3919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22C8-80D4-4F81-A1DF-F10016076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9E51-0DAA-44F1-B682-3FC3A6586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C8F3-BCF1-47F4-ADD2-ABC42D323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0369-C68A-4A88-B8FA-AEEA4B01B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7C80-0398-41EA-999A-9A8DD6B76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2949-A53C-4EDE-A45F-D0A1A86CE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5531-A4DC-4265-9C24-A9B34820C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114E-307B-462A-9B63-88A839A31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7C22-BC49-4C04-9F5D-65EF7FAA9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BBDD-CE5B-48FD-AE32-0CC0B7C24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E3B41-B8ED-4B88-9333-2D9DD3C367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1066680"/>
            <a:ext cx="1517400" cy="1365480"/>
          </a:xfrm>
          <a:prstGeom prst="triangle">
            <a:avLst>
              <a:gd name="adj" fmla="val 499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819520"/>
            <a:ext cx="1289160" cy="128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648320"/>
            <a:ext cx="1295280" cy="129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152280"/>
            <a:ext cx="78483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FIRE EXTINGUISHER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65600" y="1249200"/>
            <a:ext cx="574452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Ordinary Combustib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per, wood, drapes, and upholst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57400" y="2590920"/>
            <a:ext cx="61722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Flammable Liqui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uel oil, gasoline, paint, grease, solvent and other flammable liqu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33720" y="4572000"/>
            <a:ext cx="67039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Electrical Equip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ring, overheated fuse boxes, conductors, and other electrical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640" y="6545160"/>
            <a:ext cx="1274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One 406.01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1880" y="6553080"/>
            <a:ext cx="68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8600" y="0"/>
            <a:ext cx="87631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000000"/>
                </a:solidFill>
                <a:uFillTx/>
                <a:latin typeface="Haettenschweiler"/>
              </a:rPr>
              <a:t>HOW FIRE EXTINGUISHERS WORK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76040" y="1166760"/>
            <a:ext cx="6963120" cy="4770360"/>
          </a:xfrm>
          <a:prstGeom prst="rect">
            <a:avLst/>
          </a:prstGeom>
          <a:noFill/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l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ll the p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m the extinguisher nozzle at the ba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 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ez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ueeze or press the 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ee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eep from side to side at the bas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238880" y="914400"/>
            <a:ext cx="1905120" cy="5560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300440" y="1050840"/>
            <a:ext cx="37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77120" y="24987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377120" y="39466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377120" y="524196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2640" y="6545160"/>
            <a:ext cx="1274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One 406.01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381880" y="6553080"/>
            <a:ext cx="68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33520" y="1371600"/>
            <a:ext cx="5181480" cy="41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.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No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PANIC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.  Close all windows and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unused door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.  Follow the fire escap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lan and get o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4.  Move to the muster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rea and wait for th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re depart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30492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0"/>
            <a:ext cx="868680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Haettenschweiler"/>
              </a:rPr>
              <a:t>THE PERSON RESPONDING TO THE FIRE MUST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867280" y="1066680"/>
            <a:ext cx="3048120" cy="48006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2640" y="6545160"/>
            <a:ext cx="1274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One 406.01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81880" y="6553080"/>
            <a:ext cx="68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219320"/>
            <a:ext cx="9142560" cy="68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Haettenschweiler"/>
              </a:rPr>
              <a:t>1.   Shout “ FIRE, FIRE, FIRE” and pull the alar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ettenschweiler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Haettenschweiler"/>
              </a:rPr>
              <a:t>2.  Phone the 911 Emergency Service or  local Fire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ettenschweiler"/>
              </a:rPr>
              <a:t>      </a:t>
            </a:r>
            <a:r>
              <a:rPr b="0" lang="en-US" sz="4400" spc="-1" strike="noStrike">
                <a:solidFill>
                  <a:srgbClr val="000000"/>
                </a:solidFill>
                <a:latin typeface="Haettenschweiler"/>
              </a:rPr>
              <a:t>Department and state the exact location of th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ettenschweiler"/>
              </a:rPr>
              <a:t>      </a:t>
            </a:r>
            <a:r>
              <a:rPr b="0" lang="en-US" sz="4400" spc="-1" strike="noStrike">
                <a:solidFill>
                  <a:srgbClr val="000000"/>
                </a:solidFill>
                <a:latin typeface="Haettenschweiler"/>
              </a:rPr>
              <a:t>fi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2280" y="0"/>
            <a:ext cx="883944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Haettenschweiler"/>
              </a:rPr>
              <a:t>THE PERSON DISCOVERING A FIRE MUST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200400" y="4419720"/>
            <a:ext cx="3200400" cy="194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640" y="6545160"/>
            <a:ext cx="1274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One 406.01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381880" y="6553080"/>
            <a:ext cx="68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3-08T14:38:14Z</cp:lastPrinted>
  <dcterms:modified xsi:type="dcterms:W3CDTF">1999-03-08T14:38:16Z</dcterms:modified>
  <cp:revision>17</cp:revision>
  <dc:subject/>
  <dc:title>No Slide Title</dc:title>
</cp:coreProperties>
</file>