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741-EF07-40EF-98B7-B310C284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B9E-5839-4727-A2B3-FC853378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4A1-59A0-496F-85DE-AC373FEE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7A9-96D8-4F21-9834-750C2B31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B12-DE1F-41A4-882D-837C19EC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0CD-368E-496C-88BB-AF683CF8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CF3-1E99-49BE-90FF-ADECF75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3ED-277F-4DBA-9DF1-A1F0AF82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306-2578-4060-8295-D3ED7DB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43E-5FFB-4A6C-82EB-7391487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F78-F2CD-4093-B21F-3CB7C7D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230-2284-48D6-AA6A-997AF22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9E7-55F7-4E3F-BB06-1AD6B374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MTH and COM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4840" y="3048120"/>
            <a:ext cx="39052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YING THE F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41640" y="6545160"/>
            <a:ext cx="73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4419720" cy="3353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heap of t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larger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big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stick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-use spent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e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it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ght at the bot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780000">
            <a:off x="69840" y="1036080"/>
            <a:ext cx="4102200" cy="26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Impact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Impact"/>
              </a:rPr>
              <a:t>Fire Tri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362320"/>
            <a:ext cx="4673880" cy="3530520"/>
          </a:xfrm>
          <a:prstGeom prst="triangle">
            <a:avLst>
              <a:gd name="adj" fmla="val 49995"/>
            </a:avLst>
          </a:prstGeom>
          <a:solidFill>
            <a:srgbClr val="ff0033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42064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1447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6960" y="380988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 your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 your f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attend your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81480" y="1981080"/>
          <a:ext cx="3962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981080"/>
                    <a:ext cx="3962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MPFIRE DON’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28600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hibi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t or porous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14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E STARTING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es/L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nt and 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l Wool and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ing 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otech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353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743200" cy="2895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YPES OF T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tton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er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bent fuz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y, dead g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wdery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andoned n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ch b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e nee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339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HER ST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THER SOURCES OF FU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imal dro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0038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ON OF A FIRE S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build under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 cooking fires in trenches or h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wi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422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15:30:26Z</dcterms:created>
  <dc:creator>DND</dc:creator>
  <dc:description/>
  <dc:language>en-US</dc:language>
  <cp:lastModifiedBy>DND</cp:lastModifiedBy>
  <cp:lastPrinted>1999-02-19T15:11:30Z</cp:lastPrinted>
  <dcterms:modified xsi:type="dcterms:W3CDTF">1999-02-19T15:14:06Z</dcterms:modified>
  <cp:revision>11</cp:revision>
  <dc:subject/>
  <dc:title>No Slide Title</dc:title>
</cp:coreProperties>
</file>