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08B3-8CB2-4F92-9D92-00F0F262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5161-8140-4319-BB02-03B6C633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6153-9685-4FFD-8A36-3FE22145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8EA-1F2E-484C-8297-4425F590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62E8-1093-41E2-A138-C8F8E0CB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1F44-51CB-4F84-8AF6-FB2EC152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0D03-058C-4F18-B2D4-8C9B8CEE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776A-3735-43A7-BF5D-EDB66D66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EA7D-B622-4423-96BB-EFA44B47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FE37-0F4A-4424-84D6-AF699902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37B-52FF-4ED6-90DA-F8B23C9E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2E77-C9E1-412C-B31F-5CB8EA17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D70C-00C9-42EE-990F-3B8363C97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54040" y="299880"/>
            <a:ext cx="623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ircraft Compon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lane" descr=""/>
          <p:cNvPicPr/>
          <p:nvPr/>
        </p:nvPicPr>
        <p:blipFill>
          <a:blip r:embed="rId1"/>
          <a:srcRect l="5486" t="0" r="16317" b="8496"/>
          <a:stretch/>
        </p:blipFill>
        <p:spPr>
          <a:xfrm>
            <a:off x="1108080" y="1600200"/>
            <a:ext cx="6435720" cy="4352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440800" y="533520"/>
            <a:ext cx="41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Landing Ge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CHORD" descr=""/>
          <p:cNvPicPr/>
          <p:nvPr/>
        </p:nvPicPr>
        <p:blipFill>
          <a:blip r:embed="rId1"/>
          <a:srcRect l="20742" t="0" r="0" b="0"/>
          <a:stretch/>
        </p:blipFill>
        <p:spPr>
          <a:xfrm>
            <a:off x="4954680" y="2514600"/>
            <a:ext cx="3884400" cy="183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402520" y="411480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-dra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tricycle" descr=""/>
          <p:cNvPicPr/>
          <p:nvPr/>
        </p:nvPicPr>
        <p:blipFill>
          <a:blip r:embed="rId2"/>
          <a:srcRect l="0" t="14134" r="0" b="29330"/>
          <a:stretch/>
        </p:blipFill>
        <p:spPr>
          <a:xfrm>
            <a:off x="380880" y="2590920"/>
            <a:ext cx="374832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45200" y="41148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ycle G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7240" y="299880"/>
            <a:ext cx="488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Empenn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ele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089400" cy="509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16440" y="1065240"/>
            <a:ext cx="3332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ileron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ckp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F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Fuselag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Rudd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Flap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Leading Edg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Stabiliz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Main Whee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Trailing Edg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Engine Nacel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 Main Plan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 Nose Whee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 Elev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0680" y="30492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ch the aircraft compon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the correct na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Test%20Plane" descr=""/>
          <p:cNvPicPr/>
          <p:nvPr/>
        </p:nvPicPr>
        <p:blipFill>
          <a:blip r:embed="rId1"/>
          <a:srcRect l="9097" t="0" r="18773" b="8496"/>
          <a:stretch/>
        </p:blipFill>
        <p:spPr>
          <a:xfrm>
            <a:off x="0" y="1981080"/>
            <a:ext cx="5475240" cy="4015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4920" y="225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76320" y="2327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43434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744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4480" y="1828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428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43360" y="278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91640" y="270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29720" y="2098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8000" y="23623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06040" y="4003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58840" y="4114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8480" y="5334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6960" y="5486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08160" y="380880"/>
            <a:ext cx="32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4T18:42:33Z</dcterms:created>
  <dc:creator>RC Air Cadets</dc:creator>
  <dc:description/>
  <dc:language>en-US</dc:language>
  <cp:lastModifiedBy>dnd</cp:lastModifiedBy>
  <cp:lastPrinted>1999-01-05T14:57:28Z</cp:lastPrinted>
  <dcterms:modified xsi:type="dcterms:W3CDTF">1999-03-22T15:53:10Z</dcterms:modified>
  <cp:revision>9</cp:revision>
  <dc:subject/>
  <dc:title>No Slide Title</dc:title>
</cp:coreProperties>
</file>