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ABA-DE02-484D-BCE7-AADF532B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395-9F56-40DA-92C7-ABCD2998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30F-BA7B-46E0-9364-EB373910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222-40C8-45AE-963E-5B544667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BED-DCCE-42CC-95FE-4B714A01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F0D-CE9D-4B35-9B23-DC7454C3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B21-4ECA-4252-8903-B02D9590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CC0-ADF7-4090-BD62-6CA352AE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B03-5B02-45DB-BF20-D1A8AE36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DDD-9B77-45F7-A6A7-9F35C42B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B40-15A8-443D-99E8-D843FBC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3A0-D85C-491E-8EED-E8C1092E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73DA-6336-4018-B92F-278BB1B0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080" y="6611760"/>
            <a:ext cx="110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vel On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62440" y="685800"/>
            <a:ext cx="5266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E REG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ne number of fire department or r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ut FIRE, FIRE, FIRE, use a device to sound an al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et at designat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tion of fire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e drill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not leave fire unatt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erly extinguish the 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an evacu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irdgeIV" descr=""/>
          <p:cNvPicPr/>
          <p:nvPr/>
        </p:nvPicPr>
        <p:blipFill>
          <a:blip r:embed="rId1"/>
          <a:stretch/>
        </p:blipFill>
        <p:spPr>
          <a:xfrm>
            <a:off x="222120" y="533520"/>
            <a:ext cx="8921880" cy="6016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7880" y="175248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66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NKING WAT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86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640" y="579132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1640" y="49528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5200" y="480060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 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5160" y="42670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5560" y="33526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5600" y="2971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8920" y="403848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54720" y="5486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5000" y="60199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40" y="660888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8520" y="403200"/>
            <a:ext cx="8744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Selecting a Bivouac S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17800" y="1447920"/>
            <a:ext cx="5324760" cy="426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27000" y="2514600"/>
            <a:ext cx="4821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Well Drained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Safe Surrou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Free From Dangerous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  Pu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080" y="6611760"/>
            <a:ext cx="110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vel On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200" y="6613560"/>
            <a:ext cx="63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28800" y="1752480"/>
            <a:ext cx="381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lways Loo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6T15:43:22Z</dcterms:created>
  <dc:creator>Unregistered</dc:creator>
  <dc:description/>
  <dc:language>en-US</dc:language>
  <cp:lastModifiedBy>DND</cp:lastModifiedBy>
  <cp:lastPrinted>1999-02-19T15:22:28Z</cp:lastPrinted>
  <dcterms:modified xsi:type="dcterms:W3CDTF">1999-02-19T15:22:28Z</dcterms:modified>
  <cp:revision>13</cp:revision>
  <dc:subject/>
  <dc:title>No Slide Title</dc:title>
</cp:coreProperties>
</file>