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C4C-E721-4A36-8346-9A2C38C6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A55-07E3-48D9-9882-B8FD7CF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E56-5F8E-4C33-BD81-54477B27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D10-B4B2-4227-BF9C-ABC7BD1D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BF1-0E65-4002-AC14-B10C2077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9EB-9690-49E6-B5A8-2DC1D9B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60B-C326-46DE-9866-57C2ECC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299-FD55-4F62-9A3F-2B836F4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A1E-B872-4A57-830F-3420962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4C5-55EC-4A32-ACBC-E33888E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4C3-5A20-4ACA-8220-CCE04EB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531-6B8B-4DD2-BC1B-5B3D219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916-664B-42AB-BF0F-82EF793E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088400" cy="8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088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066680" y="1752480"/>
          <a:ext cx="5494320" cy="673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752480"/>
                    <a:ext cx="5494320" cy="673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057400"/>
          <a:ext cx="4343400" cy="575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3434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29Z</dcterms:modified>
  <cp:revision>6</cp:revision>
  <dc:subject/>
  <dc:title>No Slide Title</dc:title>
</cp:coreProperties>
</file>