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3188-C44E-4D6B-AE2A-147C76E03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25EB-5608-4D07-8155-9A45239D7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E42E-3291-44F1-8E31-974B9C5AE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D827-CF60-419E-87BD-02092CE3F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274B-CF9F-4185-9911-F241639E9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0ABD-5AD7-47B8-B383-F4DE46195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F146-5256-4F91-8944-891EE32A4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6813-E306-44F8-9DAD-E4A130A8F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96B5-974D-42F8-9B11-A74B34D21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3107-A835-4DAB-A3C2-0D4961BF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3956-1C48-4166-B7A9-5CA3E399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CE95-ABBF-4100-8788-664C94BB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5C6B1-AB37-4273-9CFD-5A35B60D93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TEPS TO TAKE WHEN LO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9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495680" y="1219320"/>
            <a:ext cx="1219320" cy="2133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57200" y="1219320"/>
            <a:ext cx="1219320" cy="2057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33520" y="3581280"/>
            <a:ext cx="1447560" cy="2667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4648320" y="3505320"/>
            <a:ext cx="1752480" cy="2895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88160" y="1828800"/>
            <a:ext cx="150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O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51040" y="1752480"/>
            <a:ext cx="18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N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83960" y="4724280"/>
            <a:ext cx="260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BSER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60520" y="4724280"/>
            <a:ext cx="155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FACTORS WHICH DECREASE FE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ing confidence in your 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ing confidence in your superior and your-sel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ntrating on the job to be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9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086600" y="4952880"/>
            <a:ext cx="1676520" cy="14972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124080" y="2438280"/>
            <a:ext cx="2667240" cy="1524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3657600" y="4038480"/>
            <a:ext cx="16383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8T12:10:26Z</dcterms:created>
  <dc:creator>DND</dc:creator>
  <dc:description/>
  <dc:language>en-US</dc:language>
  <cp:lastModifiedBy>DND</cp:lastModifiedBy>
  <cp:lastPrinted>1999-02-19T15:14:54Z</cp:lastPrinted>
  <dcterms:modified xsi:type="dcterms:W3CDTF">1999-02-19T15:14:58Z</dcterms:modified>
  <cp:revision>4</cp:revision>
  <dc:subject/>
  <dc:title>FACTORS WHICH DECREASE FEAR</dc:title>
</cp:coreProperties>
</file>