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22BB-535B-4DBD-AC7A-8746A594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BD32-60DF-45E8-8FF4-F9716AF4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95E2-786E-4A29-8253-EA525A52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C606-6D9F-4B74-9C1D-F9924BF3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2FCB-CAFD-4BB8-BF1F-9566452E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5461-7668-4AC3-A24E-6375AF8E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B9FB-9BFB-4C17-93E5-AE968C64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8511-DF9A-4402-8B19-0D67E2FE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48E5-C8A4-4E80-806A-D60B84F8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0EFC-B8A2-433E-B1D9-B9705E81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45B5-85C4-438E-AD16-A478A6AA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F697-C0DE-4C71-9753-B63675AB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6474-A132-421F-89E1-A6F7ED48F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92120" y="228600"/>
            <a:ext cx="427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ircraft Typ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iplane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637320" cy="4576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47560" y="2590920"/>
            <a:ext cx="244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opl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2590920"/>
            <a:ext cx="170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pl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960" y="5486400"/>
            <a:ext cx="183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ipl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92120" y="304920"/>
            <a:ext cx="427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ircraft Typ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8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iwing" descr=""/>
          <p:cNvPicPr/>
          <p:nvPr/>
        </p:nvPicPr>
        <p:blipFill>
          <a:blip r:embed="rId1"/>
          <a:stretch/>
        </p:blipFill>
        <p:spPr>
          <a:xfrm>
            <a:off x="1252440" y="1366920"/>
            <a:ext cx="6637320" cy="4576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00200" y="2743200"/>
            <a:ext cx="23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-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82200" y="2711520"/>
            <a:ext cx="21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d-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2880" y="5149800"/>
            <a:ext cx="22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w-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4T13:42:30Z</dcterms:created>
  <dc:creator>RC Air Cadets</dc:creator>
  <dc:description/>
  <dc:language>en-US</dc:language>
  <cp:lastModifiedBy>dnd</cp:lastModifiedBy>
  <cp:lastPrinted>1999-02-04T20:19:50Z</cp:lastPrinted>
  <dcterms:modified xsi:type="dcterms:W3CDTF">1999-03-22T14:19:00Z</dcterms:modified>
  <cp:revision>17</cp:revision>
  <dc:subject/>
  <dc:title>No Slide Title</dc:title>
</cp:coreProperties>
</file>