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D34-2209-4D17-8658-B51B5FC4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12F-8EC0-4F98-A9A1-2BD4423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4B6-2FAC-4AC8-B404-38E08425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F99-4CAF-4B81-BF3D-3955E29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C59-8063-4F40-A139-0F12309E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3FB-84E9-46B9-84E2-9665EF4E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F14-D43A-43B5-A8B3-95CF748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838-21FD-48EC-8528-9656DE41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A74-0AB9-40B0-ADE0-B563E77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95E-C6A4-4B7C-B310-28123BEC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1D9-CF8A-4C1E-9695-2B9100B1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DD5-3698-466F-A8D6-D8846F6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296-A8C6-4A4D-A165-7D4744CE2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286000"/>
          <a:ext cx="5400720" cy="469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286000"/>
                    <a:ext cx="54007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52Z</dcterms:modified>
  <cp:revision>6</cp:revision>
  <dc:subject/>
  <dc:title>No Slide Title</dc:title>
</cp:coreProperties>
</file>