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75B8-64E7-42B1-A00F-B6FF1377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A1A-CA31-4131-8ABF-C80B2A33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F90-04B6-4DE2-B7C3-A9D530D7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F58-C7DD-4569-A403-59922B2A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05A-BB69-4C74-8F7B-A93FD944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A15-7200-40EF-8297-2C0D7EF9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F0B-7C71-438C-BC7F-44D0EC0F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DA0-3AAB-40BD-AA4A-907F2C87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DBD-A544-4FFD-A878-918CAD02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D8E-A8E6-4849-9B43-80EFA298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05F-5A53-44EB-BCD0-D98A0745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508-880D-40D3-A504-68A90498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BE16-7576-4944-9CB7-EB99DD037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AT SHOULD I WEAR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483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ool vs. Co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ackets vs. Swe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otw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avy Gl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764160" cy="3535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tique Olv (W1)"/>
              </a:rPr>
              <a:t>TAKING CARE OF YOUR CLO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ep clothing c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ep it d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nd tears in clothing as soon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nge your s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intain your b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ep dirt and grease off your 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657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ANDLING YOUR KN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ep it shar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ry in a stout sh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sition towards the back of your 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tach to your b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ck for sharp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ck hand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3276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2:53:00Z</dcterms:created>
  <dc:creator>DND</dc:creator>
  <dc:description/>
  <dc:language>en-US</dc:language>
  <cp:lastModifiedBy>DND</cp:lastModifiedBy>
  <cp:lastPrinted>1999-02-19T14:52:50Z</cp:lastPrinted>
  <dcterms:modified xsi:type="dcterms:W3CDTF">1999-02-19T14:53:16Z</dcterms:modified>
  <cp:revision>4</cp:revision>
  <dc:subject/>
  <dc:title>WHAT SHOULD I WEAR?</dc:title>
</cp:coreProperties>
</file>