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40E2-905B-449E-9300-BBF95E1C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F36-714D-4518-BDF7-E85FBF84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DD77-E88B-4A07-88EB-BB5F4E10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01F-26AA-4E5F-954F-1A59A876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961-9FAB-4655-B5D8-A462B505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54C-E362-491B-9474-78308CF9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299-D7B2-4B6F-B0E0-DE0A58A3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F19-6D2A-4AE1-8426-74C4B5FD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B57-A245-4795-BE5D-515977D9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C1A-4BA5-4FFE-A65C-C92A0CA0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893-3A3F-48E0-AD2F-EF9B98E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6BB-2B05-450A-BCB8-D6BE3D5B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25D0-5687-491D-AC5C-BCC3217BD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1720" y="380880"/>
            <a:ext cx="55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erodrome Ligh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IGHTS" descr=""/>
          <p:cNvPicPr/>
          <p:nvPr/>
        </p:nvPicPr>
        <p:blipFill>
          <a:blip r:embed="rId1"/>
          <a:srcRect l="0" t="0" r="0" b="4440"/>
          <a:stretch/>
        </p:blipFill>
        <p:spPr>
          <a:xfrm>
            <a:off x="1219320" y="1676520"/>
            <a:ext cx="6710400" cy="4647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90320" y="452520"/>
            <a:ext cx="63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ll Weather Mark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rway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666200" cy="457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9120" y="351000"/>
            <a:ext cx="866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nger/Unserviceable Mark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anger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902720" cy="457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33520" y="4467240"/>
          <a:ext cx="9144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46724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33520" y="3594240"/>
            <a:ext cx="914400" cy="901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8320" y="380988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2000" y="204840"/>
            <a:ext cx="537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ch the aerodrome marking with th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ement which best describes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0440" y="1563840"/>
            <a:ext cx="4900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It identifies the center of the run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They indicate the beginning of a run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It identifies dangerous and unservice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They indicate the end of a runway and m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mark dangerous areas or obstru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It indicates magnetic direction and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ed to the nearest 10 degre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 They mark the beginning and 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runw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They run down each side of a run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33520" y="5638680"/>
            <a:ext cx="914400" cy="901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6520" y="58672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33520" y="1231920"/>
            <a:ext cx="914400" cy="901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8320" y="144792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74520" y="39625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4520" y="53341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74520" y="160020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4520" y="472428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74520" y="228600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74520" y="30481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74520" y="60199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33720"/>
            <a:ext cx="67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Univers (W1)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80880" y="5356080"/>
          <a:ext cx="1219320" cy="130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5356080"/>
                    <a:ext cx="121932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83560" y="28195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819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04280" y="46656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819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2:16:14Z</dcterms:created>
  <dc:creator>RC Air Cadets</dc:creator>
  <dc:description/>
  <dc:language>en-US</dc:language>
  <cp:lastModifiedBy>dnd</cp:lastModifiedBy>
  <cp:lastPrinted>1999-01-11T12:35:27Z</cp:lastPrinted>
  <dcterms:modified xsi:type="dcterms:W3CDTF">1999-03-22T14:38:59Z</dcterms:modified>
  <cp:revision>4</cp:revision>
  <dc:subject/>
  <dc:title>No Slide Title</dc:title>
</cp:coreProperties>
</file>