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56C-F652-4E70-8243-63EF3847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908-1B9F-48B7-8C36-84EE025A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E78-6C94-488D-A8EE-A4DE251F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83C7-AF88-41E0-91D6-25D021E2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C50E-9940-47D0-BC01-A4A83B37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F68-B0DC-4CDF-A26A-64CE8AC7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1DCD-54DF-488C-B8D1-C3A5A954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D67-E83F-4F17-AD4B-7446CA44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9661-3B22-46D3-8FC0-7928113B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1E8-1782-4EBE-9DC7-5201F0F6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E5D-2B89-4FF4-9694-ED60D373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C0C-F5A3-4A71-981E-E7503751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C888-56FA-417F-8A30-54579E74E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ir Cadet Mot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To Lear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To Ser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To Adv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276720" cy="2932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477120"/>
            <a:ext cx="1177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Aims of the Air Cad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develop in youth the attributes of good citizenship and leadership.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romote physical fit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imulate an interest in the air element of the Canadian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05520" y="1739880"/>
            <a:ext cx="3504960" cy="3478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477120"/>
            <a:ext cx="1177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ath of Loyal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, (F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ll Nam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ereby affirm my loyalty to her Majesty the Queen,her heirs and success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05520" y="1739880"/>
            <a:ext cx="3504960" cy="3478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477120"/>
            <a:ext cx="1177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41640" y="646128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11T16:50:50Z</cp:lastPrinted>
  <dcterms:modified xsi:type="dcterms:W3CDTF">1999-01-11T16:52:26Z</dcterms:modified>
  <cp:revision>19</cp:revision>
  <dc:subject/>
  <dc:title>No Slide Title</dc:title>
</cp:coreProperties>
</file>