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544-5E69-461E-BB7B-0D748597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014-937B-480D-8A03-9A588EF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9B2-493A-44D3-AB2F-23D7FE2F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225-5F16-43B1-964A-B43D4BA4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B91-5FCC-462F-9349-3EB3020F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D50-FD3E-4BDE-B097-8A9FF43F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F64-AD6B-4315-9785-D3A5BDC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6F-7F2A-43B9-9248-916E67B9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F00-11D8-47C7-8B76-9F8931D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02A-14F0-49D0-8005-92C66E46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D1D-D579-4790-89E4-0EEE9F9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77B-4AA3-4231-8C53-EAC617BC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731E-F4C7-4CEA-82EC-4511965A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6480" y="609480"/>
            <a:ext cx="46155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 OF SAL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7240" y="1746360"/>
          <a:ext cx="7885440" cy="52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46360"/>
                    <a:ext cx="7885440" cy="52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46128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6200" y="533520"/>
            <a:ext cx="6884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THAT ARE SAL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1680" y="1447920"/>
            <a:ext cx="7263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Queen and members of the Royal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or General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e Minister of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the Canadian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Heads of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ster and Associate ministers of National Def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utenant -Governors of the province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d Officers of foreign defence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9:22:59Z</dcterms:created>
  <dc:creator>dnd</dc:creator>
  <dc:description/>
  <dc:language>en-US</dc:language>
  <cp:lastModifiedBy>dnd</cp:lastModifiedBy>
  <cp:lastPrinted>1999-01-22T17:41:59Z</cp:lastPrinted>
  <dcterms:modified xsi:type="dcterms:W3CDTF">1999-01-22T18:26:56Z</dcterms:modified>
  <cp:revision>3</cp:revision>
  <dc:subject/>
  <dc:title>No Slide Title</dc:title>
</cp:coreProperties>
</file>