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7DF-E975-4A37-8466-270D2BFE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B8C-CD0E-4D11-BCB8-F1E4C8AA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4BE-0C79-4738-A33C-8C1E7880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257-BD10-4F10-A1FA-A56A5DBB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605-4802-4CEA-96E2-ABF3B6F3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4F1-4C9F-48F4-B1AF-7B8AD7CE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904-6A76-46F3-AA65-34E60C1A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55B-BFD8-4283-9F60-0A4AD35B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F8C-6633-46CD-A07A-A9810114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114-114D-4E80-AB05-0C5C48DE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DE6-57F4-4D37-8678-74C25207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A9E-A6ED-476C-9614-7148DACF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9B33-F309-4443-AB47-BB41D666F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rill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5399280" cy="673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20:56Z</dcterms:created>
  <dc:creator>DND</dc:creator>
  <dc:description/>
  <dc:language>en-US</dc:language>
  <cp:lastModifiedBy>DND</cp:lastModifiedBy>
  <cp:lastPrinted>1999-01-07T20:06:04Z</cp:lastPrinted>
  <dcterms:modified xsi:type="dcterms:W3CDTF">1999-01-07T20:06:08Z</dcterms:modified>
  <cp:revision>2</cp:revision>
  <dc:subject/>
  <dc:title>No Slide Title</dc:title>
</cp:coreProperties>
</file>