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5A4-099F-4373-B6E3-3656E14D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20C-A5BB-45D0-A9B5-F311C8E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8C7-4876-4FDE-89F7-94D85CEA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FAE-385A-4BE2-BBA0-15326136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117-C8A0-414F-8DE1-A2EACE37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570-759A-44AC-979D-4C6BF867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7E5-20D8-44F3-BAC1-23CA69FF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421-18DC-4E45-84AE-1346B0BD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5CD-CA36-48D0-B313-B07D3048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E9E-EB0C-4CAB-BED8-D88707AC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0D7-FDFA-4F70-8AE5-707A4B6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711-D657-42BD-9662-BA40F61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45F6-EED2-4CB6-89C7-4C89676CA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os%20pics" descr=""/>
          <p:cNvPicPr/>
          <p:nvPr/>
        </p:nvPicPr>
        <p:blipFill>
          <a:blip r:embed="rId1"/>
          <a:stretch/>
        </p:blipFill>
        <p:spPr>
          <a:xfrm>
            <a:off x="703440" y="355680"/>
            <a:ext cx="7737120" cy="614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6858000"/>
            <a:ext cx="1066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6477120"/>
            <a:ext cx="769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86868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-1231560" y="321012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8487000" y="6059880"/>
            <a:ext cx="106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8575560" y="40932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57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2428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45720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268520" y="5886360"/>
            <a:ext cx="83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Y BE GIV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4238280" y="5785200"/>
            <a:ext cx="119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y, cease fir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084480" y="274716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op firing immediately and put the safety catch in the ON (no r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si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816440" y="56988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y, resume fir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3510360" y="2803320"/>
            <a:ext cx="357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t the safety in the OFF (red) position and continue the practi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20:06:12Z</dcterms:created>
  <dc:creator>DND</dc:creator>
  <dc:description/>
  <dc:language>en-US</dc:language>
  <cp:lastModifiedBy>dnd</cp:lastModifiedBy>
  <cp:lastPrinted>1999-03-23T20:20:50Z</cp:lastPrinted>
  <dcterms:modified xsi:type="dcterms:W3CDTF">1999-03-28T19:13:52Z</dcterms:modified>
  <cp:revision>4</cp:revision>
  <dc:subject/>
  <dc:title>No Slide Title</dc:title>
</cp:coreProperties>
</file>