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D437-4464-4685-ADFC-617EA743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2DAF-7E31-487E-A1DA-688CBD9D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5E08-16FF-4B11-96C0-FE8890D7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EAF0-AAB1-44EE-8141-29D8D499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22E-5F00-4EC3-9546-7A316C3A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075-527B-4E6A-9150-27A8D89E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513-17A7-4499-9A8B-88A25A0C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C98-2094-4DD2-AE26-B2F00D54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C0F-A81B-4C9C-B72D-3AFD0ECE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C0D5-A87D-4635-86E3-66D1CC29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FC8F-7B29-4FE9-886B-72811D33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0246-7333-42F4-BD52-74E7BED1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2676-458B-4BB3-AABA-C97B47363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3049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irmanship is…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3440" y="1447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Skill in the handling and operating of airpla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ground and in the 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LANE" descr=""/>
          <p:cNvPicPr/>
          <p:nvPr/>
        </p:nvPicPr>
        <p:blipFill>
          <a:blip r:embed="rId1"/>
          <a:stretch/>
        </p:blipFill>
        <p:spPr>
          <a:xfrm>
            <a:off x="5060880" y="5270400"/>
            <a:ext cx="3473640" cy="978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3440" y="2666880"/>
            <a:ext cx="760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A thorough knowledge of applicable theor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, regulations and proced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884760"/>
            <a:ext cx="906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An attitude or preparedness for any events that 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, including pre-determined plans of action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emergenc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34840" y="457200"/>
            <a:ext cx="595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intenance Rec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2360" y="1749600"/>
            <a:ext cx="4478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encoun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s of fuel and o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4495680"/>
          <a:ext cx="804600" cy="19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495680"/>
                    <a:ext cx="80460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28600" y="2590920"/>
          <a:ext cx="1889280" cy="98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590920"/>
                    <a:ext cx="188928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80880" y="762120"/>
          <a:ext cx="906480" cy="93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762120"/>
                    <a:ext cx="906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238880" y="4495680"/>
          <a:ext cx="1233720" cy="165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4495680"/>
                    <a:ext cx="123372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791320" y="1981080"/>
          <a:ext cx="1996920" cy="15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1320" y="1981080"/>
                    <a:ext cx="19969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7:04:28Z</dcterms:created>
  <dc:creator>RC Air Cadets</dc:creator>
  <dc:description/>
  <dc:language>en-US</dc:language>
  <cp:lastModifiedBy>dnd</cp:lastModifiedBy>
  <cp:lastPrinted>1999-01-07T18:01:46Z</cp:lastPrinted>
  <dcterms:modified xsi:type="dcterms:W3CDTF">1999-03-25T12:26:17Z</dcterms:modified>
  <cp:revision>8</cp:revision>
  <dc:subject/>
  <dc:title>No Slide Title</dc:title>
</cp:coreProperties>
</file>