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3B77-649B-4830-99B2-C954E6448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C71B-5E0F-4C59-BD1B-A8C7BBF73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B313-4B54-4704-B19C-F1F58A6D0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A3F6-BE5D-46EA-8DB7-539FD9920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4100-BC00-481C-BF0A-B3CD2C722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0D6C-A3AA-4A33-8CCE-A39E73F25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F620-169A-4782-8EAB-8D247215C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AE2F-BC0A-46CE-B328-8069394BF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CB83-8CAC-4480-B0D1-96757B7B5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FA9F-9C13-49C6-A1E5-EEBEC9218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91E9-AF12-41C5-8350-078C1CD3B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5EC2-8A71-42E5-9B47-681E7BCCF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39C6B-3741-4C76-9872-7925AFDF10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334120" y="762120"/>
          <a:ext cx="7621560" cy="86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762120"/>
                    <a:ext cx="7621560" cy="86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838080" y="1752480"/>
          <a:ext cx="5639040" cy="2210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752480"/>
                    <a:ext cx="5639040" cy="22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762120" y="1828800"/>
          <a:ext cx="5553000" cy="64771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1828800"/>
                    <a:ext cx="5553000" cy="647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3T14:23:26Z</dcterms:created>
  <dc:creator>Jamie Richards</dc:creator>
  <dc:description/>
  <dc:language>en-US</dc:language>
  <cp:lastModifiedBy>Jamie Richards</cp:lastModifiedBy>
  <dcterms:modified xsi:type="dcterms:W3CDTF">1999-04-23T18:08:33Z</dcterms:modified>
  <cp:revision>6</cp:revision>
  <dc:subject/>
  <dc:title>No Slide Title</dc:title>
</cp:coreProperties>
</file>