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DCF6-79F7-4F7E-BF14-66B188C95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D645-28B0-4D07-8C50-0257998D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3B8F-22CD-4FFC-9C14-A43F44533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44D2-C211-4896-B7C1-D28279AF1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2CAF-BAD0-4C4D-9265-15726AF0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D800-71D9-48B7-BC73-9908ECB2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24FF-0C63-4D0E-A812-87747FAF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41CD-20F8-44A8-B5FE-A8F7C531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77DC-E399-4955-9AC1-B4FA8F70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C815-D34F-4521-9FBA-8B234D1D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E62D-73DB-4A11-8BAA-5B6DA69F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AA97-E663-4C5D-B596-1FFE703B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6EE9-2E52-4C0A-BB0F-E447B1943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54040" y="299880"/>
            <a:ext cx="623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ircraft Compon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lane" descr=""/>
          <p:cNvPicPr/>
          <p:nvPr/>
        </p:nvPicPr>
        <p:blipFill>
          <a:blip r:embed="rId1"/>
          <a:srcRect l="5486" t="0" r="16317" b="8496"/>
          <a:stretch/>
        </p:blipFill>
        <p:spPr>
          <a:xfrm>
            <a:off x="1108080" y="1600200"/>
            <a:ext cx="6435720" cy="4352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5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924680" y="4876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49320" y="376200"/>
            <a:ext cx="386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Ailer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ail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843600" cy="4707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876920" y="4419720"/>
            <a:ext cx="2666880" cy="167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5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73360" y="452520"/>
            <a:ext cx="383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Eleva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77320" y="4648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ele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513920" cy="4676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876920" y="4648320"/>
            <a:ext cx="3657600" cy="167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5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96320" y="452520"/>
            <a:ext cx="35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Rud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6172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udder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615000" cy="4577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562720" y="4648320"/>
            <a:ext cx="213336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5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4T18:42:33Z</dcterms:created>
  <dc:creator>RC Air Cadets</dc:creator>
  <dc:description/>
  <dc:language>en-US</dc:language>
  <cp:lastModifiedBy>dnd</cp:lastModifiedBy>
  <cp:lastPrinted>1999-01-05T14:57:28Z</cp:lastPrinted>
  <dcterms:modified xsi:type="dcterms:W3CDTF">1999-03-22T15:37:22Z</dcterms:modified>
  <cp:revision>8</cp:revision>
  <dc:subject/>
  <dc:title>No Slide Title</dc:title>
</cp:coreProperties>
</file>