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6C6-B34D-421C-A8B1-744C5141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63F-DBB9-450A-975B-80281F4D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52C-A40D-4B29-8479-32998DE8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41F-6FFF-438F-A4AA-4E8CD1E9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4A6-2549-4550-B6DA-4AFA3AE7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151-0D6B-4FC3-AB33-C29FC2AB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6EC-65FF-450A-A654-B6BBCC61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6B8-56F3-4B54-B848-FD11F122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1B7-BFEF-4391-9841-82E0C32A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19B-4F44-4CA7-9DF0-48EA49EC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266-B642-4E77-A802-2F9496C8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15D-EEFF-44C7-A554-F6AE0C00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0DB5-4242-4BE9-AE0A-A882C6F53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FORE A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1722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ne  410.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48720" y="6172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12956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ICE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i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1722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ne  410.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48720" y="6172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335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N PRESE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distracting manneris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Natu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shift your feet or juggl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an objective at the beginning of your 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the body of your speech purpo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ransport MT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e your speech at 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1722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ne  410.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6172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5747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7T20:41:42Z</dcterms:created>
  <dc:creator>DND</dc:creator>
  <dc:description/>
  <dc:language>en-US</dc:language>
  <cp:lastModifiedBy>DND</cp:lastModifiedBy>
  <cp:lastPrinted>1999-01-27T12:58:18Z</cp:lastPrinted>
  <dcterms:modified xsi:type="dcterms:W3CDTF">1999-03-28T16:50:22Z</dcterms:modified>
  <cp:revision>10</cp:revision>
  <dc:subject/>
  <dc:title>BEFORE A SPEECH</dc:title>
</cp:coreProperties>
</file>