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3F4-53E0-41A3-8026-04C6E2CD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E71-D1E2-4BE2-9912-A00BFA7D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494-2C9C-4427-9F2E-AC5EE65B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170-9914-44F4-8768-5FB74AFB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CF1-79BC-4C72-B938-99CE1EE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210-377F-4794-A55B-1FB38BF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435-9158-431E-B353-B68F7404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9AA-8FBF-4EE8-97CB-E7B2DA1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D63-317A-42AD-BA19-6B8AE694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2AD-614B-4218-A739-E0C963B3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A6C-E984-469A-A901-6F524A7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91D-D1D2-4273-85C9-8AB8A99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627-B9C3-44BC-A99C-6D04130A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RONE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rone" descr=""/>
          <p:cNvPicPr/>
          <p:nvPr/>
        </p:nvPicPr>
        <p:blipFill>
          <a:blip r:embed="rId1"/>
          <a:stretch/>
        </p:blipFill>
        <p:spPr>
          <a:xfrm>
            <a:off x="2003400" y="1447920"/>
            <a:ext cx="51372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nt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r 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ht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ront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66724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rear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sight" descr=""/>
          <p:cNvPicPr/>
          <p:nvPr/>
        </p:nvPicPr>
        <p:blipFill>
          <a:blip r:embed="rId3"/>
          <a:stretch/>
        </p:blipFill>
        <p:spPr>
          <a:xfrm>
            <a:off x="5257800" y="4800600"/>
            <a:ext cx="2690640" cy="152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1480" y="4572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18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3276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4800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447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1523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81480" y="3048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reathing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RIGGER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rigger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508640" cy="483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LLOW-THR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essential to shooting perfect sh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through is defined as the act of remaining in position for a few seconds after the pellets depar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880" y="1676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057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5 principles of marksmanship by circling the letter which corresponds with the correct principle of marksma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-ha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 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llow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438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34:12Z</dcterms:created>
  <dc:creator>DND</dc:creator>
  <dc:description/>
  <dc:language>en-US</dc:language>
  <cp:lastModifiedBy>dnd</cp:lastModifiedBy>
  <cp:lastPrinted>1999-03-24T01:55:36Z</cp:lastPrinted>
  <dcterms:modified xsi:type="dcterms:W3CDTF">1999-03-28T19:06:43Z</dcterms:modified>
  <cp:revision>7</cp:revision>
  <dc:subject/>
  <dc:title>THE PRONE POSITION</dc:title>
</cp:coreProperties>
</file>