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F3A-B2A1-4BFB-B2B7-BAB65581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C99-BA95-43F7-A739-A5756BB5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148-E553-4CAC-9756-B121CCB1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4FC-69F1-4471-974D-ADCF8033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C78-D6ED-45DE-99B7-60A85372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455-52CF-4655-B9FE-0D97D723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E62-F4FB-45ED-812B-97151FC6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973-B3C7-491C-96CC-F2A51915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A30-0B35-467F-BAFD-59C207E1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01E-6CB1-484A-B764-6196EF3D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377-D523-4755-9E37-A71896C2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854-2814-46C1-ACBE-AEA4CFB3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F155-F9D7-4A30-A66C-2677FCBBA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%20403%20Cover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722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8T00:28:34Z</cp:lastPrinted>
  <dcterms:modified xsi:type="dcterms:W3CDTF">1999-03-16T19:50:32Z</dcterms:modified>
  <cp:revision>21</cp:revision>
  <dc:subject/>
  <dc:title>No Slide Title</dc:title>
</cp:coreProperties>
</file>