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6EE-3446-42DE-9B6E-49C7D34F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620-7127-430A-9F69-B0081A9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EAB-BAEC-487D-B41D-9CCED8D9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79F-CDC5-44D4-A2F6-D8219C58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013-90A1-482F-ADF6-F8EE90A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054-0390-48F5-8660-6156E4A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A10-3BDC-4785-988C-4CCB313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DEF-CB6E-409F-A2A5-D9C5651A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CD9-8632-4017-BAFC-F6A8CF4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700-F785-472A-8BEC-D8AE5D9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E00-C872-45F4-9843-9DD6C60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2D0-D403-413F-9942-B7AC713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B1B-3630-4203-83A7-3C607DBDB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86040" cy="251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52280" y="4419720"/>
            <a:ext cx="3729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6596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5560" y="4419720"/>
            <a:ext cx="332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leur-de-l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96080" y="1812960"/>
            <a:ext cx="2112840" cy="106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02000" y="1911240"/>
            <a:ext cx="2001960" cy="99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1917720"/>
            <a:ext cx="1974960" cy="98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39544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29000" y="4599000"/>
            <a:ext cx="2049480" cy="10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700600" y="18367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751800" y="4594320"/>
            <a:ext cx="2081160" cy="1036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135576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on of the Crowns of England and Scotland (16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7680"/>
            <a:ext cx="914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volution of the Royal Union Fla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George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03228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Andrew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3032280"/>
            <a:ext cx="266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3946680"/>
            <a:ext cx="914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 of Union between Great Britain and Ireland (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66680" y="4556160"/>
            <a:ext cx="2112840" cy="106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700600" y="457992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71760" y="4503600"/>
            <a:ext cx="704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9936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nd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75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st) Royal Union Fla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he United King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77548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. Patrick’s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1301760"/>
            <a:ext cx="9129600" cy="234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62520"/>
            <a:ext cx="912960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789280"/>
            <a:ext cx="914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“First” Red Ensign (17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36800" y="763560"/>
            <a:ext cx="361476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60840" y="3735360"/>
            <a:ext cx="361440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761080"/>
            <a:ext cx="914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nadian Red Ensign (1924-19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25760" y="1330200"/>
            <a:ext cx="6151320" cy="30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62120" y="4662360"/>
            <a:ext cx="5958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Canadian Fla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2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0T20:05:40Z</dcterms:created>
  <dc:creator>Valued Customer</dc:creator>
  <dc:description/>
  <dc:language>en-US</dc:language>
  <cp:lastModifiedBy>dnd</cp:lastModifiedBy>
  <cp:lastPrinted>1999-01-08T19:44:57Z</cp:lastPrinted>
  <dcterms:modified xsi:type="dcterms:W3CDTF">1999-01-08T19:48:12Z</dcterms:modified>
  <cp:revision>10</cp:revision>
  <dc:subject/>
  <dc:title>No Slide Title</dc:title>
</cp:coreProperties>
</file>