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456-DD4F-476D-8156-8C3D243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3CD-6F45-4BBA-847B-EC767DB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1CE-514F-4DA3-950C-E0F76FE6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C49-D3B3-4C77-8AB2-B8FE4C3F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5F7-079A-424C-B07F-4F177AA9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F64-09EB-4FB9-A5D4-7D412F21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5B3-1737-4853-89B0-A314B4DA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F8D-6714-4296-9242-83E91EAE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636-DE4C-4128-8B6A-774E46E3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A05-DB06-4C74-AC6E-D6952BD5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E3B-EC2A-4375-98EE-C9E64CEF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00E-6584-4AA0-B9B5-20B4EF01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5533-C359-409D-934D-06C47F6F7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ffect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8006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35:04Z</dcterms:created>
  <dc:creator>DND</dc:creator>
  <dc:description/>
  <dc:language>en-US</dc:language>
  <cp:lastModifiedBy>DND</cp:lastModifiedBy>
  <cp:lastPrinted>1998-12-18T13:39:01Z</cp:lastPrinted>
  <dcterms:modified xsi:type="dcterms:W3CDTF">1998-12-18T13:40:08Z</dcterms:modified>
  <cp:revision>1</cp:revision>
  <dc:subject/>
  <dc:title>No Slide Title</dc:title>
</cp:coreProperties>
</file>