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E89-0549-4FE0-943B-495E8413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B3F-A312-48AB-A13F-46E88266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A27-93FC-4A84-8401-846CA3BE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2CE-436B-4539-A28C-573312E6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BFC-7B67-40D3-9FFD-1D3D7A26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BD3-2616-45AD-9B8C-1B1276D7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EA3-86CA-4B58-907C-A29DA18A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78B-FD34-4D32-B474-CDBC9685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682-FB44-45AE-A8F5-0BC7179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204-9B8A-4F66-8BD3-CF1189D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7B5-FC89-43BE-AD4F-DA7498C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1BA-74EF-4E37-BCAB-2CF2D116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79AF-31AF-4BF5-AB87-D4651839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28195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er 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 Prop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id 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33520"/>
            <a:ext cx="72388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GE 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i3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40040" cy="4643640"/>
          </a:xfrm>
          <a:prstGeom prst="rect">
            <a:avLst/>
          </a:prstGeom>
          <a:ln w="0">
            <a:noFill/>
          </a:ln>
        </p:spPr>
      </p:pic>
      <p:pic>
        <p:nvPicPr>
          <p:cNvPr id="49" name="uni2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3951000" cy="525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1752480" y="2057040"/>
            <a:ext cx="1447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00200" y="2971800"/>
            <a:ext cx="1676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191120"/>
            <a:ext cx="13716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oval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25780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75840" y="44956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10280" y="4800600"/>
            <a:ext cx="5335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80769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 PLACEMENT OF NAME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age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60" y="6545160"/>
            <a:ext cx="1245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520"/>
            <a:ext cx="80769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FITNESS A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I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0000" cy="346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6T15:53:57Z</dcterms:created>
  <dc:creator>dnd</dc:creator>
  <dc:description/>
  <dc:language>en-US</dc:language>
  <cp:lastModifiedBy>dnd</cp:lastModifiedBy>
  <cp:lastPrinted>1999-01-22T21:59:52Z</cp:lastPrinted>
  <dcterms:modified xsi:type="dcterms:W3CDTF">1999-03-17T19:47:03Z</dcterms:modified>
  <cp:revision>5</cp:revision>
  <dc:subject/>
  <dc:title>No Slide Title</dc:title>
</cp:coreProperties>
</file>