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786-4AE0-43ED-8E89-6F43A370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616-7ED7-4419-BF9A-F987D0E0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3A5-7A54-4B77-B91C-6D5D351A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202-08E3-4BD5-BCD6-63BA93EB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B7C-9CE5-4B08-ACBA-2D59057F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600-5CB2-4B9A-ACCD-3E7DE8D2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682-CCEE-4A29-9FB1-10AD3E44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C0B-72D0-4B8C-BC25-046272FC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D8C-AB00-49EC-81AE-742B4C1F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3D0-F51A-4C90-8AB8-3A2722B0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ABB-223C-49EC-97D2-02C1D623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494-AE64-485C-A857-8AA8D2A5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8533-C79D-4904-B11E-801D2E10C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6096240" cy="77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ake a shower or ba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every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ash dirty clothes once a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rim finger and toe nai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regular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00" y="8726400"/>
            <a:ext cx="1268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609624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Use foot powder after ea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rush and floss your tee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after each me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Shave if requ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00" y="8726400"/>
            <a:ext cx="1268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680" y="8763120"/>
            <a:ext cx="1268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fg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5T18:06:34Z</cp:lastPrinted>
  <dcterms:modified xsi:type="dcterms:W3CDTF">1999-03-08T14:07:51Z</dcterms:modified>
  <cp:revision>10</cp:revision>
  <dc:subject/>
  <dc:title>No Slide Title</dc:title>
</cp:coreProperties>
</file>