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D84-82F6-40C4-A86C-70527F5F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4B3-F220-486C-B905-B66ED3A8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57E-F241-4FD5-A368-90DAA3E7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2D8-C60C-4DE3-BB57-BAB878FD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753-8344-429B-BFC2-2AB12238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6B6-5C06-46BB-AA0E-5AAF6139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784-13B7-43F6-87E0-07F3FEF5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20C-1DEA-4C12-A83D-63AAB0DE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E86-5153-4E91-A98C-E2E3E27A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CBF-494C-4566-81FF-03C2131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8AA-18A4-4319-86D2-93599B48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1B2-2C8A-4120-9D82-FF94EDA6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8248-3701-4026-BDDA-5C0E8967D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IM OF THE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im of the National Cadet Shooting Programme is to develop cadets’ interest in shooting while promoting the safe and proficient use of firearms for sport and recreational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AFETY CATCH &amp; SECURIT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fety catch is located just in front of the trigger, on the trigger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gage the safety catch, push towards the right; the safety catch is ON and the red cannot be see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ready to fire, push the safety catch towa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ft; safety catch is OFF and the red is now showi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ximum security, it is recommended that you keep the safety catch engaged until the moment you are ready to fire the first shot of a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AFE RIFLE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ot being handled on the range or in a training environment, the air rifle must be in a “safe status”. There are three instances where which have different procedures for “Safe Rifle Statu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Rifle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Firing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3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n Firing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DIVIDUAL SAFETY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firm that the rifle is sa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receiving a rifle or when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Safe Rifle Status” is uncert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AFETY REG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treat a rifle as if it is loa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point a rifle at 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oint the rifle in a safe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fingers off the trigger unless ready to f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wear hearing prot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earing of safety glasses or shatterproof eyeglasses is mandatory when fi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the two questions on the left and then circle the letter of the correct safety regulation(s) on the r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take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do we perform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treat a rifle as if it were loa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shoot animals without a perm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point a rifle at any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point the rifle in a safe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use large caliber rif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 fingers off the trigger unless ready to f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use hearing protect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wearing of safety glasses is mandatory when fi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048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0680" y="137160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1676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the two questions on the left and then circle the letter of the correct safety regulation(s) on the r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we take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do we perform individual safety precau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treat a rifle as if it were loa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shoot animals without a perm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ver point a rifle at any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point the rifle in a safe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use large caliber rif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 fingers off the trigger unless ready to f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ways use hearing protect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wearing of safety glasses is mandatory when fi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819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048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733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2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654516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 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7480" y="301608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onfirm that the rifle is saf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9840" y="4876920"/>
            <a:ext cx="29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on receiving a rifle or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fe rifle status” is uncert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9718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505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45720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2578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57913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0:28:18Z</dcterms:created>
  <dc:creator>DND</dc:creator>
  <dc:description/>
  <dc:language>en-US</dc:language>
  <cp:lastModifiedBy>dnd</cp:lastModifiedBy>
  <cp:lastPrinted>1999-03-24T13:56:42Z</cp:lastPrinted>
  <dcterms:modified xsi:type="dcterms:W3CDTF">1999-03-28T18:28:26Z</dcterms:modified>
  <cp:revision>7</cp:revision>
  <dc:subject/>
  <dc:title>AIM OF THE PROGRAMME</dc:title>
</cp:coreProperties>
</file>