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A9B-93C1-49D4-9E01-7D4B8DE5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5C4-AD5F-46AE-BECF-E5FF24D2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73E-CF5E-4E0D-A698-706458BC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17F-25BC-4244-AFDB-24180A11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278-FE31-446E-ACF0-C2937F0B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587-C1C1-4329-AD5A-4FF02403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496-A8DD-4B32-89DA-DAA64831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C2B-2BC4-4540-B219-80C9573E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7D1-DC7E-4421-9DD0-187F598A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9F43-392F-4386-9003-436F0956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426-DF5E-4055-844E-6A234ED1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EAA-E706-49E5-B249-3A5C9F9B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306D-65EE-4D5B-BF3B-56A8013CF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65530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HQ PERFORMANCE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320" y="1905120"/>
            <a:ext cx="524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ll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Cadet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ize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ble L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0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al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Spe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HQ PERFORMANCE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59800" y="1676520"/>
            <a:ext cx="4900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craft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nautical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eo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les of F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fram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ul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crew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4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/Sho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5530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25T19:48:43Z</cp:lastPrinted>
  <dcterms:modified xsi:type="dcterms:W3CDTF">1999-03-17T20:45:40Z</dcterms:modified>
  <cp:revision>28</cp:revision>
  <dc:subject/>
  <dc:title>No Slide Title</dc:title>
</cp:coreProperties>
</file>