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B0AB-3814-40FA-8FC9-360D451F2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C661-6FED-4499-9D0E-E7945713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EECA-8F49-4ED2-97AF-D27F3D402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8590-EB67-4559-AD8C-7AA9EA45B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618E-7800-4C06-A33B-DA33D180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8A28-A8CC-40FF-AD9B-5CBEF529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23D7-9561-4A32-969C-41B2978F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79EB-1C57-46F3-A04F-61B9D4F7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90A8-399C-4E43-A2C3-2EF82160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8F87-C7D0-4187-B579-4F8D85AB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F931-96D7-4E12-B0E3-AC4F3E3B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E6D1-2D07-45E6-80E6-03222C16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9122-AF9E-4766-A429-4929E8BF7C9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Definition of a Citiz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be a citizen means that you were born in and/or have become a resident of a particular country”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CANADA" descr=""/>
          <p:cNvPicPr/>
          <p:nvPr/>
        </p:nvPicPr>
        <p:blipFill>
          <a:blip r:embed="rId1"/>
          <a:stretch/>
        </p:blipFill>
        <p:spPr>
          <a:xfrm>
            <a:off x="2971800" y="3809880"/>
            <a:ext cx="3056040" cy="2232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64440" y="6545160"/>
            <a:ext cx="1197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One 404.01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Definition of Democra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democracy is a government by the people.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38280" y="3200400"/>
            <a:ext cx="4267440" cy="2971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64440" y="6545160"/>
            <a:ext cx="1197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One 404.01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The Oath of Citizenshi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, (name in full), swear/affirm that I will be faithful and bear true allegiance to Her Majesty Queen Elizabeth the Second, Queen of Canada, Her Heirs and Successors, according to law and that I will faithfully observe the laws of Canada, and fulfil my duties as a Canadian citizen.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64440" y="6545160"/>
            <a:ext cx="1197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One 404.01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Responsibilities of a citiz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be loyal to Canada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be loyal to the Queen of Canada and her representative, the Governor General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respect private and public property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care for Canada’s heritage; a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support Canada’s ideal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"/>
          <p:cNvSpPr/>
          <p:nvPr/>
        </p:nvSpPr>
        <p:spPr>
          <a:xfrm>
            <a:off x="64440" y="6545160"/>
            <a:ext cx="1197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One 404.01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Things you could do in your commun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ada D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embrance D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ttle of Brita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olunteer at a hospital or seniors ho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lect food for the food ba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olunteer at a Red Cross blood Donor clin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t in on a municipal council meeting and/or tour your provincial legislatu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sit a local museu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ean up a local park or playgr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64440" y="6545160"/>
            <a:ext cx="1197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One 404.01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5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4T18:11:52Z</dcterms:created>
  <dc:creator>dnd</dc:creator>
  <dc:description/>
  <dc:language>en-US</dc:language>
  <cp:lastModifiedBy>dnd</cp:lastModifiedBy>
  <cp:lastPrinted>1998-12-14T19:54:08Z</cp:lastPrinted>
  <dcterms:modified xsi:type="dcterms:W3CDTF">1998-12-18T12:13:56Z</dcterms:modified>
  <cp:revision>10</cp:revision>
  <dc:subject/>
  <dc:title>Definition of a Citizen</dc:title>
</cp:coreProperties>
</file>