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2D4-BA98-4F8F-A8A1-5C6A83C9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60C-E71A-43D6-8D31-461A090D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817-762E-48AD-B724-0F498BFE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C03-9182-4266-A019-97D14697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E6F-66DF-4C20-A6E5-F4831006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659-F1FA-45C1-98E5-6573347B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D67-C80A-40B6-8970-7AFCAA2F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FFE-F327-4CC5-B0F2-C0A6D4C7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F4F-F5EF-4D14-8A03-DB03A142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E31-4B6F-43CA-820F-539CB8C8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123-4E1A-4954-918D-31A62A01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236-166F-4B71-A3CF-0070889B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5668-3A89-47B7-BD54-65646B8DE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4T23:33:42Z</cp:lastPrinted>
  <dcterms:modified xsi:type="dcterms:W3CDTF">1998-12-18T21:41:20Z</dcterms:modified>
  <cp:revision>22</cp:revision>
  <dc:subject/>
  <dc:title>No Slide Title</dc:title>
</cp:coreProperties>
</file>