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BCC1-9F2E-4E26-9A82-803B7207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E22-F4B7-4AA4-800E-393B2620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43B1-C36F-48E2-B0EB-FF35D255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EC12-C0DC-47FA-AF78-97A489FC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197-76C7-4FD4-88D3-92537EAE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0A2-6309-4102-8AB2-A4C85F85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0A5-7880-4329-9815-D995EEBD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CE0-E136-4C7B-B58E-13821081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6B79-1380-4ADC-B80C-BFA2FEFC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DD1-7446-458E-ADDD-5EFB60BE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15D-9932-4DBB-93F1-CFDA1E3D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5AE-9A29-413B-AB4A-0337C118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07A2-E70E-4458-B54F-7C18399D7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98480" y="685800"/>
          <a:ext cx="4992840" cy="784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685800"/>
                    <a:ext cx="4992840" cy="78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236600" y="1828800"/>
          <a:ext cx="5621400" cy="5457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6600" y="1828800"/>
                    <a:ext cx="56214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486400" y="914400"/>
          <a:ext cx="6707160" cy="765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914400"/>
                    <a:ext cx="67071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4:28:12Z</dcterms:modified>
  <cp:revision>1</cp:revision>
  <dc:subject/>
  <dc:title>No Slide Title</dc:title>
</cp:coreProperties>
</file>