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104-C882-45EF-BEE0-9F17A3AC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762-C61F-47CB-A7E7-1703F791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483-15AF-4DAC-A1A2-89236884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FD3-CE9E-46F3-B159-A651859C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40F-A460-4346-B6FA-5340753A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8CA-6A8C-4E7B-BE94-085C1578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80C-4C67-4981-B622-21A809B5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D27-55FE-46A9-B627-555ED90C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F32-8DFA-4ED8-8FCA-AA4AB4A9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FE6-93E5-47C9-80F3-647850A7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491-FDC9-4EEF-8565-ACCAF61E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3C7-07E7-4B75-BAAC-279838C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9DC7-5047-443D-91A2-123033CC7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828800"/>
            <a:ext cx="67057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CONT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ire Prevention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asic Fire fighting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mergency phon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ire evacuation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ire escape ro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762120"/>
            <a:ext cx="60962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E 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20920" y="1120680"/>
            <a:ext cx="445104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ING 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ULD CONTAI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5400" y="2514600"/>
            <a:ext cx="4173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of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n of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 of Bound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dron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and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ess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RS CHAIN OF COMM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9520" y="2360520"/>
          <a:ext cx="80182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2360520"/>
                    <a:ext cx="80182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1T22:02:49Z</cp:lastPrinted>
  <dcterms:modified xsi:type="dcterms:W3CDTF">1999-02-15T21:39:18Z</dcterms:modified>
  <cp:revision>22</cp:revision>
  <dc:subject/>
  <dc:title>No Slide Title</dc:title>
</cp:coreProperties>
</file>