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4E95-22C5-414D-8417-67D634D3B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07D0-3C2A-4A2C-ABFC-659AB18A4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8F8A-7F2A-4BEC-A303-C547613D4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E738-11C6-4375-BB4D-A6A2455AE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7131-616E-4155-9E2A-4C86E368C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69BF-1C91-4B89-BF4B-CC62404BB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FFFB-95AF-43F4-9D4F-20DBCAAF1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00CF-7FE7-4BBF-AC6C-595FA3AA6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AB24-B60E-4AE2-BD47-B519A91B1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ADCA-91F9-4027-BDBA-A5CBE491C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96C1-86D8-4C54-8636-8E85C18BD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2FA9-FFA2-4424-A8F1-40D9367D5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D5981-869F-40F0-9188-2315D2C3D9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6553080"/>
            <a:ext cx="899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8441640" y="6545160"/>
            <a:ext cx="669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8680" y="6545160"/>
            <a:ext cx="1216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03.08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752480" y="533520"/>
            <a:ext cx="6248520" cy="581400"/>
          </a:xfrm>
          <a:prstGeom prst="rect">
            <a:avLst/>
          </a:prstGeom>
          <a:solidFill>
            <a:srgbClr val="99ccff"/>
          </a:solidFill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UTIES OF A FOLLO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1733400" y="1523880"/>
          <a:ext cx="7105680" cy="4800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33400" y="1523880"/>
                    <a:ext cx="710568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6553080"/>
            <a:ext cx="899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441640" y="6545160"/>
            <a:ext cx="669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8680" y="6545160"/>
            <a:ext cx="1216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03.08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752480" y="533520"/>
            <a:ext cx="6248520" cy="581400"/>
          </a:xfrm>
          <a:prstGeom prst="rect">
            <a:avLst/>
          </a:prstGeom>
          <a:solidFill>
            <a:srgbClr val="99ccff"/>
          </a:solidFill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UTIES OF A FOLLO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362320" y="152388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828800" y="1600200"/>
          <a:ext cx="5257800" cy="3979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600200"/>
                    <a:ext cx="5257800" cy="397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Valued Customer</dc:creator>
  <dc:description/>
  <dc:language>en-US</dc:language>
  <cp:lastModifiedBy>dnd</cp:lastModifiedBy>
  <cp:lastPrinted>1998-12-17T16:33:32Z</cp:lastPrinted>
  <dcterms:modified xsi:type="dcterms:W3CDTF">1999-03-17T20:05:32Z</dcterms:modified>
  <cp:revision>22</cp:revision>
  <dc:subject/>
  <dc:title>No Slide Title</dc:title>
</cp:coreProperties>
</file>