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F04-EC20-4FB3-821F-EBBB7DAA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13C-EA3F-41AC-9C2E-57378743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60C-C5E7-422F-BFBF-E50105DD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116-1D7C-4C7C-ACA8-5FFA8FC0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AF4-4011-4E2A-A3EF-3C50874B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0E7-9375-4E0B-82B2-3465968D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4C8-31D6-431E-ABAB-28BDC38D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132-7275-4459-946A-D4F27AC4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575-11F5-41B9-AB61-84AC4E2A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2DC-1998-428A-AC82-287B9A7D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ADC-4826-4043-A107-3E978F7A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A94-E26E-409C-8C38-3FE4A510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8DAB-24C7-46A2-ADF7-3D951BCEE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8-12-18T14:05:39Z</dcterms:modified>
  <cp:revision>2</cp:revision>
  <dc:subject/>
  <dc:title>No Slide Title</dc:title>
</cp:coreProperties>
</file>