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F67-E622-4759-A9C3-4F6A42F6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308-65DA-4F7D-B785-AF0E4EFB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A11-485F-48A3-BF92-B4BC8768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12D-9E0A-4881-8B5F-09138514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6C0-7E0E-4A61-A69E-EC659A3D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6F9-465A-4D98-B7AE-7641E3C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10D-7F72-497C-AF8F-745DB67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8B2-B305-4853-82CA-95D4AC0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03B-197E-40E5-A5EF-73AAC4B3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94-CB1A-44AD-AB96-05C9D23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287-6F8D-4C04-A0DB-FBB24F2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30C-F0C0-4F9C-93A2-5B4AB13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1C8-6A93-468F-BBD0-E8E3588A0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raight C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74320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35268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5181480"/>
            <a:ext cx="304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r Trim Hair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572000"/>
            <a:ext cx="73152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191120"/>
            <a:ext cx="75438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5053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248520" y="457200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5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80880"/>
            <a:ext cx="6248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MALE HAIR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290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51840" y="5029200"/>
            <a:ext cx="16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760" y="502920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ed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91800" y="502920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yle with B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609480"/>
            <a:ext cx="6248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FEMALE HAIR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43120" cy="377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685800"/>
            <a:ext cx="73152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WEARING OF EAR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51051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ear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in each 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n by female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round in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7mm(1/4 in) 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epers may be worn if ears still healing afte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80" y="654516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31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581280" cy="302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4040" y="5486400"/>
            <a:ext cx="322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-in-hand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0760" y="5486400"/>
            <a:ext cx="245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sor k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523880"/>
            <a:ext cx="396252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TTING OF NECK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17T19:39:36Z</dcterms:modified>
  <cp:revision>20</cp:revision>
  <dc:subject/>
  <dc:title>No Slide Title</dc:title>
</cp:coreProperties>
</file>