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1C5-40F3-4AE9-ABCB-CF0E7C29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C58-4A6B-4575-9D79-EEEB8E86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552-BC97-4D76-8D43-8A177FDC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D04-2BD1-4EA3-95ED-69514FB3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984-F556-4B8A-944C-CF85833F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57E-F79F-4E37-8D5D-EB416EF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666-68AF-43FB-9ADA-2E78824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FD0-B5AD-4981-92E4-6F211E44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64F-E124-47ED-9314-26E6A4E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053-E9AD-46FE-A55B-0C0F92A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F59-7816-4106-A11A-6774708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021-DA60-4F7E-B06F-F0E1571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819-8069-43BD-A21B-019A2A771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tt Plate and Spac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of the Butt (Pistol Gri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st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ling Bracket (Handst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gger Gu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ety C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mp L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gh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rrel with Barrel 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TS OF THE DAISY 853C AIR RIF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ed Track (in Rear of Chamb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-Shot Pellet Cl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gle Shot Adap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1:17:40Z</dcterms:created>
  <dc:creator>DND</dc:creator>
  <dc:description/>
  <dc:language>en-US</dc:language>
  <cp:lastModifiedBy>dnd</cp:lastModifiedBy>
  <cp:lastPrinted>1999-03-24T01:30:34Z</cp:lastPrinted>
  <dcterms:modified xsi:type="dcterms:W3CDTF">1999-03-28T18:45:36Z</dcterms:modified>
  <cp:revision>4</cp:revision>
  <dc:subject/>
  <dc:title>PARTS OF THE DAISY 853C AIR RIFLE</dc:title>
</cp:coreProperties>
</file>